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CDC38D1-119A-4672-90DE-643BE1A38BC2}"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pPr rtl="1"/>
          <a:endParaRPr lang="ar-IQ"/>
        </a:p>
      </dgm:t>
    </dgm:pt>
    <dgm:pt modelId="{EFF367EF-B555-4AA2-BDC4-87E0E27B7D89}">
      <dgm:prSet phldrT="[نص]"/>
      <dgm:spPr/>
      <dgm:t>
        <a:bodyPr/>
        <a:lstStyle/>
        <a:p>
          <a:pPr rtl="1"/>
          <a:r>
            <a:rPr lang="en-US" dirty="0" smtClean="0"/>
            <a:t>Strategic management</a:t>
          </a:r>
          <a:endParaRPr lang="ar-IQ" dirty="0"/>
        </a:p>
      </dgm:t>
    </dgm:pt>
    <dgm:pt modelId="{3A1399FF-AA06-4DD4-ABED-F9C89E1C5D43}" type="parTrans" cxnId="{CFF74487-F33B-4CF3-B480-FCB16449F337}">
      <dgm:prSet/>
      <dgm:spPr/>
      <dgm:t>
        <a:bodyPr/>
        <a:lstStyle/>
        <a:p>
          <a:pPr rtl="1"/>
          <a:endParaRPr lang="ar-IQ"/>
        </a:p>
      </dgm:t>
    </dgm:pt>
    <dgm:pt modelId="{878015DB-58E3-4E2A-B515-F3B46E653B3A}" type="sibTrans" cxnId="{CFF74487-F33B-4CF3-B480-FCB16449F337}">
      <dgm:prSet/>
      <dgm:spPr/>
      <dgm:t>
        <a:bodyPr/>
        <a:lstStyle/>
        <a:p>
          <a:pPr rtl="1"/>
          <a:endParaRPr lang="ar-IQ"/>
        </a:p>
      </dgm:t>
    </dgm:pt>
    <dgm:pt modelId="{2C1B911E-1107-44B8-8AD3-B975C37247B5}">
      <dgm:prSet phldrT="[نص]"/>
      <dgm:spPr/>
      <dgm:t>
        <a:bodyPr/>
        <a:lstStyle/>
        <a:p>
          <a:pPr rtl="1"/>
          <a:r>
            <a:rPr lang="ar-IQ" dirty="0" err="1" smtClean="0"/>
            <a:t>اهم</a:t>
          </a:r>
          <a:r>
            <a:rPr lang="ar-IQ" dirty="0" smtClean="0"/>
            <a:t> </a:t>
          </a:r>
          <a:r>
            <a:rPr lang="ar-IQ" dirty="0" err="1" smtClean="0"/>
            <a:t>التعاريف</a:t>
          </a:r>
          <a:endParaRPr lang="ar-IQ" dirty="0"/>
        </a:p>
      </dgm:t>
    </dgm:pt>
    <dgm:pt modelId="{205792AA-6D81-48D1-BBE1-40758E7E001E}" type="parTrans" cxnId="{45C41E28-CB37-4123-BF4F-76874CE857A2}">
      <dgm:prSet/>
      <dgm:spPr/>
      <dgm:t>
        <a:bodyPr/>
        <a:lstStyle/>
        <a:p>
          <a:pPr rtl="1"/>
          <a:endParaRPr lang="ar-IQ"/>
        </a:p>
      </dgm:t>
    </dgm:pt>
    <dgm:pt modelId="{8587B5F9-310B-4EA9-9D9E-A9258F854CF8}" type="sibTrans" cxnId="{45C41E28-CB37-4123-BF4F-76874CE857A2}">
      <dgm:prSet/>
      <dgm:spPr/>
      <dgm:t>
        <a:bodyPr/>
        <a:lstStyle/>
        <a:p>
          <a:pPr rtl="1"/>
          <a:endParaRPr lang="ar-IQ"/>
        </a:p>
      </dgm:t>
    </dgm:pt>
    <dgm:pt modelId="{585A52DB-655C-4753-9D30-A47C40EDDF4A}">
      <dgm:prSet phldrT="[نص]"/>
      <dgm:spPr/>
      <dgm:t>
        <a:bodyPr/>
        <a:lstStyle/>
        <a:p>
          <a:pPr rtl="1"/>
          <a:r>
            <a:rPr lang="ar-IQ" dirty="0" smtClean="0"/>
            <a:t>عقد السبعينات</a:t>
          </a:r>
          <a:endParaRPr lang="ar-IQ" dirty="0"/>
        </a:p>
      </dgm:t>
    </dgm:pt>
    <dgm:pt modelId="{140C9A0E-3799-4AB7-A321-880006F634CA}" type="parTrans" cxnId="{5F9B0C60-5DB5-42EE-976C-217A96C4DFF6}">
      <dgm:prSet/>
      <dgm:spPr/>
      <dgm:t>
        <a:bodyPr/>
        <a:lstStyle/>
        <a:p>
          <a:pPr rtl="1"/>
          <a:endParaRPr lang="ar-IQ"/>
        </a:p>
      </dgm:t>
    </dgm:pt>
    <dgm:pt modelId="{C62F48C5-8302-4B4B-96C7-3817A8143A25}" type="sibTrans" cxnId="{5F9B0C60-5DB5-42EE-976C-217A96C4DFF6}">
      <dgm:prSet/>
      <dgm:spPr/>
      <dgm:t>
        <a:bodyPr/>
        <a:lstStyle/>
        <a:p>
          <a:pPr rtl="1"/>
          <a:endParaRPr lang="ar-IQ"/>
        </a:p>
      </dgm:t>
    </dgm:pt>
    <dgm:pt modelId="{F018FA3A-03A1-4B3D-B234-1B4D694DDAC6}">
      <dgm:prSet phldrT="[نص]"/>
      <dgm:spPr/>
      <dgm:t>
        <a:bodyPr/>
        <a:lstStyle/>
        <a:p>
          <a:pPr rtl="1"/>
          <a:r>
            <a:rPr lang="ar-IQ" dirty="0" smtClean="0"/>
            <a:t>التطور</a:t>
          </a:r>
          <a:endParaRPr lang="ar-IQ" dirty="0"/>
        </a:p>
      </dgm:t>
    </dgm:pt>
    <dgm:pt modelId="{E20A6FCF-7803-4DBD-BA8E-748B4B874734}" type="parTrans" cxnId="{D7C6ED66-82B4-4FA3-9C70-B05D3A9A058C}">
      <dgm:prSet/>
      <dgm:spPr/>
      <dgm:t>
        <a:bodyPr/>
        <a:lstStyle/>
        <a:p>
          <a:pPr rtl="1"/>
          <a:endParaRPr lang="ar-IQ"/>
        </a:p>
      </dgm:t>
    </dgm:pt>
    <dgm:pt modelId="{6FC7F384-7E41-4DE4-A857-DAF3B5F18AFC}" type="sibTrans" cxnId="{D7C6ED66-82B4-4FA3-9C70-B05D3A9A058C}">
      <dgm:prSet/>
      <dgm:spPr/>
      <dgm:t>
        <a:bodyPr/>
        <a:lstStyle/>
        <a:p>
          <a:pPr rtl="1"/>
          <a:endParaRPr lang="ar-IQ"/>
        </a:p>
      </dgm:t>
    </dgm:pt>
    <dgm:pt modelId="{62EF0765-F16F-4B5C-AAEF-98B80BA91F00}" type="pres">
      <dgm:prSet presAssocID="{0CDC38D1-119A-4672-90DE-643BE1A38BC2}" presName="hierChild1" presStyleCnt="0">
        <dgm:presLayoutVars>
          <dgm:orgChart val="1"/>
          <dgm:chPref val="1"/>
          <dgm:dir/>
          <dgm:animOne val="branch"/>
          <dgm:animLvl val="lvl"/>
          <dgm:resizeHandles/>
        </dgm:presLayoutVars>
      </dgm:prSet>
      <dgm:spPr/>
      <dgm:t>
        <a:bodyPr/>
        <a:lstStyle/>
        <a:p>
          <a:pPr rtl="1"/>
          <a:endParaRPr lang="ar-IQ"/>
        </a:p>
      </dgm:t>
    </dgm:pt>
    <dgm:pt modelId="{82236D24-6D69-4F51-9E3F-6349830E3141}" type="pres">
      <dgm:prSet presAssocID="{EFF367EF-B555-4AA2-BDC4-87E0E27B7D89}" presName="hierRoot1" presStyleCnt="0">
        <dgm:presLayoutVars>
          <dgm:hierBranch val="init"/>
        </dgm:presLayoutVars>
      </dgm:prSet>
      <dgm:spPr/>
    </dgm:pt>
    <dgm:pt modelId="{A96165F0-B085-48A2-871F-055191ADB6E6}" type="pres">
      <dgm:prSet presAssocID="{EFF367EF-B555-4AA2-BDC4-87E0E27B7D89}" presName="rootComposite1" presStyleCnt="0"/>
      <dgm:spPr/>
    </dgm:pt>
    <dgm:pt modelId="{56DC922B-2013-4021-8D9F-6A5BE14CB496}" type="pres">
      <dgm:prSet presAssocID="{EFF367EF-B555-4AA2-BDC4-87E0E27B7D89}" presName="rootText1" presStyleLbl="node0" presStyleIdx="0" presStyleCnt="1" custScaleX="262874" custLinFactY="-48535" custLinFactNeighborX="-3242" custLinFactNeighborY="-100000">
        <dgm:presLayoutVars>
          <dgm:chPref val="3"/>
        </dgm:presLayoutVars>
      </dgm:prSet>
      <dgm:spPr/>
      <dgm:t>
        <a:bodyPr/>
        <a:lstStyle/>
        <a:p>
          <a:pPr rtl="1"/>
          <a:endParaRPr lang="ar-IQ"/>
        </a:p>
      </dgm:t>
    </dgm:pt>
    <dgm:pt modelId="{13CA2808-F537-40D1-B738-111AA35F9BDD}" type="pres">
      <dgm:prSet presAssocID="{EFF367EF-B555-4AA2-BDC4-87E0E27B7D89}" presName="rootConnector1" presStyleLbl="node1" presStyleIdx="0" presStyleCnt="0"/>
      <dgm:spPr/>
      <dgm:t>
        <a:bodyPr/>
        <a:lstStyle/>
        <a:p>
          <a:pPr rtl="1"/>
          <a:endParaRPr lang="ar-IQ"/>
        </a:p>
      </dgm:t>
    </dgm:pt>
    <dgm:pt modelId="{300D372F-BC38-4327-A900-29484DE77F39}" type="pres">
      <dgm:prSet presAssocID="{EFF367EF-B555-4AA2-BDC4-87E0E27B7D89}" presName="hierChild2" presStyleCnt="0"/>
      <dgm:spPr/>
    </dgm:pt>
    <dgm:pt modelId="{042262EE-03C4-4C8E-9C16-FE87948E6F4D}" type="pres">
      <dgm:prSet presAssocID="{205792AA-6D81-48D1-BBE1-40758E7E001E}" presName="Name37" presStyleLbl="parChTrans1D2" presStyleIdx="0" presStyleCnt="3"/>
      <dgm:spPr/>
      <dgm:t>
        <a:bodyPr/>
        <a:lstStyle/>
        <a:p>
          <a:pPr rtl="1"/>
          <a:endParaRPr lang="ar-IQ"/>
        </a:p>
      </dgm:t>
    </dgm:pt>
    <dgm:pt modelId="{ED3178DA-2C40-41AB-8F8D-15AAC9BCCDB4}" type="pres">
      <dgm:prSet presAssocID="{2C1B911E-1107-44B8-8AD3-B975C37247B5}" presName="hierRoot2" presStyleCnt="0">
        <dgm:presLayoutVars>
          <dgm:hierBranch val="init"/>
        </dgm:presLayoutVars>
      </dgm:prSet>
      <dgm:spPr/>
    </dgm:pt>
    <dgm:pt modelId="{5C971F4C-4553-4A75-87D7-2106FA6741D5}" type="pres">
      <dgm:prSet presAssocID="{2C1B911E-1107-44B8-8AD3-B975C37247B5}" presName="rootComposite" presStyleCnt="0"/>
      <dgm:spPr/>
    </dgm:pt>
    <dgm:pt modelId="{EF814652-9F5F-422C-94ED-17DE345AC16E}" type="pres">
      <dgm:prSet presAssocID="{2C1B911E-1107-44B8-8AD3-B975C37247B5}" presName="rootText" presStyleLbl="node2" presStyleIdx="0" presStyleCnt="3" custLinFactNeighborX="3400" custLinFactNeighborY="-39134">
        <dgm:presLayoutVars>
          <dgm:chPref val="3"/>
        </dgm:presLayoutVars>
      </dgm:prSet>
      <dgm:spPr/>
      <dgm:t>
        <a:bodyPr/>
        <a:lstStyle/>
        <a:p>
          <a:pPr rtl="1"/>
          <a:endParaRPr lang="ar-IQ"/>
        </a:p>
      </dgm:t>
    </dgm:pt>
    <dgm:pt modelId="{26E55EB3-EC55-4EA7-BAC5-12F0F0CF2381}" type="pres">
      <dgm:prSet presAssocID="{2C1B911E-1107-44B8-8AD3-B975C37247B5}" presName="rootConnector" presStyleLbl="node2" presStyleIdx="0" presStyleCnt="3"/>
      <dgm:spPr/>
      <dgm:t>
        <a:bodyPr/>
        <a:lstStyle/>
        <a:p>
          <a:pPr rtl="1"/>
          <a:endParaRPr lang="ar-IQ"/>
        </a:p>
      </dgm:t>
    </dgm:pt>
    <dgm:pt modelId="{E6396FEC-5014-4A65-AE98-D5D8F92B5A33}" type="pres">
      <dgm:prSet presAssocID="{2C1B911E-1107-44B8-8AD3-B975C37247B5}" presName="hierChild4" presStyleCnt="0"/>
      <dgm:spPr/>
    </dgm:pt>
    <dgm:pt modelId="{9DCBD85A-8F20-4DF2-8993-2496F117CB73}" type="pres">
      <dgm:prSet presAssocID="{2C1B911E-1107-44B8-8AD3-B975C37247B5}" presName="hierChild5" presStyleCnt="0"/>
      <dgm:spPr/>
    </dgm:pt>
    <dgm:pt modelId="{207FBBBD-5C5F-47EF-BDF7-AADBB469DDB6}" type="pres">
      <dgm:prSet presAssocID="{140C9A0E-3799-4AB7-A321-880006F634CA}" presName="Name37" presStyleLbl="parChTrans1D2" presStyleIdx="1" presStyleCnt="3"/>
      <dgm:spPr/>
      <dgm:t>
        <a:bodyPr/>
        <a:lstStyle/>
        <a:p>
          <a:pPr rtl="1"/>
          <a:endParaRPr lang="ar-IQ"/>
        </a:p>
      </dgm:t>
    </dgm:pt>
    <dgm:pt modelId="{AC1D3EA6-FDCC-4A89-B3A7-548EC7D7F419}" type="pres">
      <dgm:prSet presAssocID="{585A52DB-655C-4753-9D30-A47C40EDDF4A}" presName="hierRoot2" presStyleCnt="0">
        <dgm:presLayoutVars>
          <dgm:hierBranch val="init"/>
        </dgm:presLayoutVars>
      </dgm:prSet>
      <dgm:spPr/>
    </dgm:pt>
    <dgm:pt modelId="{2413C09D-9E16-460F-A8F7-935129C3D6AD}" type="pres">
      <dgm:prSet presAssocID="{585A52DB-655C-4753-9D30-A47C40EDDF4A}" presName="rootComposite" presStyleCnt="0"/>
      <dgm:spPr/>
    </dgm:pt>
    <dgm:pt modelId="{1421A480-BCCE-4561-895A-F4BA412E9454}" type="pres">
      <dgm:prSet presAssocID="{585A52DB-655C-4753-9D30-A47C40EDDF4A}" presName="rootText" presStyleLbl="node2" presStyleIdx="1" presStyleCnt="3" custLinFactNeighborX="-3871" custLinFactNeighborY="-39134">
        <dgm:presLayoutVars>
          <dgm:chPref val="3"/>
        </dgm:presLayoutVars>
      </dgm:prSet>
      <dgm:spPr/>
      <dgm:t>
        <a:bodyPr/>
        <a:lstStyle/>
        <a:p>
          <a:pPr rtl="1"/>
          <a:endParaRPr lang="ar-IQ"/>
        </a:p>
      </dgm:t>
    </dgm:pt>
    <dgm:pt modelId="{22F43861-7D36-4D5E-8588-C13DD6188EA4}" type="pres">
      <dgm:prSet presAssocID="{585A52DB-655C-4753-9D30-A47C40EDDF4A}" presName="rootConnector" presStyleLbl="node2" presStyleIdx="1" presStyleCnt="3"/>
      <dgm:spPr/>
      <dgm:t>
        <a:bodyPr/>
        <a:lstStyle/>
        <a:p>
          <a:pPr rtl="1"/>
          <a:endParaRPr lang="ar-IQ"/>
        </a:p>
      </dgm:t>
    </dgm:pt>
    <dgm:pt modelId="{F1239434-D847-4E87-8B60-61A265440900}" type="pres">
      <dgm:prSet presAssocID="{585A52DB-655C-4753-9D30-A47C40EDDF4A}" presName="hierChild4" presStyleCnt="0"/>
      <dgm:spPr/>
    </dgm:pt>
    <dgm:pt modelId="{9D5689E1-AA6B-45A0-AF61-F6BA8CD2BB52}" type="pres">
      <dgm:prSet presAssocID="{585A52DB-655C-4753-9D30-A47C40EDDF4A}" presName="hierChild5" presStyleCnt="0"/>
      <dgm:spPr/>
    </dgm:pt>
    <dgm:pt modelId="{B6B6CB86-0B53-4D42-91A0-4C5F1607F5A9}" type="pres">
      <dgm:prSet presAssocID="{E20A6FCF-7803-4DBD-BA8E-748B4B874734}" presName="Name37" presStyleLbl="parChTrans1D2" presStyleIdx="2" presStyleCnt="3"/>
      <dgm:spPr/>
      <dgm:t>
        <a:bodyPr/>
        <a:lstStyle/>
        <a:p>
          <a:pPr rtl="1"/>
          <a:endParaRPr lang="ar-IQ"/>
        </a:p>
      </dgm:t>
    </dgm:pt>
    <dgm:pt modelId="{FC1FFDBE-79D6-403B-80F6-5D8895C1BF6F}" type="pres">
      <dgm:prSet presAssocID="{F018FA3A-03A1-4B3D-B234-1B4D694DDAC6}" presName="hierRoot2" presStyleCnt="0">
        <dgm:presLayoutVars>
          <dgm:hierBranch val="init"/>
        </dgm:presLayoutVars>
      </dgm:prSet>
      <dgm:spPr/>
    </dgm:pt>
    <dgm:pt modelId="{007E558E-7499-4135-995D-D81499EF11D1}" type="pres">
      <dgm:prSet presAssocID="{F018FA3A-03A1-4B3D-B234-1B4D694DDAC6}" presName="rootComposite" presStyleCnt="0"/>
      <dgm:spPr/>
    </dgm:pt>
    <dgm:pt modelId="{76DF35C2-6F02-4DD0-8D5D-12635CC998A6}" type="pres">
      <dgm:prSet presAssocID="{F018FA3A-03A1-4B3D-B234-1B4D694DDAC6}" presName="rootText" presStyleLbl="node2" presStyleIdx="2" presStyleCnt="3" custLinFactNeighborX="829" custLinFactNeighborY="-39134">
        <dgm:presLayoutVars>
          <dgm:chPref val="3"/>
        </dgm:presLayoutVars>
      </dgm:prSet>
      <dgm:spPr/>
      <dgm:t>
        <a:bodyPr/>
        <a:lstStyle/>
        <a:p>
          <a:pPr rtl="1"/>
          <a:endParaRPr lang="ar-IQ"/>
        </a:p>
      </dgm:t>
    </dgm:pt>
    <dgm:pt modelId="{3396E297-81C4-42EC-9928-56C69E5DE10C}" type="pres">
      <dgm:prSet presAssocID="{F018FA3A-03A1-4B3D-B234-1B4D694DDAC6}" presName="rootConnector" presStyleLbl="node2" presStyleIdx="2" presStyleCnt="3"/>
      <dgm:spPr/>
      <dgm:t>
        <a:bodyPr/>
        <a:lstStyle/>
        <a:p>
          <a:pPr rtl="1"/>
          <a:endParaRPr lang="ar-IQ"/>
        </a:p>
      </dgm:t>
    </dgm:pt>
    <dgm:pt modelId="{58641926-292D-453A-97FE-915D20B85240}" type="pres">
      <dgm:prSet presAssocID="{F018FA3A-03A1-4B3D-B234-1B4D694DDAC6}" presName="hierChild4" presStyleCnt="0"/>
      <dgm:spPr/>
    </dgm:pt>
    <dgm:pt modelId="{2C6BCAD3-BD4C-4DFB-BCD0-1383FE02D74E}" type="pres">
      <dgm:prSet presAssocID="{F018FA3A-03A1-4B3D-B234-1B4D694DDAC6}" presName="hierChild5" presStyleCnt="0"/>
      <dgm:spPr/>
    </dgm:pt>
    <dgm:pt modelId="{DE28CA4B-CE9E-42D6-9808-FB6534C44356}" type="pres">
      <dgm:prSet presAssocID="{EFF367EF-B555-4AA2-BDC4-87E0E27B7D89}" presName="hierChild3" presStyleCnt="0"/>
      <dgm:spPr/>
    </dgm:pt>
  </dgm:ptLst>
  <dgm:cxnLst>
    <dgm:cxn modelId="{78E4DDE8-6F11-495C-A2FB-84FEBEAD8D8B}" type="presOf" srcId="{2C1B911E-1107-44B8-8AD3-B975C37247B5}" destId="{EF814652-9F5F-422C-94ED-17DE345AC16E}" srcOrd="0" destOrd="0" presId="urn:microsoft.com/office/officeart/2005/8/layout/orgChart1"/>
    <dgm:cxn modelId="{9BA5DD29-4733-40A2-9A09-7264A5D96300}" type="presOf" srcId="{E20A6FCF-7803-4DBD-BA8E-748B4B874734}" destId="{B6B6CB86-0B53-4D42-91A0-4C5F1607F5A9}" srcOrd="0" destOrd="0" presId="urn:microsoft.com/office/officeart/2005/8/layout/orgChart1"/>
    <dgm:cxn modelId="{5F9B0C60-5DB5-42EE-976C-217A96C4DFF6}" srcId="{EFF367EF-B555-4AA2-BDC4-87E0E27B7D89}" destId="{585A52DB-655C-4753-9D30-A47C40EDDF4A}" srcOrd="1" destOrd="0" parTransId="{140C9A0E-3799-4AB7-A321-880006F634CA}" sibTransId="{C62F48C5-8302-4B4B-96C7-3817A8143A25}"/>
    <dgm:cxn modelId="{CFF74487-F33B-4CF3-B480-FCB16449F337}" srcId="{0CDC38D1-119A-4672-90DE-643BE1A38BC2}" destId="{EFF367EF-B555-4AA2-BDC4-87E0E27B7D89}" srcOrd="0" destOrd="0" parTransId="{3A1399FF-AA06-4DD4-ABED-F9C89E1C5D43}" sibTransId="{878015DB-58E3-4E2A-B515-F3B46E653B3A}"/>
    <dgm:cxn modelId="{943D53E1-2460-44E2-84C7-156F91E53580}" type="presOf" srcId="{585A52DB-655C-4753-9D30-A47C40EDDF4A}" destId="{1421A480-BCCE-4561-895A-F4BA412E9454}" srcOrd="0" destOrd="0" presId="urn:microsoft.com/office/officeart/2005/8/layout/orgChart1"/>
    <dgm:cxn modelId="{76CD34FB-2A3B-4E2B-AFA1-6B55F1B1E287}" type="presOf" srcId="{140C9A0E-3799-4AB7-A321-880006F634CA}" destId="{207FBBBD-5C5F-47EF-BDF7-AADBB469DDB6}" srcOrd="0" destOrd="0" presId="urn:microsoft.com/office/officeart/2005/8/layout/orgChart1"/>
    <dgm:cxn modelId="{EDB4E498-7457-4B16-8BBB-CCE59D34E950}" type="presOf" srcId="{585A52DB-655C-4753-9D30-A47C40EDDF4A}" destId="{22F43861-7D36-4D5E-8588-C13DD6188EA4}" srcOrd="1" destOrd="0" presId="urn:microsoft.com/office/officeart/2005/8/layout/orgChart1"/>
    <dgm:cxn modelId="{A37C77AE-CB21-490E-8886-BEEE2758BB3C}" type="presOf" srcId="{F018FA3A-03A1-4B3D-B234-1B4D694DDAC6}" destId="{3396E297-81C4-42EC-9928-56C69E5DE10C}" srcOrd="1" destOrd="0" presId="urn:microsoft.com/office/officeart/2005/8/layout/orgChart1"/>
    <dgm:cxn modelId="{77806D02-2735-41BA-B44E-453F87B38471}" type="presOf" srcId="{2C1B911E-1107-44B8-8AD3-B975C37247B5}" destId="{26E55EB3-EC55-4EA7-BAC5-12F0F0CF2381}" srcOrd="1" destOrd="0" presId="urn:microsoft.com/office/officeart/2005/8/layout/orgChart1"/>
    <dgm:cxn modelId="{D7C6ED66-82B4-4FA3-9C70-B05D3A9A058C}" srcId="{EFF367EF-B555-4AA2-BDC4-87E0E27B7D89}" destId="{F018FA3A-03A1-4B3D-B234-1B4D694DDAC6}" srcOrd="2" destOrd="0" parTransId="{E20A6FCF-7803-4DBD-BA8E-748B4B874734}" sibTransId="{6FC7F384-7E41-4DE4-A857-DAF3B5F18AFC}"/>
    <dgm:cxn modelId="{4D4290A1-E908-4D0F-B127-A0CC653D28BF}" type="presOf" srcId="{EFF367EF-B555-4AA2-BDC4-87E0E27B7D89}" destId="{13CA2808-F537-40D1-B738-111AA35F9BDD}" srcOrd="1" destOrd="0" presId="urn:microsoft.com/office/officeart/2005/8/layout/orgChart1"/>
    <dgm:cxn modelId="{F762C7AC-8187-4D5B-BEA1-9046956DB4F1}" type="presOf" srcId="{0CDC38D1-119A-4672-90DE-643BE1A38BC2}" destId="{62EF0765-F16F-4B5C-AAEF-98B80BA91F00}" srcOrd="0" destOrd="0" presId="urn:microsoft.com/office/officeart/2005/8/layout/orgChart1"/>
    <dgm:cxn modelId="{BF2FB618-074B-4BB2-B14F-4AC605D5BD93}" type="presOf" srcId="{205792AA-6D81-48D1-BBE1-40758E7E001E}" destId="{042262EE-03C4-4C8E-9C16-FE87948E6F4D}" srcOrd="0" destOrd="0" presId="urn:microsoft.com/office/officeart/2005/8/layout/orgChart1"/>
    <dgm:cxn modelId="{45C41E28-CB37-4123-BF4F-76874CE857A2}" srcId="{EFF367EF-B555-4AA2-BDC4-87E0E27B7D89}" destId="{2C1B911E-1107-44B8-8AD3-B975C37247B5}" srcOrd="0" destOrd="0" parTransId="{205792AA-6D81-48D1-BBE1-40758E7E001E}" sibTransId="{8587B5F9-310B-4EA9-9D9E-A9258F854CF8}"/>
    <dgm:cxn modelId="{6BF74707-3B1E-4677-9B80-E545016907FE}" type="presOf" srcId="{EFF367EF-B555-4AA2-BDC4-87E0E27B7D89}" destId="{56DC922B-2013-4021-8D9F-6A5BE14CB496}" srcOrd="0" destOrd="0" presId="urn:microsoft.com/office/officeart/2005/8/layout/orgChart1"/>
    <dgm:cxn modelId="{C0494962-A130-4E12-BC75-BF97D8DA4AEF}" type="presOf" srcId="{F018FA3A-03A1-4B3D-B234-1B4D694DDAC6}" destId="{76DF35C2-6F02-4DD0-8D5D-12635CC998A6}" srcOrd="0" destOrd="0" presId="urn:microsoft.com/office/officeart/2005/8/layout/orgChart1"/>
    <dgm:cxn modelId="{4CE5B8F6-1A5D-4C0E-83A7-37F626E1B263}" type="presParOf" srcId="{62EF0765-F16F-4B5C-AAEF-98B80BA91F00}" destId="{82236D24-6D69-4F51-9E3F-6349830E3141}" srcOrd="0" destOrd="0" presId="urn:microsoft.com/office/officeart/2005/8/layout/orgChart1"/>
    <dgm:cxn modelId="{B9BDE8C4-3ACC-4AB0-BC38-A0D28084E268}" type="presParOf" srcId="{82236D24-6D69-4F51-9E3F-6349830E3141}" destId="{A96165F0-B085-48A2-871F-055191ADB6E6}" srcOrd="0" destOrd="0" presId="urn:microsoft.com/office/officeart/2005/8/layout/orgChart1"/>
    <dgm:cxn modelId="{C8C2D55E-9305-4DEF-BEC8-348180D516F5}" type="presParOf" srcId="{A96165F0-B085-48A2-871F-055191ADB6E6}" destId="{56DC922B-2013-4021-8D9F-6A5BE14CB496}" srcOrd="0" destOrd="0" presId="urn:microsoft.com/office/officeart/2005/8/layout/orgChart1"/>
    <dgm:cxn modelId="{27C26059-C1CF-4D5A-A8CC-B66E47AE7E46}" type="presParOf" srcId="{A96165F0-B085-48A2-871F-055191ADB6E6}" destId="{13CA2808-F537-40D1-B738-111AA35F9BDD}" srcOrd="1" destOrd="0" presId="urn:microsoft.com/office/officeart/2005/8/layout/orgChart1"/>
    <dgm:cxn modelId="{D5C7AF8E-B76A-45FD-B7F7-687C4791D1C0}" type="presParOf" srcId="{82236D24-6D69-4F51-9E3F-6349830E3141}" destId="{300D372F-BC38-4327-A900-29484DE77F39}" srcOrd="1" destOrd="0" presId="urn:microsoft.com/office/officeart/2005/8/layout/orgChart1"/>
    <dgm:cxn modelId="{84157ED5-9EC6-431A-BF71-C35809EB1D03}" type="presParOf" srcId="{300D372F-BC38-4327-A900-29484DE77F39}" destId="{042262EE-03C4-4C8E-9C16-FE87948E6F4D}" srcOrd="0" destOrd="0" presId="urn:microsoft.com/office/officeart/2005/8/layout/orgChart1"/>
    <dgm:cxn modelId="{9A61CF1B-B959-4436-A197-A9578308ECF3}" type="presParOf" srcId="{300D372F-BC38-4327-A900-29484DE77F39}" destId="{ED3178DA-2C40-41AB-8F8D-15AAC9BCCDB4}" srcOrd="1" destOrd="0" presId="urn:microsoft.com/office/officeart/2005/8/layout/orgChart1"/>
    <dgm:cxn modelId="{BB8D1A66-F685-4326-953B-1DA4D37581FF}" type="presParOf" srcId="{ED3178DA-2C40-41AB-8F8D-15AAC9BCCDB4}" destId="{5C971F4C-4553-4A75-87D7-2106FA6741D5}" srcOrd="0" destOrd="0" presId="urn:microsoft.com/office/officeart/2005/8/layout/orgChart1"/>
    <dgm:cxn modelId="{B68B5945-6F47-4E61-BA3A-E03CA7FE9564}" type="presParOf" srcId="{5C971F4C-4553-4A75-87D7-2106FA6741D5}" destId="{EF814652-9F5F-422C-94ED-17DE345AC16E}" srcOrd="0" destOrd="0" presId="urn:microsoft.com/office/officeart/2005/8/layout/orgChart1"/>
    <dgm:cxn modelId="{35721D97-60A6-4F97-96D3-5AE5D9E83CE4}" type="presParOf" srcId="{5C971F4C-4553-4A75-87D7-2106FA6741D5}" destId="{26E55EB3-EC55-4EA7-BAC5-12F0F0CF2381}" srcOrd="1" destOrd="0" presId="urn:microsoft.com/office/officeart/2005/8/layout/orgChart1"/>
    <dgm:cxn modelId="{D8EA2CDB-3D05-4092-B922-4F10F728EA46}" type="presParOf" srcId="{ED3178DA-2C40-41AB-8F8D-15AAC9BCCDB4}" destId="{E6396FEC-5014-4A65-AE98-D5D8F92B5A33}" srcOrd="1" destOrd="0" presId="urn:microsoft.com/office/officeart/2005/8/layout/orgChart1"/>
    <dgm:cxn modelId="{A2EAA80B-CBF7-49B5-B05F-FDDDF111D4C1}" type="presParOf" srcId="{ED3178DA-2C40-41AB-8F8D-15AAC9BCCDB4}" destId="{9DCBD85A-8F20-4DF2-8993-2496F117CB73}" srcOrd="2" destOrd="0" presId="urn:microsoft.com/office/officeart/2005/8/layout/orgChart1"/>
    <dgm:cxn modelId="{37CA943E-A5F6-460E-930E-B12AD29AE8A0}" type="presParOf" srcId="{300D372F-BC38-4327-A900-29484DE77F39}" destId="{207FBBBD-5C5F-47EF-BDF7-AADBB469DDB6}" srcOrd="2" destOrd="0" presId="urn:microsoft.com/office/officeart/2005/8/layout/orgChart1"/>
    <dgm:cxn modelId="{6B2E3CE3-2AF8-4622-BBD3-8F0572A57422}" type="presParOf" srcId="{300D372F-BC38-4327-A900-29484DE77F39}" destId="{AC1D3EA6-FDCC-4A89-B3A7-548EC7D7F419}" srcOrd="3" destOrd="0" presId="urn:microsoft.com/office/officeart/2005/8/layout/orgChart1"/>
    <dgm:cxn modelId="{870EED3C-996D-4539-8889-3CE3D34DCF00}" type="presParOf" srcId="{AC1D3EA6-FDCC-4A89-B3A7-548EC7D7F419}" destId="{2413C09D-9E16-460F-A8F7-935129C3D6AD}" srcOrd="0" destOrd="0" presId="urn:microsoft.com/office/officeart/2005/8/layout/orgChart1"/>
    <dgm:cxn modelId="{0F19F2B4-AE63-477C-9C6D-E4234BD1B06E}" type="presParOf" srcId="{2413C09D-9E16-460F-A8F7-935129C3D6AD}" destId="{1421A480-BCCE-4561-895A-F4BA412E9454}" srcOrd="0" destOrd="0" presId="urn:microsoft.com/office/officeart/2005/8/layout/orgChart1"/>
    <dgm:cxn modelId="{B983167C-B51B-4F2A-A510-0ED0D321F80D}" type="presParOf" srcId="{2413C09D-9E16-460F-A8F7-935129C3D6AD}" destId="{22F43861-7D36-4D5E-8588-C13DD6188EA4}" srcOrd="1" destOrd="0" presId="urn:microsoft.com/office/officeart/2005/8/layout/orgChart1"/>
    <dgm:cxn modelId="{A210EB96-489C-4859-948A-8D8622C83EE6}" type="presParOf" srcId="{AC1D3EA6-FDCC-4A89-B3A7-548EC7D7F419}" destId="{F1239434-D847-4E87-8B60-61A265440900}" srcOrd="1" destOrd="0" presId="urn:microsoft.com/office/officeart/2005/8/layout/orgChart1"/>
    <dgm:cxn modelId="{20B44ABA-7065-4A02-9993-901B3D57B0FE}" type="presParOf" srcId="{AC1D3EA6-FDCC-4A89-B3A7-548EC7D7F419}" destId="{9D5689E1-AA6B-45A0-AF61-F6BA8CD2BB52}" srcOrd="2" destOrd="0" presId="urn:microsoft.com/office/officeart/2005/8/layout/orgChart1"/>
    <dgm:cxn modelId="{9B73C50C-917F-4A94-8F3A-7C21971B1167}" type="presParOf" srcId="{300D372F-BC38-4327-A900-29484DE77F39}" destId="{B6B6CB86-0B53-4D42-91A0-4C5F1607F5A9}" srcOrd="4" destOrd="0" presId="urn:microsoft.com/office/officeart/2005/8/layout/orgChart1"/>
    <dgm:cxn modelId="{DAE4419A-634B-47D5-ADF2-DB0A7C37B009}" type="presParOf" srcId="{300D372F-BC38-4327-A900-29484DE77F39}" destId="{FC1FFDBE-79D6-403B-80F6-5D8895C1BF6F}" srcOrd="5" destOrd="0" presId="urn:microsoft.com/office/officeart/2005/8/layout/orgChart1"/>
    <dgm:cxn modelId="{724EDF8F-8F38-4D1C-A9CC-26E7D8682FD7}" type="presParOf" srcId="{FC1FFDBE-79D6-403B-80F6-5D8895C1BF6F}" destId="{007E558E-7499-4135-995D-D81499EF11D1}" srcOrd="0" destOrd="0" presId="urn:microsoft.com/office/officeart/2005/8/layout/orgChart1"/>
    <dgm:cxn modelId="{AC121838-F5D1-45B7-98A5-B68CBCB76C6F}" type="presParOf" srcId="{007E558E-7499-4135-995D-D81499EF11D1}" destId="{76DF35C2-6F02-4DD0-8D5D-12635CC998A6}" srcOrd="0" destOrd="0" presId="urn:microsoft.com/office/officeart/2005/8/layout/orgChart1"/>
    <dgm:cxn modelId="{94A512F0-E537-4C83-80EC-133AA971958C}" type="presParOf" srcId="{007E558E-7499-4135-995D-D81499EF11D1}" destId="{3396E297-81C4-42EC-9928-56C69E5DE10C}" srcOrd="1" destOrd="0" presId="urn:microsoft.com/office/officeart/2005/8/layout/orgChart1"/>
    <dgm:cxn modelId="{29DCC807-3E02-4A67-A781-86FFFC28D45C}" type="presParOf" srcId="{FC1FFDBE-79D6-403B-80F6-5D8895C1BF6F}" destId="{58641926-292D-453A-97FE-915D20B85240}" srcOrd="1" destOrd="0" presId="urn:microsoft.com/office/officeart/2005/8/layout/orgChart1"/>
    <dgm:cxn modelId="{8BE4CE61-9ECD-4C58-A64A-E70A97023D31}" type="presParOf" srcId="{FC1FFDBE-79D6-403B-80F6-5D8895C1BF6F}" destId="{2C6BCAD3-BD4C-4DFB-BCD0-1383FE02D74E}" srcOrd="2" destOrd="0" presId="urn:microsoft.com/office/officeart/2005/8/layout/orgChart1"/>
    <dgm:cxn modelId="{45B74F85-D9D8-4660-BFC6-886631AF7EA7}" type="presParOf" srcId="{82236D24-6D69-4F51-9E3F-6349830E3141}" destId="{DE28CA4B-CE9E-42D6-9808-FB6534C44356}"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17A5F1C4-2C01-4FF3-B97E-D845EB9B46D8}" type="doc">
      <dgm:prSet loTypeId="urn:microsoft.com/office/officeart/2005/8/layout/radial1" loCatId="cycle" qsTypeId="urn:microsoft.com/office/officeart/2005/8/quickstyle/simple1" qsCatId="simple" csTypeId="urn:microsoft.com/office/officeart/2005/8/colors/accent1_2" csCatId="accent1" phldr="1"/>
      <dgm:spPr/>
      <dgm:t>
        <a:bodyPr/>
        <a:lstStyle/>
        <a:p>
          <a:pPr rtl="1"/>
          <a:endParaRPr lang="ar-IQ"/>
        </a:p>
      </dgm:t>
    </dgm:pt>
    <dgm:pt modelId="{CDC1E277-C994-4025-9A96-E626A99439FF}">
      <dgm:prSet phldrT="[نص]"/>
      <dgm:spPr/>
      <dgm:t>
        <a:bodyPr/>
        <a:lstStyle/>
        <a:p>
          <a:pPr rtl="1"/>
          <a:r>
            <a:rPr lang="ar-IQ" dirty="0" smtClean="0"/>
            <a:t>مهارات المدير الاستراتيجة</a:t>
          </a:r>
          <a:endParaRPr lang="ar-IQ" dirty="0"/>
        </a:p>
      </dgm:t>
    </dgm:pt>
    <dgm:pt modelId="{943075C8-3751-419D-967F-895D7E130174}" type="parTrans" cxnId="{EDFC3CA7-8CFB-411A-8793-AAC53920D246}">
      <dgm:prSet/>
      <dgm:spPr/>
      <dgm:t>
        <a:bodyPr/>
        <a:lstStyle/>
        <a:p>
          <a:pPr rtl="1"/>
          <a:endParaRPr lang="ar-IQ"/>
        </a:p>
      </dgm:t>
    </dgm:pt>
    <dgm:pt modelId="{F6EA2D73-36E2-46BC-9E4C-01EBF82C5C0E}" type="sibTrans" cxnId="{EDFC3CA7-8CFB-411A-8793-AAC53920D246}">
      <dgm:prSet/>
      <dgm:spPr/>
      <dgm:t>
        <a:bodyPr/>
        <a:lstStyle/>
        <a:p>
          <a:pPr rtl="1"/>
          <a:endParaRPr lang="ar-IQ"/>
        </a:p>
      </dgm:t>
    </dgm:pt>
    <dgm:pt modelId="{6FDB3963-D282-41DC-A863-84F3AC9154B0}">
      <dgm:prSet phldrT="[نص]"/>
      <dgm:spPr/>
      <dgm:t>
        <a:bodyPr/>
        <a:lstStyle/>
        <a:p>
          <a:pPr rtl="1"/>
          <a:r>
            <a:rPr lang="ar-IQ" dirty="0" smtClean="0"/>
            <a:t>إحاطة جيدة</a:t>
          </a:r>
          <a:endParaRPr lang="ar-IQ" dirty="0"/>
        </a:p>
      </dgm:t>
    </dgm:pt>
    <dgm:pt modelId="{C0266355-370C-4763-9FE8-B5E4BBF27A27}" type="parTrans" cxnId="{028F3143-1BB5-4E1B-98AA-C81374F712C7}">
      <dgm:prSet/>
      <dgm:spPr/>
      <dgm:t>
        <a:bodyPr/>
        <a:lstStyle/>
        <a:p>
          <a:pPr rtl="1"/>
          <a:endParaRPr lang="ar-IQ"/>
        </a:p>
      </dgm:t>
    </dgm:pt>
    <dgm:pt modelId="{FFDB98EC-2ABC-4F81-872D-8B4978D1B3E8}" type="sibTrans" cxnId="{028F3143-1BB5-4E1B-98AA-C81374F712C7}">
      <dgm:prSet/>
      <dgm:spPr/>
      <dgm:t>
        <a:bodyPr/>
        <a:lstStyle/>
        <a:p>
          <a:pPr rtl="1"/>
          <a:endParaRPr lang="ar-IQ"/>
        </a:p>
      </dgm:t>
    </dgm:pt>
    <dgm:pt modelId="{04C4363D-AC32-4A09-8630-E1F3392D92A3}">
      <dgm:prSet phldrT="[نص]"/>
      <dgm:spPr/>
      <dgm:t>
        <a:bodyPr/>
        <a:lstStyle/>
        <a:p>
          <a:pPr rtl="1"/>
          <a:r>
            <a:rPr lang="ar-IQ" dirty="0" smtClean="0"/>
            <a:t>نشاط متميز</a:t>
          </a:r>
          <a:endParaRPr lang="ar-IQ" dirty="0"/>
        </a:p>
      </dgm:t>
    </dgm:pt>
    <dgm:pt modelId="{B3EAF360-5D65-4AD5-AC4C-CD563D7BBC43}" type="parTrans" cxnId="{E21EE7A0-A067-4F27-86B8-88DFA74DE5DA}">
      <dgm:prSet/>
      <dgm:spPr/>
      <dgm:t>
        <a:bodyPr/>
        <a:lstStyle/>
        <a:p>
          <a:pPr rtl="1"/>
          <a:endParaRPr lang="ar-IQ"/>
        </a:p>
      </dgm:t>
    </dgm:pt>
    <dgm:pt modelId="{0EF58AAE-F4AA-4703-8561-3CFBCA75E644}" type="sibTrans" cxnId="{E21EE7A0-A067-4F27-86B8-88DFA74DE5DA}">
      <dgm:prSet/>
      <dgm:spPr/>
      <dgm:t>
        <a:bodyPr/>
        <a:lstStyle/>
        <a:p>
          <a:pPr rtl="1"/>
          <a:endParaRPr lang="ar-IQ"/>
        </a:p>
      </dgm:t>
    </dgm:pt>
    <dgm:pt modelId="{1EE59A30-4DBE-4400-90AD-CCD51084D4B1}">
      <dgm:prSet phldrT="[نص]"/>
      <dgm:spPr/>
      <dgm:t>
        <a:bodyPr/>
        <a:lstStyle/>
        <a:p>
          <a:pPr rtl="1"/>
          <a:r>
            <a:rPr lang="ar-IQ" dirty="0" smtClean="0"/>
            <a:t>سياسة جيدة</a:t>
          </a:r>
          <a:endParaRPr lang="ar-IQ" dirty="0"/>
        </a:p>
      </dgm:t>
    </dgm:pt>
    <dgm:pt modelId="{84F39224-3A73-4D2E-AF81-A7450F31EC6B}" type="parTrans" cxnId="{D88F0C84-AF2D-494C-8B31-94F24B643C2C}">
      <dgm:prSet/>
      <dgm:spPr/>
      <dgm:t>
        <a:bodyPr/>
        <a:lstStyle/>
        <a:p>
          <a:pPr rtl="1"/>
          <a:endParaRPr lang="ar-IQ"/>
        </a:p>
      </dgm:t>
    </dgm:pt>
    <dgm:pt modelId="{516FE41F-A6D8-45D7-A46C-5A7837D459DD}" type="sibTrans" cxnId="{D88F0C84-AF2D-494C-8B31-94F24B643C2C}">
      <dgm:prSet/>
      <dgm:spPr/>
      <dgm:t>
        <a:bodyPr/>
        <a:lstStyle/>
        <a:p>
          <a:pPr rtl="1"/>
          <a:endParaRPr lang="ar-IQ"/>
        </a:p>
      </dgm:t>
    </dgm:pt>
    <dgm:pt modelId="{5EE129EF-9CE9-443B-A106-4CB15DA83B60}">
      <dgm:prSet phldrT="[نص]"/>
      <dgm:spPr/>
      <dgm:t>
        <a:bodyPr/>
        <a:lstStyle/>
        <a:p>
          <a:pPr rtl="1"/>
          <a:r>
            <a:rPr lang="ar-IQ" dirty="0" smtClean="0"/>
            <a:t>خبرة ومعرفة</a:t>
          </a:r>
          <a:endParaRPr lang="ar-IQ" dirty="0"/>
        </a:p>
      </dgm:t>
    </dgm:pt>
    <dgm:pt modelId="{CB892AB0-7138-4D41-9E17-A80771D64938}" type="parTrans" cxnId="{3DCB6346-D323-4192-A137-9C96491D2AEF}">
      <dgm:prSet/>
      <dgm:spPr/>
      <dgm:t>
        <a:bodyPr/>
        <a:lstStyle/>
        <a:p>
          <a:pPr rtl="1"/>
          <a:endParaRPr lang="ar-IQ"/>
        </a:p>
      </dgm:t>
    </dgm:pt>
    <dgm:pt modelId="{4F20B72F-5479-4605-961E-6187E4522C2B}" type="sibTrans" cxnId="{3DCB6346-D323-4192-A137-9C96491D2AEF}">
      <dgm:prSet/>
      <dgm:spPr/>
      <dgm:t>
        <a:bodyPr/>
        <a:lstStyle/>
        <a:p>
          <a:pPr rtl="1"/>
          <a:endParaRPr lang="ar-IQ"/>
        </a:p>
      </dgm:t>
    </dgm:pt>
    <dgm:pt modelId="{2947454D-500C-4D58-B4BB-D39CC30E335C}">
      <dgm:prSet/>
      <dgm:spPr/>
      <dgm:t>
        <a:bodyPr/>
        <a:lstStyle/>
        <a:p>
          <a:pPr rtl="1"/>
          <a:r>
            <a:rPr lang="ar-IQ" dirty="0" smtClean="0"/>
            <a:t>قابلية الدفع نحو الهدف</a:t>
          </a:r>
          <a:endParaRPr lang="ar-IQ" dirty="0"/>
        </a:p>
      </dgm:t>
    </dgm:pt>
    <dgm:pt modelId="{AF4855AF-F1D3-4A35-9040-CED65D9C3626}" type="parTrans" cxnId="{CE16833E-C860-4A79-8D27-7F5C11E37284}">
      <dgm:prSet/>
      <dgm:spPr/>
      <dgm:t>
        <a:bodyPr/>
        <a:lstStyle/>
        <a:p>
          <a:pPr rtl="1"/>
          <a:endParaRPr lang="ar-IQ"/>
        </a:p>
      </dgm:t>
    </dgm:pt>
    <dgm:pt modelId="{C7BC4DF2-719D-46D9-B9F6-61A7A4791332}" type="sibTrans" cxnId="{CE16833E-C860-4A79-8D27-7F5C11E37284}">
      <dgm:prSet/>
      <dgm:spPr/>
      <dgm:t>
        <a:bodyPr/>
        <a:lstStyle/>
        <a:p>
          <a:pPr rtl="1"/>
          <a:endParaRPr lang="ar-IQ"/>
        </a:p>
      </dgm:t>
    </dgm:pt>
    <dgm:pt modelId="{C1B90C17-331E-4327-A874-148A0A5A1817}" type="pres">
      <dgm:prSet presAssocID="{17A5F1C4-2C01-4FF3-B97E-D845EB9B46D8}" presName="cycle" presStyleCnt="0">
        <dgm:presLayoutVars>
          <dgm:chMax val="1"/>
          <dgm:dir/>
          <dgm:animLvl val="ctr"/>
          <dgm:resizeHandles val="exact"/>
        </dgm:presLayoutVars>
      </dgm:prSet>
      <dgm:spPr/>
      <dgm:t>
        <a:bodyPr/>
        <a:lstStyle/>
        <a:p>
          <a:endParaRPr lang="en-US"/>
        </a:p>
      </dgm:t>
    </dgm:pt>
    <dgm:pt modelId="{0EB53B8C-BB1E-42E0-9FF8-F3E377834696}" type="pres">
      <dgm:prSet presAssocID="{CDC1E277-C994-4025-9A96-E626A99439FF}" presName="centerShape" presStyleLbl="node0" presStyleIdx="0" presStyleCnt="1"/>
      <dgm:spPr/>
      <dgm:t>
        <a:bodyPr/>
        <a:lstStyle/>
        <a:p>
          <a:endParaRPr lang="en-US"/>
        </a:p>
      </dgm:t>
    </dgm:pt>
    <dgm:pt modelId="{90EF38A2-3163-4AD9-818D-1CB1C8E43A8B}" type="pres">
      <dgm:prSet presAssocID="{C0266355-370C-4763-9FE8-B5E4BBF27A27}" presName="Name9" presStyleLbl="parChTrans1D2" presStyleIdx="0" presStyleCnt="5"/>
      <dgm:spPr/>
      <dgm:t>
        <a:bodyPr/>
        <a:lstStyle/>
        <a:p>
          <a:endParaRPr lang="en-US"/>
        </a:p>
      </dgm:t>
    </dgm:pt>
    <dgm:pt modelId="{E1CE1B8E-DB1F-4793-8F6A-B08A1B73E43E}" type="pres">
      <dgm:prSet presAssocID="{C0266355-370C-4763-9FE8-B5E4BBF27A27}" presName="connTx" presStyleLbl="parChTrans1D2" presStyleIdx="0" presStyleCnt="5"/>
      <dgm:spPr/>
      <dgm:t>
        <a:bodyPr/>
        <a:lstStyle/>
        <a:p>
          <a:endParaRPr lang="en-US"/>
        </a:p>
      </dgm:t>
    </dgm:pt>
    <dgm:pt modelId="{F24BE44C-DED2-4B91-9706-E015D3F89918}" type="pres">
      <dgm:prSet presAssocID="{6FDB3963-D282-41DC-A863-84F3AC9154B0}" presName="node" presStyleLbl="node1" presStyleIdx="0" presStyleCnt="5" custRadScaleRad="98451" custRadScaleInc="4104">
        <dgm:presLayoutVars>
          <dgm:bulletEnabled val="1"/>
        </dgm:presLayoutVars>
      </dgm:prSet>
      <dgm:spPr/>
      <dgm:t>
        <a:bodyPr/>
        <a:lstStyle/>
        <a:p>
          <a:endParaRPr lang="en-US"/>
        </a:p>
      </dgm:t>
    </dgm:pt>
    <dgm:pt modelId="{BC9C3708-92E3-493D-A37B-3874737EDAF2}" type="pres">
      <dgm:prSet presAssocID="{AF4855AF-F1D3-4A35-9040-CED65D9C3626}" presName="Name9" presStyleLbl="parChTrans1D2" presStyleIdx="1" presStyleCnt="5"/>
      <dgm:spPr/>
      <dgm:t>
        <a:bodyPr/>
        <a:lstStyle/>
        <a:p>
          <a:endParaRPr lang="en-US"/>
        </a:p>
      </dgm:t>
    </dgm:pt>
    <dgm:pt modelId="{69DF9ABA-75CB-42D0-A724-0F8EA2FA21E5}" type="pres">
      <dgm:prSet presAssocID="{AF4855AF-F1D3-4A35-9040-CED65D9C3626}" presName="connTx" presStyleLbl="parChTrans1D2" presStyleIdx="1" presStyleCnt="5"/>
      <dgm:spPr/>
      <dgm:t>
        <a:bodyPr/>
        <a:lstStyle/>
        <a:p>
          <a:endParaRPr lang="en-US"/>
        </a:p>
      </dgm:t>
    </dgm:pt>
    <dgm:pt modelId="{B5D89422-DC7D-4159-8BC5-19887394B525}" type="pres">
      <dgm:prSet presAssocID="{2947454D-500C-4D58-B4BB-D39CC30E335C}" presName="node" presStyleLbl="node1" presStyleIdx="1" presStyleCnt="5">
        <dgm:presLayoutVars>
          <dgm:bulletEnabled val="1"/>
        </dgm:presLayoutVars>
      </dgm:prSet>
      <dgm:spPr/>
      <dgm:t>
        <a:bodyPr/>
        <a:lstStyle/>
        <a:p>
          <a:endParaRPr lang="en-US"/>
        </a:p>
      </dgm:t>
    </dgm:pt>
    <dgm:pt modelId="{674A8891-19B0-4AAC-8546-978E29EE41CC}" type="pres">
      <dgm:prSet presAssocID="{B3EAF360-5D65-4AD5-AC4C-CD563D7BBC43}" presName="Name9" presStyleLbl="parChTrans1D2" presStyleIdx="2" presStyleCnt="5"/>
      <dgm:spPr/>
      <dgm:t>
        <a:bodyPr/>
        <a:lstStyle/>
        <a:p>
          <a:endParaRPr lang="en-US"/>
        </a:p>
      </dgm:t>
    </dgm:pt>
    <dgm:pt modelId="{ADA51A42-BD01-4354-89EF-2D4E48E9296C}" type="pres">
      <dgm:prSet presAssocID="{B3EAF360-5D65-4AD5-AC4C-CD563D7BBC43}" presName="connTx" presStyleLbl="parChTrans1D2" presStyleIdx="2" presStyleCnt="5"/>
      <dgm:spPr/>
      <dgm:t>
        <a:bodyPr/>
        <a:lstStyle/>
        <a:p>
          <a:endParaRPr lang="en-US"/>
        </a:p>
      </dgm:t>
    </dgm:pt>
    <dgm:pt modelId="{A49E5FD3-28C4-4998-B799-E7FC34F299E4}" type="pres">
      <dgm:prSet presAssocID="{04C4363D-AC32-4A09-8630-E1F3392D92A3}" presName="node" presStyleLbl="node1" presStyleIdx="2" presStyleCnt="5">
        <dgm:presLayoutVars>
          <dgm:bulletEnabled val="1"/>
        </dgm:presLayoutVars>
      </dgm:prSet>
      <dgm:spPr/>
      <dgm:t>
        <a:bodyPr/>
        <a:lstStyle/>
        <a:p>
          <a:endParaRPr lang="en-US"/>
        </a:p>
      </dgm:t>
    </dgm:pt>
    <dgm:pt modelId="{85034CFE-506C-48F7-A8DE-CFFC8563426A}" type="pres">
      <dgm:prSet presAssocID="{84F39224-3A73-4D2E-AF81-A7450F31EC6B}" presName="Name9" presStyleLbl="parChTrans1D2" presStyleIdx="3" presStyleCnt="5"/>
      <dgm:spPr/>
      <dgm:t>
        <a:bodyPr/>
        <a:lstStyle/>
        <a:p>
          <a:endParaRPr lang="en-US"/>
        </a:p>
      </dgm:t>
    </dgm:pt>
    <dgm:pt modelId="{38F5E77D-EF38-40DC-B4BD-9D4506C31AB7}" type="pres">
      <dgm:prSet presAssocID="{84F39224-3A73-4D2E-AF81-A7450F31EC6B}" presName="connTx" presStyleLbl="parChTrans1D2" presStyleIdx="3" presStyleCnt="5"/>
      <dgm:spPr/>
      <dgm:t>
        <a:bodyPr/>
        <a:lstStyle/>
        <a:p>
          <a:endParaRPr lang="en-US"/>
        </a:p>
      </dgm:t>
    </dgm:pt>
    <dgm:pt modelId="{674D32D8-6E73-48F4-8B09-6F6BC84F60E5}" type="pres">
      <dgm:prSet presAssocID="{1EE59A30-4DBE-4400-90AD-CCD51084D4B1}" presName="node" presStyleLbl="node1" presStyleIdx="3" presStyleCnt="5">
        <dgm:presLayoutVars>
          <dgm:bulletEnabled val="1"/>
        </dgm:presLayoutVars>
      </dgm:prSet>
      <dgm:spPr/>
      <dgm:t>
        <a:bodyPr/>
        <a:lstStyle/>
        <a:p>
          <a:endParaRPr lang="en-US"/>
        </a:p>
      </dgm:t>
    </dgm:pt>
    <dgm:pt modelId="{9825811B-E17E-42FA-8567-B33FB8147D4E}" type="pres">
      <dgm:prSet presAssocID="{CB892AB0-7138-4D41-9E17-A80771D64938}" presName="Name9" presStyleLbl="parChTrans1D2" presStyleIdx="4" presStyleCnt="5"/>
      <dgm:spPr/>
      <dgm:t>
        <a:bodyPr/>
        <a:lstStyle/>
        <a:p>
          <a:endParaRPr lang="en-US"/>
        </a:p>
      </dgm:t>
    </dgm:pt>
    <dgm:pt modelId="{F74A2BF0-7ECC-479C-8511-39590F176E80}" type="pres">
      <dgm:prSet presAssocID="{CB892AB0-7138-4D41-9E17-A80771D64938}" presName="connTx" presStyleLbl="parChTrans1D2" presStyleIdx="4" presStyleCnt="5"/>
      <dgm:spPr/>
      <dgm:t>
        <a:bodyPr/>
        <a:lstStyle/>
        <a:p>
          <a:endParaRPr lang="en-US"/>
        </a:p>
      </dgm:t>
    </dgm:pt>
    <dgm:pt modelId="{E3E39D78-B5E5-4092-BA76-02C739A65A64}" type="pres">
      <dgm:prSet presAssocID="{5EE129EF-9CE9-443B-A106-4CB15DA83B60}" presName="node" presStyleLbl="node1" presStyleIdx="4" presStyleCnt="5">
        <dgm:presLayoutVars>
          <dgm:bulletEnabled val="1"/>
        </dgm:presLayoutVars>
      </dgm:prSet>
      <dgm:spPr/>
      <dgm:t>
        <a:bodyPr/>
        <a:lstStyle/>
        <a:p>
          <a:endParaRPr lang="en-US"/>
        </a:p>
      </dgm:t>
    </dgm:pt>
  </dgm:ptLst>
  <dgm:cxnLst>
    <dgm:cxn modelId="{E21EE7A0-A067-4F27-86B8-88DFA74DE5DA}" srcId="{CDC1E277-C994-4025-9A96-E626A99439FF}" destId="{04C4363D-AC32-4A09-8630-E1F3392D92A3}" srcOrd="2" destOrd="0" parTransId="{B3EAF360-5D65-4AD5-AC4C-CD563D7BBC43}" sibTransId="{0EF58AAE-F4AA-4703-8561-3CFBCA75E644}"/>
    <dgm:cxn modelId="{83833758-761A-4B4E-B7C2-EEB703B551A9}" type="presOf" srcId="{CB892AB0-7138-4D41-9E17-A80771D64938}" destId="{9825811B-E17E-42FA-8567-B33FB8147D4E}" srcOrd="0" destOrd="0" presId="urn:microsoft.com/office/officeart/2005/8/layout/radial1"/>
    <dgm:cxn modelId="{1404772A-E07E-4371-AF64-691ACFED29A0}" type="presOf" srcId="{B3EAF360-5D65-4AD5-AC4C-CD563D7BBC43}" destId="{ADA51A42-BD01-4354-89EF-2D4E48E9296C}" srcOrd="1" destOrd="0" presId="urn:microsoft.com/office/officeart/2005/8/layout/radial1"/>
    <dgm:cxn modelId="{82902FF5-5DDD-4911-940D-25762533E266}" type="presOf" srcId="{CDC1E277-C994-4025-9A96-E626A99439FF}" destId="{0EB53B8C-BB1E-42E0-9FF8-F3E377834696}" srcOrd="0" destOrd="0" presId="urn:microsoft.com/office/officeart/2005/8/layout/radial1"/>
    <dgm:cxn modelId="{A6AE6813-6C15-4508-847A-A2354172003E}" type="presOf" srcId="{B3EAF360-5D65-4AD5-AC4C-CD563D7BBC43}" destId="{674A8891-19B0-4AAC-8546-978E29EE41CC}" srcOrd="0" destOrd="0" presId="urn:microsoft.com/office/officeart/2005/8/layout/radial1"/>
    <dgm:cxn modelId="{4E22EBC3-0ED4-44B3-B147-DAB8B9D66E1C}" type="presOf" srcId="{1EE59A30-4DBE-4400-90AD-CCD51084D4B1}" destId="{674D32D8-6E73-48F4-8B09-6F6BC84F60E5}" srcOrd="0" destOrd="0" presId="urn:microsoft.com/office/officeart/2005/8/layout/radial1"/>
    <dgm:cxn modelId="{028F3143-1BB5-4E1B-98AA-C81374F712C7}" srcId="{CDC1E277-C994-4025-9A96-E626A99439FF}" destId="{6FDB3963-D282-41DC-A863-84F3AC9154B0}" srcOrd="0" destOrd="0" parTransId="{C0266355-370C-4763-9FE8-B5E4BBF27A27}" sibTransId="{FFDB98EC-2ABC-4F81-872D-8B4978D1B3E8}"/>
    <dgm:cxn modelId="{54F82D43-4F58-433C-B4BE-382D6C8047CB}" type="presOf" srcId="{5EE129EF-9CE9-443B-A106-4CB15DA83B60}" destId="{E3E39D78-B5E5-4092-BA76-02C739A65A64}" srcOrd="0" destOrd="0" presId="urn:microsoft.com/office/officeart/2005/8/layout/radial1"/>
    <dgm:cxn modelId="{7E659804-CEDF-430C-9EC1-8D0D5A46C9A6}" type="presOf" srcId="{84F39224-3A73-4D2E-AF81-A7450F31EC6B}" destId="{38F5E77D-EF38-40DC-B4BD-9D4506C31AB7}" srcOrd="1" destOrd="0" presId="urn:microsoft.com/office/officeart/2005/8/layout/radial1"/>
    <dgm:cxn modelId="{3BC8B73D-272C-4ECD-BF05-2C09F4AFA47C}" type="presOf" srcId="{2947454D-500C-4D58-B4BB-D39CC30E335C}" destId="{B5D89422-DC7D-4159-8BC5-19887394B525}" srcOrd="0" destOrd="0" presId="urn:microsoft.com/office/officeart/2005/8/layout/radial1"/>
    <dgm:cxn modelId="{3DCB6346-D323-4192-A137-9C96491D2AEF}" srcId="{CDC1E277-C994-4025-9A96-E626A99439FF}" destId="{5EE129EF-9CE9-443B-A106-4CB15DA83B60}" srcOrd="4" destOrd="0" parTransId="{CB892AB0-7138-4D41-9E17-A80771D64938}" sibTransId="{4F20B72F-5479-4605-961E-6187E4522C2B}"/>
    <dgm:cxn modelId="{8453B710-AC1C-424E-BF39-342EA673E719}" type="presOf" srcId="{84F39224-3A73-4D2E-AF81-A7450F31EC6B}" destId="{85034CFE-506C-48F7-A8DE-CFFC8563426A}" srcOrd="0" destOrd="0" presId="urn:microsoft.com/office/officeart/2005/8/layout/radial1"/>
    <dgm:cxn modelId="{F0D51C1B-42BE-4A86-AEC1-7DACADF51EC9}" type="presOf" srcId="{CB892AB0-7138-4D41-9E17-A80771D64938}" destId="{F74A2BF0-7ECC-479C-8511-39590F176E80}" srcOrd="1" destOrd="0" presId="urn:microsoft.com/office/officeart/2005/8/layout/radial1"/>
    <dgm:cxn modelId="{CE16833E-C860-4A79-8D27-7F5C11E37284}" srcId="{CDC1E277-C994-4025-9A96-E626A99439FF}" destId="{2947454D-500C-4D58-B4BB-D39CC30E335C}" srcOrd="1" destOrd="0" parTransId="{AF4855AF-F1D3-4A35-9040-CED65D9C3626}" sibTransId="{C7BC4DF2-719D-46D9-B9F6-61A7A4791332}"/>
    <dgm:cxn modelId="{330CC61C-80FA-4F66-8F92-6B04134DD075}" type="presOf" srcId="{04C4363D-AC32-4A09-8630-E1F3392D92A3}" destId="{A49E5FD3-28C4-4998-B799-E7FC34F299E4}" srcOrd="0" destOrd="0" presId="urn:microsoft.com/office/officeart/2005/8/layout/radial1"/>
    <dgm:cxn modelId="{738BF01C-4001-4FF0-B787-3D8F396630F1}" type="presOf" srcId="{6FDB3963-D282-41DC-A863-84F3AC9154B0}" destId="{F24BE44C-DED2-4B91-9706-E015D3F89918}" srcOrd="0" destOrd="0" presId="urn:microsoft.com/office/officeart/2005/8/layout/radial1"/>
    <dgm:cxn modelId="{D88F0C84-AF2D-494C-8B31-94F24B643C2C}" srcId="{CDC1E277-C994-4025-9A96-E626A99439FF}" destId="{1EE59A30-4DBE-4400-90AD-CCD51084D4B1}" srcOrd="3" destOrd="0" parTransId="{84F39224-3A73-4D2E-AF81-A7450F31EC6B}" sibTransId="{516FE41F-A6D8-45D7-A46C-5A7837D459DD}"/>
    <dgm:cxn modelId="{F38092EB-E839-4E3D-BE5A-36DC028E4225}" type="presOf" srcId="{C0266355-370C-4763-9FE8-B5E4BBF27A27}" destId="{90EF38A2-3163-4AD9-818D-1CB1C8E43A8B}" srcOrd="0" destOrd="0" presId="urn:microsoft.com/office/officeart/2005/8/layout/radial1"/>
    <dgm:cxn modelId="{9AA00F95-8223-4324-9E56-283A8F4D0EE5}" type="presOf" srcId="{C0266355-370C-4763-9FE8-B5E4BBF27A27}" destId="{E1CE1B8E-DB1F-4793-8F6A-B08A1B73E43E}" srcOrd="1" destOrd="0" presId="urn:microsoft.com/office/officeart/2005/8/layout/radial1"/>
    <dgm:cxn modelId="{AB627DE6-38EE-4860-8E37-63F818E30F14}" type="presOf" srcId="{AF4855AF-F1D3-4A35-9040-CED65D9C3626}" destId="{BC9C3708-92E3-493D-A37B-3874737EDAF2}" srcOrd="0" destOrd="0" presId="urn:microsoft.com/office/officeart/2005/8/layout/radial1"/>
    <dgm:cxn modelId="{13505213-AB1E-47E9-956F-A76245523D3F}" type="presOf" srcId="{AF4855AF-F1D3-4A35-9040-CED65D9C3626}" destId="{69DF9ABA-75CB-42D0-A724-0F8EA2FA21E5}" srcOrd="1" destOrd="0" presId="urn:microsoft.com/office/officeart/2005/8/layout/radial1"/>
    <dgm:cxn modelId="{EDFC3CA7-8CFB-411A-8793-AAC53920D246}" srcId="{17A5F1C4-2C01-4FF3-B97E-D845EB9B46D8}" destId="{CDC1E277-C994-4025-9A96-E626A99439FF}" srcOrd="0" destOrd="0" parTransId="{943075C8-3751-419D-967F-895D7E130174}" sibTransId="{F6EA2D73-36E2-46BC-9E4C-01EBF82C5C0E}"/>
    <dgm:cxn modelId="{EEB21940-A61F-4123-87B6-1B0475E205EF}" type="presOf" srcId="{17A5F1C4-2C01-4FF3-B97E-D845EB9B46D8}" destId="{C1B90C17-331E-4327-A874-148A0A5A1817}" srcOrd="0" destOrd="0" presId="urn:microsoft.com/office/officeart/2005/8/layout/radial1"/>
    <dgm:cxn modelId="{67EBC54E-6117-47C7-A457-A5960857B307}" type="presParOf" srcId="{C1B90C17-331E-4327-A874-148A0A5A1817}" destId="{0EB53B8C-BB1E-42E0-9FF8-F3E377834696}" srcOrd="0" destOrd="0" presId="urn:microsoft.com/office/officeart/2005/8/layout/radial1"/>
    <dgm:cxn modelId="{CD8C31BD-B096-4FAF-ACD5-F81FA5B46432}" type="presParOf" srcId="{C1B90C17-331E-4327-A874-148A0A5A1817}" destId="{90EF38A2-3163-4AD9-818D-1CB1C8E43A8B}" srcOrd="1" destOrd="0" presId="urn:microsoft.com/office/officeart/2005/8/layout/radial1"/>
    <dgm:cxn modelId="{BFA3D275-78F7-47B8-AE5A-005C75697E6C}" type="presParOf" srcId="{90EF38A2-3163-4AD9-818D-1CB1C8E43A8B}" destId="{E1CE1B8E-DB1F-4793-8F6A-B08A1B73E43E}" srcOrd="0" destOrd="0" presId="urn:microsoft.com/office/officeart/2005/8/layout/radial1"/>
    <dgm:cxn modelId="{05D2F2D5-9E0F-4DA6-AA42-7B8F2702BA5E}" type="presParOf" srcId="{C1B90C17-331E-4327-A874-148A0A5A1817}" destId="{F24BE44C-DED2-4B91-9706-E015D3F89918}" srcOrd="2" destOrd="0" presId="urn:microsoft.com/office/officeart/2005/8/layout/radial1"/>
    <dgm:cxn modelId="{0402F23A-D233-4785-AA35-402073E6C6A7}" type="presParOf" srcId="{C1B90C17-331E-4327-A874-148A0A5A1817}" destId="{BC9C3708-92E3-493D-A37B-3874737EDAF2}" srcOrd="3" destOrd="0" presId="urn:microsoft.com/office/officeart/2005/8/layout/radial1"/>
    <dgm:cxn modelId="{1A31197C-03CB-490F-9FFF-0B48B35D092E}" type="presParOf" srcId="{BC9C3708-92E3-493D-A37B-3874737EDAF2}" destId="{69DF9ABA-75CB-42D0-A724-0F8EA2FA21E5}" srcOrd="0" destOrd="0" presId="urn:microsoft.com/office/officeart/2005/8/layout/radial1"/>
    <dgm:cxn modelId="{0220773C-5B53-48B7-B6C7-DF96D52876AC}" type="presParOf" srcId="{C1B90C17-331E-4327-A874-148A0A5A1817}" destId="{B5D89422-DC7D-4159-8BC5-19887394B525}" srcOrd="4" destOrd="0" presId="urn:microsoft.com/office/officeart/2005/8/layout/radial1"/>
    <dgm:cxn modelId="{5891EEC2-64E7-4216-81DD-0488E3310C50}" type="presParOf" srcId="{C1B90C17-331E-4327-A874-148A0A5A1817}" destId="{674A8891-19B0-4AAC-8546-978E29EE41CC}" srcOrd="5" destOrd="0" presId="urn:microsoft.com/office/officeart/2005/8/layout/radial1"/>
    <dgm:cxn modelId="{C9B776C5-4863-467C-ACA7-29C1C93BCE89}" type="presParOf" srcId="{674A8891-19B0-4AAC-8546-978E29EE41CC}" destId="{ADA51A42-BD01-4354-89EF-2D4E48E9296C}" srcOrd="0" destOrd="0" presId="urn:microsoft.com/office/officeart/2005/8/layout/radial1"/>
    <dgm:cxn modelId="{BFF17213-261D-429A-85F9-A64EB9912285}" type="presParOf" srcId="{C1B90C17-331E-4327-A874-148A0A5A1817}" destId="{A49E5FD3-28C4-4998-B799-E7FC34F299E4}" srcOrd="6" destOrd="0" presId="urn:microsoft.com/office/officeart/2005/8/layout/radial1"/>
    <dgm:cxn modelId="{E35EBE8D-B4F3-4724-BD5F-348E40E5DAE6}" type="presParOf" srcId="{C1B90C17-331E-4327-A874-148A0A5A1817}" destId="{85034CFE-506C-48F7-A8DE-CFFC8563426A}" srcOrd="7" destOrd="0" presId="urn:microsoft.com/office/officeart/2005/8/layout/radial1"/>
    <dgm:cxn modelId="{8CBD4808-FE6E-4597-B436-3BF96BAA1EA7}" type="presParOf" srcId="{85034CFE-506C-48F7-A8DE-CFFC8563426A}" destId="{38F5E77D-EF38-40DC-B4BD-9D4506C31AB7}" srcOrd="0" destOrd="0" presId="urn:microsoft.com/office/officeart/2005/8/layout/radial1"/>
    <dgm:cxn modelId="{DF6522F4-414A-4420-98E6-D531B9209FDE}" type="presParOf" srcId="{C1B90C17-331E-4327-A874-148A0A5A1817}" destId="{674D32D8-6E73-48F4-8B09-6F6BC84F60E5}" srcOrd="8" destOrd="0" presId="urn:microsoft.com/office/officeart/2005/8/layout/radial1"/>
    <dgm:cxn modelId="{F9502BB2-F801-44B8-85A6-58D3EA7BB19A}" type="presParOf" srcId="{C1B90C17-331E-4327-A874-148A0A5A1817}" destId="{9825811B-E17E-42FA-8567-B33FB8147D4E}" srcOrd="9" destOrd="0" presId="urn:microsoft.com/office/officeart/2005/8/layout/radial1"/>
    <dgm:cxn modelId="{8CCD15D8-6D43-4327-8395-694477C247B8}" type="presParOf" srcId="{9825811B-E17E-42FA-8567-B33FB8147D4E}" destId="{F74A2BF0-7ECC-479C-8511-39590F176E80}" srcOrd="0" destOrd="0" presId="urn:microsoft.com/office/officeart/2005/8/layout/radial1"/>
    <dgm:cxn modelId="{22AA50B5-FD7E-4982-A775-14B00DB436F7}" type="presParOf" srcId="{C1B90C17-331E-4327-A874-148A0A5A1817}" destId="{E3E39D78-B5E5-4092-BA76-02C739A65A64}" srcOrd="10"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C2EDAA03-D3B9-4CF2-8420-B1F71D5430FE}" type="doc">
      <dgm:prSet loTypeId="urn:microsoft.com/office/officeart/2005/8/layout/radial1" loCatId="cycle" qsTypeId="urn:microsoft.com/office/officeart/2005/8/quickstyle/simple1" qsCatId="simple" csTypeId="urn:microsoft.com/office/officeart/2005/8/colors/accent1_2" csCatId="accent1" phldr="1"/>
      <dgm:spPr/>
      <dgm:t>
        <a:bodyPr/>
        <a:lstStyle/>
        <a:p>
          <a:pPr rtl="1"/>
          <a:endParaRPr lang="ar-IQ"/>
        </a:p>
      </dgm:t>
    </dgm:pt>
    <dgm:pt modelId="{58EAB211-7B14-4548-BA97-837601EB4BC9}">
      <dgm:prSet phldrT="[نص]" custT="1"/>
      <dgm:spPr/>
      <dgm:t>
        <a:bodyPr/>
        <a:lstStyle/>
        <a:p>
          <a:pPr rtl="1"/>
          <a:r>
            <a:rPr lang="ar-IQ" sz="2800" dirty="0" smtClean="0"/>
            <a:t>مكونات الإدارة الإستراتيجية </a:t>
          </a:r>
          <a:endParaRPr lang="ar-IQ" sz="2800" dirty="0"/>
        </a:p>
      </dgm:t>
    </dgm:pt>
    <dgm:pt modelId="{3CB64698-2374-4121-8253-BE1AA220FD5B}" type="parTrans" cxnId="{E7EBA746-8A52-4859-A471-97F907D31DF2}">
      <dgm:prSet/>
      <dgm:spPr/>
      <dgm:t>
        <a:bodyPr/>
        <a:lstStyle/>
        <a:p>
          <a:pPr rtl="1"/>
          <a:endParaRPr lang="ar-IQ"/>
        </a:p>
      </dgm:t>
    </dgm:pt>
    <dgm:pt modelId="{55F99BA9-FA9E-4564-A22E-F2FFB28783B9}" type="sibTrans" cxnId="{E7EBA746-8A52-4859-A471-97F907D31DF2}">
      <dgm:prSet/>
      <dgm:spPr/>
      <dgm:t>
        <a:bodyPr/>
        <a:lstStyle/>
        <a:p>
          <a:pPr rtl="1"/>
          <a:endParaRPr lang="ar-IQ"/>
        </a:p>
      </dgm:t>
    </dgm:pt>
    <dgm:pt modelId="{85998E15-3147-437F-93B0-3C13BFC68A88}">
      <dgm:prSet phldrT="[نص]" custT="1"/>
      <dgm:spPr/>
      <dgm:t>
        <a:bodyPr/>
        <a:lstStyle/>
        <a:p>
          <a:pPr rtl="1"/>
          <a:r>
            <a:rPr lang="ar-IQ" sz="2000" dirty="0" smtClean="0"/>
            <a:t>التحليل </a:t>
          </a:r>
          <a:r>
            <a:rPr lang="ar-IQ" sz="2000" dirty="0" err="1" smtClean="0"/>
            <a:t>الاسترايجي</a:t>
          </a:r>
          <a:r>
            <a:rPr lang="ar-IQ" sz="2000" dirty="0" smtClean="0"/>
            <a:t> لعوامل البيئة  الخارجية  الفرص والتهديدات </a:t>
          </a:r>
          <a:endParaRPr lang="ar-IQ" sz="2000" dirty="0"/>
        </a:p>
      </dgm:t>
    </dgm:pt>
    <dgm:pt modelId="{532E877A-AC8D-4F96-9BBF-310409FB56BB}" type="parTrans" cxnId="{691691ED-2CB6-4229-B3DC-AE2343946EB0}">
      <dgm:prSet/>
      <dgm:spPr/>
      <dgm:t>
        <a:bodyPr/>
        <a:lstStyle/>
        <a:p>
          <a:pPr rtl="1"/>
          <a:endParaRPr lang="ar-IQ"/>
        </a:p>
      </dgm:t>
    </dgm:pt>
    <dgm:pt modelId="{3D10487C-0286-4539-99F5-10EA89AAA334}" type="sibTrans" cxnId="{691691ED-2CB6-4229-B3DC-AE2343946EB0}">
      <dgm:prSet/>
      <dgm:spPr/>
      <dgm:t>
        <a:bodyPr/>
        <a:lstStyle/>
        <a:p>
          <a:pPr rtl="1"/>
          <a:endParaRPr lang="ar-IQ"/>
        </a:p>
      </dgm:t>
    </dgm:pt>
    <dgm:pt modelId="{FD2F5392-3E70-4DF4-918D-30598F2E174F}">
      <dgm:prSet phldrT="[نص]"/>
      <dgm:spPr/>
      <dgm:t>
        <a:bodyPr/>
        <a:lstStyle/>
        <a:p>
          <a:pPr rtl="1"/>
          <a:r>
            <a:rPr lang="ar-IQ" dirty="0" smtClean="0"/>
            <a:t>التوجه الاستراتيجي رسالة المنظمة </a:t>
          </a:r>
          <a:r>
            <a:rPr lang="ar-IQ" dirty="0" err="1" smtClean="0"/>
            <a:t>واهدافها</a:t>
          </a:r>
          <a:r>
            <a:rPr lang="ar-IQ" dirty="0" smtClean="0"/>
            <a:t> </a:t>
          </a:r>
          <a:endParaRPr lang="ar-IQ" dirty="0"/>
        </a:p>
      </dgm:t>
    </dgm:pt>
    <dgm:pt modelId="{06B98842-53FC-49B3-869C-416F4095FFCE}" type="parTrans" cxnId="{24A1B6AC-3D26-4137-BC79-FFBDDCBA74DA}">
      <dgm:prSet/>
      <dgm:spPr/>
      <dgm:t>
        <a:bodyPr/>
        <a:lstStyle/>
        <a:p>
          <a:pPr rtl="1"/>
          <a:endParaRPr lang="ar-IQ"/>
        </a:p>
      </dgm:t>
    </dgm:pt>
    <dgm:pt modelId="{0DDC937E-B6DC-40EB-8815-E7F39BBAF51C}" type="sibTrans" cxnId="{24A1B6AC-3D26-4137-BC79-FFBDDCBA74DA}">
      <dgm:prSet/>
      <dgm:spPr/>
      <dgm:t>
        <a:bodyPr/>
        <a:lstStyle/>
        <a:p>
          <a:pPr rtl="1"/>
          <a:endParaRPr lang="ar-IQ"/>
        </a:p>
      </dgm:t>
    </dgm:pt>
    <dgm:pt modelId="{0838E3B7-0C0F-413B-ACF9-BB7952E2F580}">
      <dgm:prSet phldrT="[نص]"/>
      <dgm:spPr/>
      <dgm:t>
        <a:bodyPr/>
        <a:lstStyle/>
        <a:p>
          <a:pPr rtl="1"/>
          <a:r>
            <a:rPr lang="ar-IQ" dirty="0" smtClean="0"/>
            <a:t>الرقابة </a:t>
          </a:r>
          <a:r>
            <a:rPr lang="ar-IQ" dirty="0" err="1" smtClean="0"/>
            <a:t>الاستراتيجية</a:t>
          </a:r>
          <a:endParaRPr lang="ar-IQ" dirty="0"/>
        </a:p>
      </dgm:t>
    </dgm:pt>
    <dgm:pt modelId="{84F8A8CA-0AF9-4FE7-9B77-7ED1B43B67D6}" type="parTrans" cxnId="{327AB6C0-07C0-48B1-B304-DD5A4D3FF78C}">
      <dgm:prSet/>
      <dgm:spPr/>
      <dgm:t>
        <a:bodyPr/>
        <a:lstStyle/>
        <a:p>
          <a:pPr rtl="1"/>
          <a:endParaRPr lang="ar-IQ"/>
        </a:p>
      </dgm:t>
    </dgm:pt>
    <dgm:pt modelId="{AA9BECBC-67E1-4D9B-9076-9A7332D3E600}" type="sibTrans" cxnId="{327AB6C0-07C0-48B1-B304-DD5A4D3FF78C}">
      <dgm:prSet/>
      <dgm:spPr/>
      <dgm:t>
        <a:bodyPr/>
        <a:lstStyle/>
        <a:p>
          <a:pPr rtl="1"/>
          <a:endParaRPr lang="ar-IQ"/>
        </a:p>
      </dgm:t>
    </dgm:pt>
    <dgm:pt modelId="{F4548D41-BC57-4986-81E6-040D9A643A16}">
      <dgm:prSet phldrT="[نص]" custT="1"/>
      <dgm:spPr/>
      <dgm:t>
        <a:bodyPr/>
        <a:lstStyle/>
        <a:p>
          <a:pPr rtl="1"/>
          <a:r>
            <a:rPr lang="ar-IQ" sz="2000" dirty="0" smtClean="0"/>
            <a:t>التحليل الاستراتيجي لعوامل البيئة الداخلية نقاط القوة والضعف</a:t>
          </a:r>
          <a:endParaRPr lang="ar-IQ" sz="2000" dirty="0"/>
        </a:p>
      </dgm:t>
    </dgm:pt>
    <dgm:pt modelId="{D5B9971D-3C40-4CC8-84E9-1F9D1A2533AC}" type="parTrans" cxnId="{F2C4718A-F36A-410A-9B81-2A0B146C9217}">
      <dgm:prSet/>
      <dgm:spPr/>
      <dgm:t>
        <a:bodyPr/>
        <a:lstStyle/>
        <a:p>
          <a:pPr rtl="1"/>
          <a:endParaRPr lang="ar-IQ"/>
        </a:p>
      </dgm:t>
    </dgm:pt>
    <dgm:pt modelId="{B31BCE0B-5B3C-451D-982A-ED35D9566F45}" type="sibTrans" cxnId="{F2C4718A-F36A-410A-9B81-2A0B146C9217}">
      <dgm:prSet/>
      <dgm:spPr/>
      <dgm:t>
        <a:bodyPr/>
        <a:lstStyle/>
        <a:p>
          <a:pPr rtl="1"/>
          <a:endParaRPr lang="ar-IQ"/>
        </a:p>
      </dgm:t>
    </dgm:pt>
    <dgm:pt modelId="{FA94F127-557C-404C-B96C-5668B7294530}">
      <dgm:prSet/>
      <dgm:spPr/>
      <dgm:t>
        <a:bodyPr/>
        <a:lstStyle/>
        <a:p>
          <a:pPr rtl="1"/>
          <a:r>
            <a:rPr lang="ar-IQ" dirty="0" smtClean="0"/>
            <a:t>التنفيذ الاستراتيجي</a:t>
          </a:r>
          <a:endParaRPr lang="ar-IQ" dirty="0"/>
        </a:p>
      </dgm:t>
    </dgm:pt>
    <dgm:pt modelId="{A3BB9C17-BB6B-4FD8-9861-7619A07E3324}" type="parTrans" cxnId="{0FC892AC-1949-4C79-A105-501E5ECBA3E5}">
      <dgm:prSet/>
      <dgm:spPr/>
      <dgm:t>
        <a:bodyPr/>
        <a:lstStyle/>
        <a:p>
          <a:pPr rtl="1"/>
          <a:endParaRPr lang="ar-IQ"/>
        </a:p>
      </dgm:t>
    </dgm:pt>
    <dgm:pt modelId="{DAABFBEA-216B-48AC-850D-215ED6C3F2BD}" type="sibTrans" cxnId="{0FC892AC-1949-4C79-A105-501E5ECBA3E5}">
      <dgm:prSet/>
      <dgm:spPr/>
      <dgm:t>
        <a:bodyPr/>
        <a:lstStyle/>
        <a:p>
          <a:pPr rtl="1"/>
          <a:endParaRPr lang="ar-IQ"/>
        </a:p>
      </dgm:t>
    </dgm:pt>
    <dgm:pt modelId="{E8301AA5-D93C-42D0-B424-6A7ECE1D32DC}">
      <dgm:prSet/>
      <dgm:spPr/>
      <dgm:t>
        <a:bodyPr/>
        <a:lstStyle/>
        <a:p>
          <a:pPr rtl="1"/>
          <a:r>
            <a:rPr lang="ar-IQ" dirty="0" smtClean="0"/>
            <a:t>الاختيار الاستراتيجي</a:t>
          </a:r>
          <a:endParaRPr lang="ar-IQ" dirty="0"/>
        </a:p>
      </dgm:t>
    </dgm:pt>
    <dgm:pt modelId="{96CE8C97-5108-4B97-AE4D-E380A09C0A6D}" type="parTrans" cxnId="{4D4E80B7-4CA9-44A3-8B30-8369F0F3DC5F}">
      <dgm:prSet/>
      <dgm:spPr/>
      <dgm:t>
        <a:bodyPr/>
        <a:lstStyle/>
        <a:p>
          <a:pPr rtl="1"/>
          <a:endParaRPr lang="ar-IQ"/>
        </a:p>
      </dgm:t>
    </dgm:pt>
    <dgm:pt modelId="{BEE40209-B547-4425-A34E-34D600D8581D}" type="sibTrans" cxnId="{4D4E80B7-4CA9-44A3-8B30-8369F0F3DC5F}">
      <dgm:prSet/>
      <dgm:spPr/>
      <dgm:t>
        <a:bodyPr/>
        <a:lstStyle/>
        <a:p>
          <a:pPr rtl="1"/>
          <a:endParaRPr lang="ar-IQ"/>
        </a:p>
      </dgm:t>
    </dgm:pt>
    <dgm:pt modelId="{67A00BF0-259E-43B5-9A07-AC16F35EE0AA}">
      <dgm:prSet/>
      <dgm:spPr/>
      <dgm:t>
        <a:bodyPr/>
        <a:lstStyle/>
        <a:p>
          <a:pPr rtl="1"/>
          <a:r>
            <a:rPr lang="ar-IQ" dirty="0" smtClean="0"/>
            <a:t>تحديد الموقف الاستراتيجي</a:t>
          </a:r>
          <a:endParaRPr lang="ar-IQ" dirty="0"/>
        </a:p>
      </dgm:t>
    </dgm:pt>
    <dgm:pt modelId="{53780F10-6E89-46D3-B06B-AB53403A8431}" type="parTrans" cxnId="{83EDB351-3B1D-4CA4-A472-9ADFB9AD678E}">
      <dgm:prSet/>
      <dgm:spPr/>
      <dgm:t>
        <a:bodyPr/>
        <a:lstStyle/>
        <a:p>
          <a:pPr rtl="1"/>
          <a:endParaRPr lang="ar-IQ"/>
        </a:p>
      </dgm:t>
    </dgm:pt>
    <dgm:pt modelId="{3E43A518-DE48-4696-A787-4D6EBAA6C87F}" type="sibTrans" cxnId="{83EDB351-3B1D-4CA4-A472-9ADFB9AD678E}">
      <dgm:prSet/>
      <dgm:spPr/>
      <dgm:t>
        <a:bodyPr/>
        <a:lstStyle/>
        <a:p>
          <a:pPr rtl="1"/>
          <a:endParaRPr lang="ar-IQ"/>
        </a:p>
      </dgm:t>
    </dgm:pt>
    <dgm:pt modelId="{D4B7181F-950A-4D95-9E59-DC7D5E3FDF86}" type="pres">
      <dgm:prSet presAssocID="{C2EDAA03-D3B9-4CF2-8420-B1F71D5430FE}" presName="cycle" presStyleCnt="0">
        <dgm:presLayoutVars>
          <dgm:chMax val="1"/>
          <dgm:dir/>
          <dgm:animLvl val="ctr"/>
          <dgm:resizeHandles val="exact"/>
        </dgm:presLayoutVars>
      </dgm:prSet>
      <dgm:spPr/>
      <dgm:t>
        <a:bodyPr/>
        <a:lstStyle/>
        <a:p>
          <a:pPr rtl="1"/>
          <a:endParaRPr lang="ar-IQ"/>
        </a:p>
      </dgm:t>
    </dgm:pt>
    <dgm:pt modelId="{BDF1C9B8-91CF-4D59-AD7F-61483EB2367E}" type="pres">
      <dgm:prSet presAssocID="{58EAB211-7B14-4548-BA97-837601EB4BC9}" presName="centerShape" presStyleLbl="node0" presStyleIdx="0" presStyleCnt="1" custScaleX="168899" custScaleY="68030"/>
      <dgm:spPr>
        <a:prstGeom prst="flowChartAlternateProcess">
          <a:avLst/>
        </a:prstGeom>
      </dgm:spPr>
      <dgm:t>
        <a:bodyPr/>
        <a:lstStyle/>
        <a:p>
          <a:pPr rtl="1"/>
          <a:endParaRPr lang="ar-IQ"/>
        </a:p>
      </dgm:t>
    </dgm:pt>
    <dgm:pt modelId="{BA1F2A44-D762-4047-AA33-9D1D12741C5B}" type="pres">
      <dgm:prSet presAssocID="{532E877A-AC8D-4F96-9BBF-310409FB56BB}" presName="Name9" presStyleLbl="parChTrans1D2" presStyleIdx="0" presStyleCnt="7"/>
      <dgm:spPr/>
      <dgm:t>
        <a:bodyPr/>
        <a:lstStyle/>
        <a:p>
          <a:pPr rtl="1"/>
          <a:endParaRPr lang="ar-IQ"/>
        </a:p>
      </dgm:t>
    </dgm:pt>
    <dgm:pt modelId="{45D3BE78-6E92-4E80-9A5F-FCBCA07792D6}" type="pres">
      <dgm:prSet presAssocID="{532E877A-AC8D-4F96-9BBF-310409FB56BB}" presName="connTx" presStyleLbl="parChTrans1D2" presStyleIdx="0" presStyleCnt="7"/>
      <dgm:spPr/>
      <dgm:t>
        <a:bodyPr/>
        <a:lstStyle/>
        <a:p>
          <a:pPr rtl="1"/>
          <a:endParaRPr lang="ar-IQ"/>
        </a:p>
      </dgm:t>
    </dgm:pt>
    <dgm:pt modelId="{BB2865B2-C43D-4930-9E4C-07E3FAE9ABB1}" type="pres">
      <dgm:prSet presAssocID="{85998E15-3147-437F-93B0-3C13BFC68A88}" presName="node" presStyleLbl="node1" presStyleIdx="0" presStyleCnt="7" custScaleX="121678">
        <dgm:presLayoutVars>
          <dgm:bulletEnabled val="1"/>
        </dgm:presLayoutVars>
      </dgm:prSet>
      <dgm:spPr>
        <a:prstGeom prst="roundRect">
          <a:avLst/>
        </a:prstGeom>
      </dgm:spPr>
      <dgm:t>
        <a:bodyPr/>
        <a:lstStyle/>
        <a:p>
          <a:pPr rtl="1"/>
          <a:endParaRPr lang="ar-IQ"/>
        </a:p>
      </dgm:t>
    </dgm:pt>
    <dgm:pt modelId="{E5A29B91-308E-4FDC-A6DB-DFDCFB8D857D}" type="pres">
      <dgm:prSet presAssocID="{06B98842-53FC-49B3-869C-416F4095FFCE}" presName="Name9" presStyleLbl="parChTrans1D2" presStyleIdx="1" presStyleCnt="7"/>
      <dgm:spPr/>
      <dgm:t>
        <a:bodyPr/>
        <a:lstStyle/>
        <a:p>
          <a:pPr rtl="1"/>
          <a:endParaRPr lang="ar-IQ"/>
        </a:p>
      </dgm:t>
    </dgm:pt>
    <dgm:pt modelId="{FF704F00-6BA4-4916-B465-54BF524D5745}" type="pres">
      <dgm:prSet presAssocID="{06B98842-53FC-49B3-869C-416F4095FFCE}" presName="connTx" presStyleLbl="parChTrans1D2" presStyleIdx="1" presStyleCnt="7"/>
      <dgm:spPr/>
      <dgm:t>
        <a:bodyPr/>
        <a:lstStyle/>
        <a:p>
          <a:pPr rtl="1"/>
          <a:endParaRPr lang="ar-IQ"/>
        </a:p>
      </dgm:t>
    </dgm:pt>
    <dgm:pt modelId="{647ACC12-814B-4142-B2BA-27D9D1FCB0DC}" type="pres">
      <dgm:prSet presAssocID="{FD2F5392-3E70-4DF4-918D-30598F2E174F}" presName="node" presStyleLbl="node1" presStyleIdx="1" presStyleCnt="7" custRadScaleRad="134366" custRadScaleInc="12809">
        <dgm:presLayoutVars>
          <dgm:bulletEnabled val="1"/>
        </dgm:presLayoutVars>
      </dgm:prSet>
      <dgm:spPr>
        <a:prstGeom prst="roundRect">
          <a:avLst/>
        </a:prstGeom>
      </dgm:spPr>
      <dgm:t>
        <a:bodyPr/>
        <a:lstStyle/>
        <a:p>
          <a:pPr rtl="1"/>
          <a:endParaRPr lang="ar-IQ"/>
        </a:p>
      </dgm:t>
    </dgm:pt>
    <dgm:pt modelId="{B2635650-1CEA-45D1-913E-4F805A13FFD5}" type="pres">
      <dgm:prSet presAssocID="{53780F10-6E89-46D3-B06B-AB53403A8431}" presName="Name9" presStyleLbl="parChTrans1D2" presStyleIdx="2" presStyleCnt="7"/>
      <dgm:spPr/>
      <dgm:t>
        <a:bodyPr/>
        <a:lstStyle/>
        <a:p>
          <a:endParaRPr lang="en-US"/>
        </a:p>
      </dgm:t>
    </dgm:pt>
    <dgm:pt modelId="{0CD87C67-7E1A-49EB-84D0-0CD92AE199CC}" type="pres">
      <dgm:prSet presAssocID="{53780F10-6E89-46D3-B06B-AB53403A8431}" presName="connTx" presStyleLbl="parChTrans1D2" presStyleIdx="2" presStyleCnt="7"/>
      <dgm:spPr/>
      <dgm:t>
        <a:bodyPr/>
        <a:lstStyle/>
        <a:p>
          <a:endParaRPr lang="en-US"/>
        </a:p>
      </dgm:t>
    </dgm:pt>
    <dgm:pt modelId="{F07DFC37-284B-48E2-8229-EA801AF9DE0D}" type="pres">
      <dgm:prSet presAssocID="{67A00BF0-259E-43B5-9A07-AC16F35EE0AA}" presName="node" presStyleLbl="node1" presStyleIdx="2" presStyleCnt="7" custRadScaleRad="135582" custRadScaleInc="-7081">
        <dgm:presLayoutVars>
          <dgm:bulletEnabled val="1"/>
        </dgm:presLayoutVars>
      </dgm:prSet>
      <dgm:spPr>
        <a:prstGeom prst="roundRect">
          <a:avLst/>
        </a:prstGeom>
      </dgm:spPr>
      <dgm:t>
        <a:bodyPr/>
        <a:lstStyle/>
        <a:p>
          <a:endParaRPr lang="en-US"/>
        </a:p>
      </dgm:t>
    </dgm:pt>
    <dgm:pt modelId="{5C9FC559-0B98-4B54-9F89-3730D691E890}" type="pres">
      <dgm:prSet presAssocID="{96CE8C97-5108-4B97-AE4D-E380A09C0A6D}" presName="Name9" presStyleLbl="parChTrans1D2" presStyleIdx="3" presStyleCnt="7"/>
      <dgm:spPr/>
      <dgm:t>
        <a:bodyPr/>
        <a:lstStyle/>
        <a:p>
          <a:endParaRPr lang="en-US"/>
        </a:p>
      </dgm:t>
    </dgm:pt>
    <dgm:pt modelId="{13CF2C14-BE86-4FA8-B1A6-55CC5B788689}" type="pres">
      <dgm:prSet presAssocID="{96CE8C97-5108-4B97-AE4D-E380A09C0A6D}" presName="connTx" presStyleLbl="parChTrans1D2" presStyleIdx="3" presStyleCnt="7"/>
      <dgm:spPr/>
      <dgm:t>
        <a:bodyPr/>
        <a:lstStyle/>
        <a:p>
          <a:endParaRPr lang="en-US"/>
        </a:p>
      </dgm:t>
    </dgm:pt>
    <dgm:pt modelId="{0B3D66E7-B99F-4D87-B8BC-507CA3E92581}" type="pres">
      <dgm:prSet presAssocID="{E8301AA5-D93C-42D0-B424-6A7ECE1D32DC}" presName="node" presStyleLbl="node1" presStyleIdx="3" presStyleCnt="7" custRadScaleRad="109345" custRadScaleInc="-36625">
        <dgm:presLayoutVars>
          <dgm:bulletEnabled val="1"/>
        </dgm:presLayoutVars>
      </dgm:prSet>
      <dgm:spPr>
        <a:prstGeom prst="roundRect">
          <a:avLst/>
        </a:prstGeom>
      </dgm:spPr>
      <dgm:t>
        <a:bodyPr/>
        <a:lstStyle/>
        <a:p>
          <a:endParaRPr lang="en-US"/>
        </a:p>
      </dgm:t>
    </dgm:pt>
    <dgm:pt modelId="{3D26412C-C30B-4B63-BF7F-EE0D875FAD09}" type="pres">
      <dgm:prSet presAssocID="{A3BB9C17-BB6B-4FD8-9861-7619A07E3324}" presName="Name9" presStyleLbl="parChTrans1D2" presStyleIdx="4" presStyleCnt="7"/>
      <dgm:spPr/>
      <dgm:t>
        <a:bodyPr/>
        <a:lstStyle/>
        <a:p>
          <a:endParaRPr lang="en-US"/>
        </a:p>
      </dgm:t>
    </dgm:pt>
    <dgm:pt modelId="{8C11A41A-E9FB-4F82-A224-20FDDD656CEA}" type="pres">
      <dgm:prSet presAssocID="{A3BB9C17-BB6B-4FD8-9861-7619A07E3324}" presName="connTx" presStyleLbl="parChTrans1D2" presStyleIdx="4" presStyleCnt="7"/>
      <dgm:spPr/>
      <dgm:t>
        <a:bodyPr/>
        <a:lstStyle/>
        <a:p>
          <a:endParaRPr lang="en-US"/>
        </a:p>
      </dgm:t>
    </dgm:pt>
    <dgm:pt modelId="{EBE91A0D-130D-4839-A340-84CC6E52AD94}" type="pres">
      <dgm:prSet presAssocID="{FA94F127-557C-404C-B96C-5668B7294530}" presName="node" presStyleLbl="node1" presStyleIdx="4" presStyleCnt="7" custRadScaleRad="114640" custRadScaleInc="39935">
        <dgm:presLayoutVars>
          <dgm:bulletEnabled val="1"/>
        </dgm:presLayoutVars>
      </dgm:prSet>
      <dgm:spPr>
        <a:prstGeom prst="roundRect">
          <a:avLst/>
        </a:prstGeom>
      </dgm:spPr>
      <dgm:t>
        <a:bodyPr/>
        <a:lstStyle/>
        <a:p>
          <a:endParaRPr lang="en-US"/>
        </a:p>
      </dgm:t>
    </dgm:pt>
    <dgm:pt modelId="{E5F7ABEC-7513-4549-A33D-AE1570B75E8E}" type="pres">
      <dgm:prSet presAssocID="{84F8A8CA-0AF9-4FE7-9B77-7ED1B43B67D6}" presName="Name9" presStyleLbl="parChTrans1D2" presStyleIdx="5" presStyleCnt="7"/>
      <dgm:spPr/>
      <dgm:t>
        <a:bodyPr/>
        <a:lstStyle/>
        <a:p>
          <a:pPr rtl="1"/>
          <a:endParaRPr lang="ar-IQ"/>
        </a:p>
      </dgm:t>
    </dgm:pt>
    <dgm:pt modelId="{ECC07D68-FBA6-41FE-92E5-2D9A3609A86C}" type="pres">
      <dgm:prSet presAssocID="{84F8A8CA-0AF9-4FE7-9B77-7ED1B43B67D6}" presName="connTx" presStyleLbl="parChTrans1D2" presStyleIdx="5" presStyleCnt="7"/>
      <dgm:spPr/>
      <dgm:t>
        <a:bodyPr/>
        <a:lstStyle/>
        <a:p>
          <a:pPr rtl="1"/>
          <a:endParaRPr lang="ar-IQ"/>
        </a:p>
      </dgm:t>
    </dgm:pt>
    <dgm:pt modelId="{5F831472-07E0-454B-8C54-130BE6279CE6}" type="pres">
      <dgm:prSet presAssocID="{0838E3B7-0C0F-413B-ACF9-BB7952E2F580}" presName="node" presStyleLbl="node1" presStyleIdx="5" presStyleCnt="7" custRadScaleRad="139936" custRadScaleInc="8432">
        <dgm:presLayoutVars>
          <dgm:bulletEnabled val="1"/>
        </dgm:presLayoutVars>
      </dgm:prSet>
      <dgm:spPr>
        <a:prstGeom prst="roundRect">
          <a:avLst/>
        </a:prstGeom>
      </dgm:spPr>
      <dgm:t>
        <a:bodyPr/>
        <a:lstStyle/>
        <a:p>
          <a:pPr rtl="1"/>
          <a:endParaRPr lang="ar-IQ"/>
        </a:p>
      </dgm:t>
    </dgm:pt>
    <dgm:pt modelId="{E63B6ACA-DD40-47B0-82E9-87CF5234C47E}" type="pres">
      <dgm:prSet presAssocID="{D5B9971D-3C40-4CC8-84E9-1F9D1A2533AC}" presName="Name9" presStyleLbl="parChTrans1D2" presStyleIdx="6" presStyleCnt="7"/>
      <dgm:spPr/>
      <dgm:t>
        <a:bodyPr/>
        <a:lstStyle/>
        <a:p>
          <a:pPr rtl="1"/>
          <a:endParaRPr lang="ar-IQ"/>
        </a:p>
      </dgm:t>
    </dgm:pt>
    <dgm:pt modelId="{C102E469-1C75-4CB1-9039-E6715B79D881}" type="pres">
      <dgm:prSet presAssocID="{D5B9971D-3C40-4CC8-84E9-1F9D1A2533AC}" presName="connTx" presStyleLbl="parChTrans1D2" presStyleIdx="6" presStyleCnt="7"/>
      <dgm:spPr/>
      <dgm:t>
        <a:bodyPr/>
        <a:lstStyle/>
        <a:p>
          <a:pPr rtl="1"/>
          <a:endParaRPr lang="ar-IQ"/>
        </a:p>
      </dgm:t>
    </dgm:pt>
    <dgm:pt modelId="{5E7F461E-A119-4DFB-9115-B21EF6A9F729}" type="pres">
      <dgm:prSet presAssocID="{F4548D41-BC57-4986-81E6-040D9A643A16}" presName="node" presStyleLbl="node1" presStyleIdx="6" presStyleCnt="7" custScaleX="117626" custRadScaleRad="135049" custRadScaleInc="-26808">
        <dgm:presLayoutVars>
          <dgm:bulletEnabled val="1"/>
        </dgm:presLayoutVars>
      </dgm:prSet>
      <dgm:spPr>
        <a:prstGeom prst="roundRect">
          <a:avLst/>
        </a:prstGeom>
      </dgm:spPr>
      <dgm:t>
        <a:bodyPr/>
        <a:lstStyle/>
        <a:p>
          <a:pPr rtl="1"/>
          <a:endParaRPr lang="ar-IQ"/>
        </a:p>
      </dgm:t>
    </dgm:pt>
  </dgm:ptLst>
  <dgm:cxnLst>
    <dgm:cxn modelId="{19916207-A2FB-448F-873C-714C896112F9}" type="presOf" srcId="{58EAB211-7B14-4548-BA97-837601EB4BC9}" destId="{BDF1C9B8-91CF-4D59-AD7F-61483EB2367E}" srcOrd="0" destOrd="0" presId="urn:microsoft.com/office/officeart/2005/8/layout/radial1"/>
    <dgm:cxn modelId="{93F0E789-485D-432C-B9C5-D12CEE06988A}" type="presOf" srcId="{A3BB9C17-BB6B-4FD8-9861-7619A07E3324}" destId="{3D26412C-C30B-4B63-BF7F-EE0D875FAD09}" srcOrd="0" destOrd="0" presId="urn:microsoft.com/office/officeart/2005/8/layout/radial1"/>
    <dgm:cxn modelId="{29E478EB-F771-4349-AAB7-9D9C042BA368}" type="presOf" srcId="{0838E3B7-0C0F-413B-ACF9-BB7952E2F580}" destId="{5F831472-07E0-454B-8C54-130BE6279CE6}" srcOrd="0" destOrd="0" presId="urn:microsoft.com/office/officeart/2005/8/layout/radial1"/>
    <dgm:cxn modelId="{34B637C4-D196-44E1-8073-22404F73F9FF}" type="presOf" srcId="{06B98842-53FC-49B3-869C-416F4095FFCE}" destId="{FF704F00-6BA4-4916-B465-54BF524D5745}" srcOrd="1" destOrd="0" presId="urn:microsoft.com/office/officeart/2005/8/layout/radial1"/>
    <dgm:cxn modelId="{1E7A7916-68E0-4B61-9D96-F318921EB9EF}" type="presOf" srcId="{F4548D41-BC57-4986-81E6-040D9A643A16}" destId="{5E7F461E-A119-4DFB-9115-B21EF6A9F729}" srcOrd="0" destOrd="0" presId="urn:microsoft.com/office/officeart/2005/8/layout/radial1"/>
    <dgm:cxn modelId="{2BD54C08-3174-4299-8929-0A0A27977280}" type="presOf" srcId="{D5B9971D-3C40-4CC8-84E9-1F9D1A2533AC}" destId="{C102E469-1C75-4CB1-9039-E6715B79D881}" srcOrd="1" destOrd="0" presId="urn:microsoft.com/office/officeart/2005/8/layout/radial1"/>
    <dgm:cxn modelId="{0743A72B-5470-4F82-AD6B-A74340E280CC}" type="presOf" srcId="{E8301AA5-D93C-42D0-B424-6A7ECE1D32DC}" destId="{0B3D66E7-B99F-4D87-B8BC-507CA3E92581}" srcOrd="0" destOrd="0" presId="urn:microsoft.com/office/officeart/2005/8/layout/radial1"/>
    <dgm:cxn modelId="{4D4E80B7-4CA9-44A3-8B30-8369F0F3DC5F}" srcId="{58EAB211-7B14-4548-BA97-837601EB4BC9}" destId="{E8301AA5-D93C-42D0-B424-6A7ECE1D32DC}" srcOrd="3" destOrd="0" parTransId="{96CE8C97-5108-4B97-AE4D-E380A09C0A6D}" sibTransId="{BEE40209-B547-4425-A34E-34D600D8581D}"/>
    <dgm:cxn modelId="{F2C4718A-F36A-410A-9B81-2A0B146C9217}" srcId="{58EAB211-7B14-4548-BA97-837601EB4BC9}" destId="{F4548D41-BC57-4986-81E6-040D9A643A16}" srcOrd="6" destOrd="0" parTransId="{D5B9971D-3C40-4CC8-84E9-1F9D1A2533AC}" sibTransId="{B31BCE0B-5B3C-451D-982A-ED35D9566F45}"/>
    <dgm:cxn modelId="{CF0ECDB3-DC85-4B96-ADE9-FB84EF4EC867}" type="presOf" srcId="{532E877A-AC8D-4F96-9BBF-310409FB56BB}" destId="{BA1F2A44-D762-4047-AA33-9D1D12741C5B}" srcOrd="0" destOrd="0" presId="urn:microsoft.com/office/officeart/2005/8/layout/radial1"/>
    <dgm:cxn modelId="{08DDF6FC-DC83-4894-9B82-6F60EF3A0159}" type="presOf" srcId="{A3BB9C17-BB6B-4FD8-9861-7619A07E3324}" destId="{8C11A41A-E9FB-4F82-A224-20FDDD656CEA}" srcOrd="1" destOrd="0" presId="urn:microsoft.com/office/officeart/2005/8/layout/radial1"/>
    <dgm:cxn modelId="{22C396B7-C7AB-462F-A2DC-17C2656BAE39}" type="presOf" srcId="{96CE8C97-5108-4B97-AE4D-E380A09C0A6D}" destId="{5C9FC559-0B98-4B54-9F89-3730D691E890}" srcOrd="0" destOrd="0" presId="urn:microsoft.com/office/officeart/2005/8/layout/radial1"/>
    <dgm:cxn modelId="{4263A680-1E7C-4E26-8069-DF949DE323C9}" type="presOf" srcId="{06B98842-53FC-49B3-869C-416F4095FFCE}" destId="{E5A29B91-308E-4FDC-A6DB-DFDCFB8D857D}" srcOrd="0" destOrd="0" presId="urn:microsoft.com/office/officeart/2005/8/layout/radial1"/>
    <dgm:cxn modelId="{4CBB05F4-A037-4F53-8838-2B2E9772188F}" type="presOf" srcId="{FD2F5392-3E70-4DF4-918D-30598F2E174F}" destId="{647ACC12-814B-4142-B2BA-27D9D1FCB0DC}" srcOrd="0" destOrd="0" presId="urn:microsoft.com/office/officeart/2005/8/layout/radial1"/>
    <dgm:cxn modelId="{0FC892AC-1949-4C79-A105-501E5ECBA3E5}" srcId="{58EAB211-7B14-4548-BA97-837601EB4BC9}" destId="{FA94F127-557C-404C-B96C-5668B7294530}" srcOrd="4" destOrd="0" parTransId="{A3BB9C17-BB6B-4FD8-9861-7619A07E3324}" sibTransId="{DAABFBEA-216B-48AC-850D-215ED6C3F2BD}"/>
    <dgm:cxn modelId="{83EDB351-3B1D-4CA4-A472-9ADFB9AD678E}" srcId="{58EAB211-7B14-4548-BA97-837601EB4BC9}" destId="{67A00BF0-259E-43B5-9A07-AC16F35EE0AA}" srcOrd="2" destOrd="0" parTransId="{53780F10-6E89-46D3-B06B-AB53403A8431}" sibTransId="{3E43A518-DE48-4696-A787-4D6EBAA6C87F}"/>
    <dgm:cxn modelId="{414C19E1-6BFF-4743-A65E-D0940F695F7B}" type="presOf" srcId="{96CE8C97-5108-4B97-AE4D-E380A09C0A6D}" destId="{13CF2C14-BE86-4FA8-B1A6-55CC5B788689}" srcOrd="1" destOrd="0" presId="urn:microsoft.com/office/officeart/2005/8/layout/radial1"/>
    <dgm:cxn modelId="{097C684E-81C6-4488-927D-7C19E0046F4C}" type="presOf" srcId="{53780F10-6E89-46D3-B06B-AB53403A8431}" destId="{0CD87C67-7E1A-49EB-84D0-0CD92AE199CC}" srcOrd="1" destOrd="0" presId="urn:microsoft.com/office/officeart/2005/8/layout/radial1"/>
    <dgm:cxn modelId="{D818D43C-42FE-4585-A959-70A2C688961C}" type="presOf" srcId="{85998E15-3147-437F-93B0-3C13BFC68A88}" destId="{BB2865B2-C43D-4930-9E4C-07E3FAE9ABB1}" srcOrd="0" destOrd="0" presId="urn:microsoft.com/office/officeart/2005/8/layout/radial1"/>
    <dgm:cxn modelId="{6BA505EB-E1C3-4615-9161-E6FD0E038052}" type="presOf" srcId="{84F8A8CA-0AF9-4FE7-9B77-7ED1B43B67D6}" destId="{ECC07D68-FBA6-41FE-92E5-2D9A3609A86C}" srcOrd="1" destOrd="0" presId="urn:microsoft.com/office/officeart/2005/8/layout/radial1"/>
    <dgm:cxn modelId="{E7EBA746-8A52-4859-A471-97F907D31DF2}" srcId="{C2EDAA03-D3B9-4CF2-8420-B1F71D5430FE}" destId="{58EAB211-7B14-4548-BA97-837601EB4BC9}" srcOrd="0" destOrd="0" parTransId="{3CB64698-2374-4121-8253-BE1AA220FD5B}" sibTransId="{55F99BA9-FA9E-4564-A22E-F2FFB28783B9}"/>
    <dgm:cxn modelId="{04BF6207-B062-4984-8BE5-183267F62049}" type="presOf" srcId="{67A00BF0-259E-43B5-9A07-AC16F35EE0AA}" destId="{F07DFC37-284B-48E2-8229-EA801AF9DE0D}" srcOrd="0" destOrd="0" presId="urn:microsoft.com/office/officeart/2005/8/layout/radial1"/>
    <dgm:cxn modelId="{D6E5265D-4A89-452D-90DB-4634235F2EBC}" type="presOf" srcId="{53780F10-6E89-46D3-B06B-AB53403A8431}" destId="{B2635650-1CEA-45D1-913E-4F805A13FFD5}" srcOrd="0" destOrd="0" presId="urn:microsoft.com/office/officeart/2005/8/layout/radial1"/>
    <dgm:cxn modelId="{034468B4-5CC1-4A06-8297-B83A06D5091E}" type="presOf" srcId="{C2EDAA03-D3B9-4CF2-8420-B1F71D5430FE}" destId="{D4B7181F-950A-4D95-9E59-DC7D5E3FDF86}" srcOrd="0" destOrd="0" presId="urn:microsoft.com/office/officeart/2005/8/layout/radial1"/>
    <dgm:cxn modelId="{691691ED-2CB6-4229-B3DC-AE2343946EB0}" srcId="{58EAB211-7B14-4548-BA97-837601EB4BC9}" destId="{85998E15-3147-437F-93B0-3C13BFC68A88}" srcOrd="0" destOrd="0" parTransId="{532E877A-AC8D-4F96-9BBF-310409FB56BB}" sibTransId="{3D10487C-0286-4539-99F5-10EA89AAA334}"/>
    <dgm:cxn modelId="{24A1B6AC-3D26-4137-BC79-FFBDDCBA74DA}" srcId="{58EAB211-7B14-4548-BA97-837601EB4BC9}" destId="{FD2F5392-3E70-4DF4-918D-30598F2E174F}" srcOrd="1" destOrd="0" parTransId="{06B98842-53FC-49B3-869C-416F4095FFCE}" sibTransId="{0DDC937E-B6DC-40EB-8815-E7F39BBAF51C}"/>
    <dgm:cxn modelId="{A90A1607-8A0A-45B2-9F01-9604FAB06EF1}" type="presOf" srcId="{84F8A8CA-0AF9-4FE7-9B77-7ED1B43B67D6}" destId="{E5F7ABEC-7513-4549-A33D-AE1570B75E8E}" srcOrd="0" destOrd="0" presId="urn:microsoft.com/office/officeart/2005/8/layout/radial1"/>
    <dgm:cxn modelId="{327AB6C0-07C0-48B1-B304-DD5A4D3FF78C}" srcId="{58EAB211-7B14-4548-BA97-837601EB4BC9}" destId="{0838E3B7-0C0F-413B-ACF9-BB7952E2F580}" srcOrd="5" destOrd="0" parTransId="{84F8A8CA-0AF9-4FE7-9B77-7ED1B43B67D6}" sibTransId="{AA9BECBC-67E1-4D9B-9076-9A7332D3E600}"/>
    <dgm:cxn modelId="{98343F66-7C4E-4A46-8784-9BD5A8FB030F}" type="presOf" srcId="{FA94F127-557C-404C-B96C-5668B7294530}" destId="{EBE91A0D-130D-4839-A340-84CC6E52AD94}" srcOrd="0" destOrd="0" presId="urn:microsoft.com/office/officeart/2005/8/layout/radial1"/>
    <dgm:cxn modelId="{DFD34431-456C-42BB-8394-B9DBB0EEDB6F}" type="presOf" srcId="{D5B9971D-3C40-4CC8-84E9-1F9D1A2533AC}" destId="{E63B6ACA-DD40-47B0-82E9-87CF5234C47E}" srcOrd="0" destOrd="0" presId="urn:microsoft.com/office/officeart/2005/8/layout/radial1"/>
    <dgm:cxn modelId="{001975DA-71ED-49A3-94FB-E8427EDE7225}" type="presOf" srcId="{532E877A-AC8D-4F96-9BBF-310409FB56BB}" destId="{45D3BE78-6E92-4E80-9A5F-FCBCA07792D6}" srcOrd="1" destOrd="0" presId="urn:microsoft.com/office/officeart/2005/8/layout/radial1"/>
    <dgm:cxn modelId="{DD151E56-A752-4626-98A5-9307C2DF2C3D}" type="presParOf" srcId="{D4B7181F-950A-4D95-9E59-DC7D5E3FDF86}" destId="{BDF1C9B8-91CF-4D59-AD7F-61483EB2367E}" srcOrd="0" destOrd="0" presId="urn:microsoft.com/office/officeart/2005/8/layout/radial1"/>
    <dgm:cxn modelId="{E6141B94-6FA3-469D-8980-3C019EFA723F}" type="presParOf" srcId="{D4B7181F-950A-4D95-9E59-DC7D5E3FDF86}" destId="{BA1F2A44-D762-4047-AA33-9D1D12741C5B}" srcOrd="1" destOrd="0" presId="urn:microsoft.com/office/officeart/2005/8/layout/radial1"/>
    <dgm:cxn modelId="{FE125E3B-DDA7-405C-BF8B-3A74FCE98BF2}" type="presParOf" srcId="{BA1F2A44-D762-4047-AA33-9D1D12741C5B}" destId="{45D3BE78-6E92-4E80-9A5F-FCBCA07792D6}" srcOrd="0" destOrd="0" presId="urn:microsoft.com/office/officeart/2005/8/layout/radial1"/>
    <dgm:cxn modelId="{D3E54D8B-B921-499C-9644-13CE1F845B8C}" type="presParOf" srcId="{D4B7181F-950A-4D95-9E59-DC7D5E3FDF86}" destId="{BB2865B2-C43D-4930-9E4C-07E3FAE9ABB1}" srcOrd="2" destOrd="0" presId="urn:microsoft.com/office/officeart/2005/8/layout/radial1"/>
    <dgm:cxn modelId="{AE304328-9EC0-4FEB-9DA6-4D3EF5F60194}" type="presParOf" srcId="{D4B7181F-950A-4D95-9E59-DC7D5E3FDF86}" destId="{E5A29B91-308E-4FDC-A6DB-DFDCFB8D857D}" srcOrd="3" destOrd="0" presId="urn:microsoft.com/office/officeart/2005/8/layout/radial1"/>
    <dgm:cxn modelId="{45C5358F-8C55-46C5-8D2A-9091616031C3}" type="presParOf" srcId="{E5A29B91-308E-4FDC-A6DB-DFDCFB8D857D}" destId="{FF704F00-6BA4-4916-B465-54BF524D5745}" srcOrd="0" destOrd="0" presId="urn:microsoft.com/office/officeart/2005/8/layout/radial1"/>
    <dgm:cxn modelId="{5A15E6EC-C29A-4EC0-85CC-8F0EEA6E9E41}" type="presParOf" srcId="{D4B7181F-950A-4D95-9E59-DC7D5E3FDF86}" destId="{647ACC12-814B-4142-B2BA-27D9D1FCB0DC}" srcOrd="4" destOrd="0" presId="urn:microsoft.com/office/officeart/2005/8/layout/radial1"/>
    <dgm:cxn modelId="{B624CDCF-CFE3-46D3-8183-D500E3215DE6}" type="presParOf" srcId="{D4B7181F-950A-4D95-9E59-DC7D5E3FDF86}" destId="{B2635650-1CEA-45D1-913E-4F805A13FFD5}" srcOrd="5" destOrd="0" presId="urn:microsoft.com/office/officeart/2005/8/layout/radial1"/>
    <dgm:cxn modelId="{33109165-10B6-4D78-B108-ECCD40A6B96B}" type="presParOf" srcId="{B2635650-1CEA-45D1-913E-4F805A13FFD5}" destId="{0CD87C67-7E1A-49EB-84D0-0CD92AE199CC}" srcOrd="0" destOrd="0" presId="urn:microsoft.com/office/officeart/2005/8/layout/radial1"/>
    <dgm:cxn modelId="{BEBB1511-1373-4265-8F17-23999521B054}" type="presParOf" srcId="{D4B7181F-950A-4D95-9E59-DC7D5E3FDF86}" destId="{F07DFC37-284B-48E2-8229-EA801AF9DE0D}" srcOrd="6" destOrd="0" presId="urn:microsoft.com/office/officeart/2005/8/layout/radial1"/>
    <dgm:cxn modelId="{A3CE533B-7E7C-474D-A48D-64D8A51D7232}" type="presParOf" srcId="{D4B7181F-950A-4D95-9E59-DC7D5E3FDF86}" destId="{5C9FC559-0B98-4B54-9F89-3730D691E890}" srcOrd="7" destOrd="0" presId="urn:microsoft.com/office/officeart/2005/8/layout/radial1"/>
    <dgm:cxn modelId="{0093D177-B84E-4365-86DE-47B1C7AE0C1C}" type="presParOf" srcId="{5C9FC559-0B98-4B54-9F89-3730D691E890}" destId="{13CF2C14-BE86-4FA8-B1A6-55CC5B788689}" srcOrd="0" destOrd="0" presId="urn:microsoft.com/office/officeart/2005/8/layout/radial1"/>
    <dgm:cxn modelId="{D5B85EFD-E199-40F2-A5B8-7D351F7687D0}" type="presParOf" srcId="{D4B7181F-950A-4D95-9E59-DC7D5E3FDF86}" destId="{0B3D66E7-B99F-4D87-B8BC-507CA3E92581}" srcOrd="8" destOrd="0" presId="urn:microsoft.com/office/officeart/2005/8/layout/radial1"/>
    <dgm:cxn modelId="{3ABDBDDD-EC5F-46BB-BA24-B9E4C2EBFBAA}" type="presParOf" srcId="{D4B7181F-950A-4D95-9E59-DC7D5E3FDF86}" destId="{3D26412C-C30B-4B63-BF7F-EE0D875FAD09}" srcOrd="9" destOrd="0" presId="urn:microsoft.com/office/officeart/2005/8/layout/radial1"/>
    <dgm:cxn modelId="{CA1D3161-CF31-40F4-BCEC-2CBCB72D2F77}" type="presParOf" srcId="{3D26412C-C30B-4B63-BF7F-EE0D875FAD09}" destId="{8C11A41A-E9FB-4F82-A224-20FDDD656CEA}" srcOrd="0" destOrd="0" presId="urn:microsoft.com/office/officeart/2005/8/layout/radial1"/>
    <dgm:cxn modelId="{9B2052E0-52A8-46A1-8A35-A42B331462DD}" type="presParOf" srcId="{D4B7181F-950A-4D95-9E59-DC7D5E3FDF86}" destId="{EBE91A0D-130D-4839-A340-84CC6E52AD94}" srcOrd="10" destOrd="0" presId="urn:microsoft.com/office/officeart/2005/8/layout/radial1"/>
    <dgm:cxn modelId="{307C72AF-62C3-4DB8-AB0A-E45561DF2AE6}" type="presParOf" srcId="{D4B7181F-950A-4D95-9E59-DC7D5E3FDF86}" destId="{E5F7ABEC-7513-4549-A33D-AE1570B75E8E}" srcOrd="11" destOrd="0" presId="urn:microsoft.com/office/officeart/2005/8/layout/radial1"/>
    <dgm:cxn modelId="{715B888A-B5B2-408C-B922-9BF46481BDB6}" type="presParOf" srcId="{E5F7ABEC-7513-4549-A33D-AE1570B75E8E}" destId="{ECC07D68-FBA6-41FE-92E5-2D9A3609A86C}" srcOrd="0" destOrd="0" presId="urn:microsoft.com/office/officeart/2005/8/layout/radial1"/>
    <dgm:cxn modelId="{B30D95D1-1B7A-474E-B7DC-42ACC58AAB58}" type="presParOf" srcId="{D4B7181F-950A-4D95-9E59-DC7D5E3FDF86}" destId="{5F831472-07E0-454B-8C54-130BE6279CE6}" srcOrd="12" destOrd="0" presId="urn:microsoft.com/office/officeart/2005/8/layout/radial1"/>
    <dgm:cxn modelId="{43E8C098-73C2-48A8-A07B-37D5886992AF}" type="presParOf" srcId="{D4B7181F-950A-4D95-9E59-DC7D5E3FDF86}" destId="{E63B6ACA-DD40-47B0-82E9-87CF5234C47E}" srcOrd="13" destOrd="0" presId="urn:microsoft.com/office/officeart/2005/8/layout/radial1"/>
    <dgm:cxn modelId="{A8DEE767-5C5E-4528-8667-BEBD73248511}" type="presParOf" srcId="{E63B6ACA-DD40-47B0-82E9-87CF5234C47E}" destId="{C102E469-1C75-4CB1-9039-E6715B79D881}" srcOrd="0" destOrd="0" presId="urn:microsoft.com/office/officeart/2005/8/layout/radial1"/>
    <dgm:cxn modelId="{2DD360E0-341E-47F4-B70F-AF7C93708A75}" type="presParOf" srcId="{D4B7181F-950A-4D95-9E59-DC7D5E3FDF86}" destId="{5E7F461E-A119-4DFB-9115-B21EF6A9F729}" srcOrd="14"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B6B6CB86-0B53-4D42-91A0-4C5F1607F5A9}">
      <dsp:nvSpPr>
        <dsp:cNvPr id="0" name=""/>
        <dsp:cNvSpPr/>
      </dsp:nvSpPr>
      <dsp:spPr>
        <a:xfrm>
          <a:off x="4036797" y="1202996"/>
          <a:ext cx="2989805" cy="841833"/>
        </a:xfrm>
        <a:custGeom>
          <a:avLst/>
          <a:gdLst/>
          <a:ahLst/>
          <a:cxnLst/>
          <a:rect l="0" t="0" r="0" b="0"/>
          <a:pathLst>
            <a:path>
              <a:moveTo>
                <a:pt x="0" y="0"/>
              </a:moveTo>
              <a:lnTo>
                <a:pt x="0" y="589204"/>
              </a:lnTo>
              <a:lnTo>
                <a:pt x="2989805" y="589204"/>
              </a:lnTo>
              <a:lnTo>
                <a:pt x="2989805"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07FBBBD-5C5F-47EF-BDF7-AADBB469DDB6}">
      <dsp:nvSpPr>
        <dsp:cNvPr id="0" name=""/>
        <dsp:cNvSpPr/>
      </dsp:nvSpPr>
      <dsp:spPr>
        <a:xfrm>
          <a:off x="3975944" y="1202996"/>
          <a:ext cx="91440" cy="841833"/>
        </a:xfrm>
        <a:custGeom>
          <a:avLst/>
          <a:gdLst/>
          <a:ahLst/>
          <a:cxnLst/>
          <a:rect l="0" t="0" r="0" b="0"/>
          <a:pathLst>
            <a:path>
              <a:moveTo>
                <a:pt x="60853" y="0"/>
              </a:moveTo>
              <a:lnTo>
                <a:pt x="60853" y="589204"/>
              </a:lnTo>
              <a:lnTo>
                <a:pt x="45720" y="589204"/>
              </a:lnTo>
              <a:lnTo>
                <a:pt x="45720"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42262EE-03C4-4C8E-9C16-FE87948E6F4D}">
      <dsp:nvSpPr>
        <dsp:cNvPr id="0" name=""/>
        <dsp:cNvSpPr/>
      </dsp:nvSpPr>
      <dsp:spPr>
        <a:xfrm>
          <a:off x="1285352" y="1202996"/>
          <a:ext cx="2751445" cy="841833"/>
        </a:xfrm>
        <a:custGeom>
          <a:avLst/>
          <a:gdLst/>
          <a:ahLst/>
          <a:cxnLst/>
          <a:rect l="0" t="0" r="0" b="0"/>
          <a:pathLst>
            <a:path>
              <a:moveTo>
                <a:pt x="2751445" y="0"/>
              </a:moveTo>
              <a:lnTo>
                <a:pt x="2751445" y="589204"/>
              </a:lnTo>
              <a:lnTo>
                <a:pt x="0" y="589204"/>
              </a:lnTo>
              <a:lnTo>
                <a:pt x="0"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56DC922B-2013-4021-8D9F-6A5BE14CB496}">
      <dsp:nvSpPr>
        <dsp:cNvPr id="0" name=""/>
        <dsp:cNvSpPr/>
      </dsp:nvSpPr>
      <dsp:spPr>
        <a:xfrm>
          <a:off x="874433" y="0"/>
          <a:ext cx="6324729"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en-US" sz="4300" kern="1200" dirty="0" smtClean="0"/>
            <a:t>Strategic management</a:t>
          </a:r>
          <a:endParaRPr lang="ar-IQ" sz="4300" kern="1200" dirty="0"/>
        </a:p>
      </dsp:txBody>
      <dsp:txXfrm>
        <a:off x="874433" y="0"/>
        <a:ext cx="6324729" cy="1202996"/>
      </dsp:txXfrm>
    </dsp:sp>
    <dsp:sp modelId="{EF814652-9F5F-422C-94ED-17DE345AC16E}">
      <dsp:nvSpPr>
        <dsp:cNvPr id="0" name=""/>
        <dsp:cNvSpPr/>
      </dsp:nvSpPr>
      <dsp:spPr>
        <a:xfrm>
          <a:off x="82356"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err="1" smtClean="0"/>
            <a:t>اهم</a:t>
          </a:r>
          <a:r>
            <a:rPr lang="ar-IQ" sz="4300" kern="1200" dirty="0" smtClean="0"/>
            <a:t> </a:t>
          </a:r>
          <a:r>
            <a:rPr lang="ar-IQ" sz="4300" kern="1200" dirty="0" err="1" smtClean="0"/>
            <a:t>التعاريف</a:t>
          </a:r>
          <a:endParaRPr lang="ar-IQ" sz="4300" kern="1200" dirty="0"/>
        </a:p>
      </dsp:txBody>
      <dsp:txXfrm>
        <a:off x="82356" y="2044830"/>
        <a:ext cx="2405992" cy="1202996"/>
      </dsp:txXfrm>
    </dsp:sp>
    <dsp:sp modelId="{1421A480-BCCE-4561-895A-F4BA412E9454}">
      <dsp:nvSpPr>
        <dsp:cNvPr id="0" name=""/>
        <dsp:cNvSpPr/>
      </dsp:nvSpPr>
      <dsp:spPr>
        <a:xfrm>
          <a:off x="2818667"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smtClean="0"/>
            <a:t>عقد السبعينات</a:t>
          </a:r>
          <a:endParaRPr lang="ar-IQ" sz="4300" kern="1200" dirty="0"/>
        </a:p>
      </dsp:txBody>
      <dsp:txXfrm>
        <a:off x="2818667" y="2044830"/>
        <a:ext cx="2405992" cy="1202996"/>
      </dsp:txXfrm>
    </dsp:sp>
    <dsp:sp modelId="{76DF35C2-6F02-4DD0-8D5D-12635CC998A6}">
      <dsp:nvSpPr>
        <dsp:cNvPr id="0" name=""/>
        <dsp:cNvSpPr/>
      </dsp:nvSpPr>
      <dsp:spPr>
        <a:xfrm>
          <a:off x="5823607"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smtClean="0"/>
            <a:t>التطور</a:t>
          </a:r>
          <a:endParaRPr lang="ar-IQ" sz="4300" kern="1200" dirty="0"/>
        </a:p>
      </dsp:txBody>
      <dsp:txXfrm>
        <a:off x="5823607" y="2044830"/>
        <a:ext cx="2405992" cy="1202996"/>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B58E-FD7C-4AC6-91DC-898589F34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14561-F3F7-40C6-8D30-083A05223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3AD07-7148-4F6A-B8A9-FA11D95D3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E82C-91C0-43F2-9E2E-BEE45538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7F2F-9EF2-4AB0-96DC-2D5335F94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AAD4-39A9-465C-9926-E83139DA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EBD4C-85CF-4413-BD18-03332AD8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08818-9EB4-426E-809D-E2F8ACEB3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2926-1B88-4F7F-A08D-4333EE4C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3DD8-303B-40E8-9736-0582DD8BE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4979-9950-4F8A-A981-FA3AA343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FC99-371D-4161-811F-B32F41CD4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gn="r" rtl="1">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gn="r" rtl="1">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gn="r" rtl="1">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gn="r" rtl="1">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ffffff"/>
                </a:solidFill>
                <a:latin typeface="Calibri"/>
              </a:defRPr>
            </a:lvl1pPr>
          </a:lstStyle>
          <a:p>
            <a:pPr indent="0" algn="r" rtl="1">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Calibri"/>
              </a:defRPr>
            </a:lvl1pPr>
          </a:lstStyle>
          <a:p>
            <a:pPr indent="0" rtl="1">
              <a:lnSpc>
                <a:spcPct val="100000"/>
              </a:lnSpc>
              <a:buNone/>
            </a:pPr>
            <a:fld id="{7CC78B07-9543-41BB-8CF7-462E05C4CDF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57200" y="476640"/>
            <a:ext cx="8229240" cy="5976360"/>
          </a:xfrm>
          <a:prstGeom prst="rect">
            <a:avLst/>
          </a:prstGeom>
          <a:noFill/>
          <a:ln w="0">
            <a:noFill/>
          </a:ln>
        </p:spPr>
        <p:txBody>
          <a:bodyPr anchor="t">
            <a:normAutofit fontScale="89000"/>
          </a:bodyPr>
          <a:p>
            <a:pPr indent="0" algn="ctr" rtl="1">
              <a:lnSpc>
                <a:spcPct val="100000"/>
              </a:lnSpc>
              <a:spcBef>
                <a:spcPts val="561"/>
              </a:spcBef>
              <a:buNone/>
              <a:tabLst>
                <a:tab algn="l" pos="0"/>
              </a:tabLst>
            </a:pPr>
            <a:r>
              <a:rPr b="1" lang="ar-IQ" sz="2800" spc="-1" strike="noStrike">
                <a:solidFill>
                  <a:srgbClr val="ffffff"/>
                </a:solidFill>
                <a:latin typeface="Calibri"/>
              </a:rPr>
              <a:t>أســـــاســيـــات الادارة</a:t>
            </a:r>
            <a:endParaRPr b="0" lang="en-US" sz="2800" spc="-1" strike="noStrike">
              <a:solidFill>
                <a:srgbClr val="ffffff"/>
              </a:solidFill>
              <a:latin typeface="Calibri"/>
            </a:endParaRPr>
          </a:p>
          <a:p>
            <a:pPr indent="0" algn="ctr" rtl="1">
              <a:lnSpc>
                <a:spcPct val="100000"/>
              </a:lnSpc>
              <a:spcBef>
                <a:spcPts val="561"/>
              </a:spcBef>
              <a:buNone/>
              <a:tabLst>
                <a:tab algn="l" pos="0"/>
              </a:tabLst>
            </a:pPr>
            <a:r>
              <a:rPr b="1" lang="en-GB" sz="2800" spc="-1" strike="noStrike">
                <a:solidFill>
                  <a:srgbClr val="ffffff"/>
                </a:solidFill>
                <a:latin typeface="Calibri"/>
              </a:rPr>
              <a:t>Management Fundamentals</a:t>
            </a:r>
            <a:r>
              <a:rPr b="1" lang="en-GB" sz="2800" spc="-1" strike="noStrike">
                <a:solidFill>
                  <a:srgbClr val="ffffff"/>
                </a:solidFill>
                <a:latin typeface="Calibri"/>
              </a:rPr>
              <a:t> </a:t>
            </a:r>
            <a:endParaRPr b="0" lang="en-US" sz="28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561"/>
              </a:spcBef>
              <a:buNone/>
              <a:tabLst>
                <a:tab algn="l" pos="0"/>
              </a:tabLst>
            </a:pPr>
            <a:r>
              <a:rPr b="1" lang="ar-SA" sz="2800" spc="-1" strike="noStrike">
                <a:solidFill>
                  <a:srgbClr val="ffffff"/>
                </a:solidFill>
                <a:latin typeface="Calibri"/>
              </a:rPr>
              <a:t>موضوع المحاضرة</a:t>
            </a:r>
            <a:endParaRPr b="0" lang="en-US" sz="28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1140"/>
              </a:spcBef>
              <a:buNone/>
              <a:tabLst>
                <a:tab algn="l" pos="0"/>
              </a:tabLst>
            </a:pPr>
            <a:r>
              <a:rPr b="1" lang="ar-SA" sz="5700" spc="-1" strike="noStrike">
                <a:solidFill>
                  <a:schemeClr val="accent6">
                    <a:lumMod val="20000"/>
                    <a:lumOff val="80000"/>
                  </a:schemeClr>
                </a:solidFill>
                <a:latin typeface="Calibri"/>
              </a:rPr>
              <a:t>الادارة الاس</a:t>
            </a:r>
            <a:r>
              <a:rPr b="1" lang="ar-IQ" sz="5700" spc="-1" strike="noStrike">
                <a:solidFill>
                  <a:schemeClr val="accent6">
                    <a:lumMod val="20000"/>
                    <a:lumOff val="80000"/>
                  </a:schemeClr>
                </a:solidFill>
                <a:latin typeface="Calibri"/>
              </a:rPr>
              <a:t>ـــــ</a:t>
            </a:r>
            <a:r>
              <a:rPr b="1" lang="ar-SA" sz="5700" spc="-1" strike="noStrike">
                <a:solidFill>
                  <a:schemeClr val="accent6">
                    <a:lumMod val="20000"/>
                    <a:lumOff val="80000"/>
                  </a:schemeClr>
                </a:solidFill>
                <a:latin typeface="Calibri"/>
              </a:rPr>
              <a:t>تراتيــجيــــــــــة</a:t>
            </a:r>
            <a:endParaRPr b="0" lang="en-US" sz="5700" spc="-1" strike="noStrike">
              <a:solidFill>
                <a:srgbClr val="ffffff"/>
              </a:solidFill>
              <a:latin typeface="Calibri"/>
            </a:endParaRPr>
          </a:p>
          <a:p>
            <a:pPr indent="0" algn="ctr" rtl="1">
              <a:lnSpc>
                <a:spcPct val="100000"/>
              </a:lnSpc>
              <a:spcBef>
                <a:spcPts val="1140"/>
              </a:spcBef>
              <a:buNone/>
              <a:tabLst>
                <a:tab algn="l" pos="0"/>
              </a:tabLst>
            </a:pPr>
            <a:r>
              <a:rPr b="1" lang="en-US" sz="5700" spc="-1" strike="noStrike">
                <a:solidFill>
                  <a:schemeClr val="accent6">
                    <a:lumMod val="20000"/>
                    <a:lumOff val="80000"/>
                  </a:schemeClr>
                </a:solidFill>
                <a:latin typeface="Calibri"/>
              </a:rPr>
              <a:t>Strategic management</a:t>
            </a:r>
            <a:endParaRPr b="0" lang="en-US" sz="5700" spc="-1" strike="noStrike">
              <a:solidFill>
                <a:srgbClr val="ffffff"/>
              </a:solidFill>
              <a:latin typeface="Calibri"/>
            </a:endParaRPr>
          </a:p>
          <a:p>
            <a:pPr indent="0" algn="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799"/>
              </a:spcBef>
              <a:buNone/>
              <a:tabLst>
                <a:tab algn="l" pos="0"/>
              </a:tabLst>
            </a:pPr>
            <a:r>
              <a:rPr b="1" lang="en-US" sz="2800" spc="-1" strike="noStrike">
                <a:solidFill>
                  <a:srgbClr val="ffffff"/>
                </a:solidFill>
                <a:latin typeface="Calibri"/>
              </a:rPr>
              <a:t> </a:t>
            </a:r>
            <a:r>
              <a:rPr b="1" lang="en-US" sz="4000" spc="-1" strike="noStrike">
                <a:solidFill>
                  <a:srgbClr val="ffffff"/>
                </a:solidFill>
                <a:latin typeface="Calibri"/>
              </a:rPr>
              <a:t>(</a:t>
            </a:r>
            <a:r>
              <a:rPr b="1" lang="ar-IQ" sz="4000" spc="-1" strike="noStrike">
                <a:solidFill>
                  <a:srgbClr val="ffffff"/>
                </a:solidFill>
                <a:latin typeface="Calibri"/>
              </a:rPr>
              <a:t>أ.م. </a:t>
            </a:r>
            <a:r>
              <a:rPr b="1" lang="ar-SA" sz="4000" spc="-1" strike="noStrike">
                <a:solidFill>
                  <a:srgbClr val="ffffff"/>
                </a:solidFill>
                <a:latin typeface="Calibri"/>
              </a:rPr>
              <a:t>فائق جواد كاظم  )</a:t>
            </a:r>
            <a:endParaRPr b="0" lang="en-US" sz="40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641"/>
              </a:spcBef>
              <a:buNone/>
              <a:tabLst>
                <a:tab algn="l" pos="0"/>
              </a:tabLst>
            </a:pPr>
            <a:endParaRPr b="0" lang="en-US" sz="3200" spc="-1" strike="noStrike">
              <a:solidFill>
                <a:srgbClr val="ffffff"/>
              </a:solidFill>
              <a:latin typeface="Calibri"/>
            </a:endParaRPr>
          </a:p>
          <a:p>
            <a:pPr indent="0" algn="ctr" rtl="1">
              <a:lnSpc>
                <a:spcPct val="100000"/>
              </a:lnSpc>
              <a:spcBef>
                <a:spcPts val="641"/>
              </a:spcBef>
              <a:buNone/>
              <a:tabLst>
                <a:tab algn="l" pos="0"/>
              </a:tabLst>
            </a:pPr>
            <a:endParaRPr b="0" lang="en-US" sz="3200" spc="-1" strike="noStrike">
              <a:solidFill>
                <a:srgbClr val="ffffff"/>
              </a:solidFill>
              <a:latin typeface="Calibri"/>
            </a:endParaRPr>
          </a:p>
        </p:txBody>
      </p:sp>
      <p:pic>
        <p:nvPicPr>
          <p:cNvPr id="42" name="صورة 1" descr=""/>
          <p:cNvPicPr/>
          <p:nvPr/>
        </p:nvPicPr>
        <p:blipFill>
          <a:blip r:embed="rId1"/>
          <a:stretch/>
        </p:blipFill>
        <p:spPr>
          <a:xfrm>
            <a:off x="0" y="0"/>
            <a:ext cx="21992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7640" y="260640"/>
            <a:ext cx="8229240" cy="1007640"/>
          </a:xfrm>
          <a:prstGeom prst="rect">
            <a:avLst/>
          </a:prstGeom>
          <a:noFill/>
          <a:ln w="0">
            <a:noFill/>
          </a:ln>
        </p:spPr>
        <p:txBody>
          <a:bodyPr anchor="ctr">
            <a:normAutofit fontScale="74000"/>
          </a:bodyPr>
          <a:p>
            <a:pPr indent="0" algn="ctr" rtl="1">
              <a:lnSpc>
                <a:spcPct val="100000"/>
              </a:lnSpc>
              <a:buNone/>
            </a:pPr>
            <a:r>
              <a:rPr b="1" lang="ar-SA" sz="4400" spc="-1" strike="noStrike">
                <a:solidFill>
                  <a:srgbClr val="ff0000"/>
                </a:solidFill>
                <a:latin typeface="Calibri"/>
              </a:rPr>
              <a:t>خصائص ومهارات المدراء الاستراتيجين</a:t>
            </a:r>
            <a:endParaRPr b="0" lang="en-US" sz="4400" spc="-1" strike="noStrike">
              <a:solidFill>
                <a:srgbClr val="ffffff"/>
              </a:solidFill>
              <a:latin typeface="Calibri"/>
            </a:endParaRPr>
          </a:p>
        </p:txBody>
      </p:sp>
      <p:sp>
        <p:nvSpPr>
          <p:cNvPr id="57" name="PlaceHolder 2"/>
          <p:cNvSpPr>
            <a:spLocks noGrp="1"/>
          </p:cNvSpPr>
          <p:nvPr>
            <p:ph/>
          </p:nvPr>
        </p:nvSpPr>
        <p:spPr>
          <a:xfrm>
            <a:off x="457200" y="1268640"/>
            <a:ext cx="8229240" cy="5256360"/>
          </a:xfrm>
          <a:prstGeom prst="rect">
            <a:avLst/>
          </a:prstGeom>
          <a:noFill/>
          <a:ln w="0">
            <a:noFill/>
          </a:ln>
        </p:spPr>
        <p:txBody>
          <a:bodyPr anchor="t">
            <a:normAutofit fontScale="77000"/>
          </a:bodyPr>
          <a:p>
            <a:pPr marL="310680" indent="0" algn="r" rtl="1">
              <a:lnSpc>
                <a:spcPct val="100000"/>
              </a:lnSpc>
              <a:spcBef>
                <a:spcPts val="641"/>
              </a:spcBef>
              <a:buNone/>
              <a:tabLst>
                <a:tab algn="l" pos="0"/>
              </a:tabLst>
            </a:pPr>
            <a:r>
              <a:rPr b="1" lang="ar-IQ" sz="3200" spc="-1" strike="noStrike">
                <a:solidFill>
                  <a:schemeClr val="accent6">
                    <a:lumMod val="40000"/>
                    <a:lumOff val="60000"/>
                  </a:schemeClr>
                </a:solidFill>
                <a:latin typeface="Calibri"/>
              </a:rPr>
              <a:t>اولا - </a:t>
            </a:r>
            <a:r>
              <a:rPr b="1" lang="en-US" sz="3200" spc="-1" strike="noStrike">
                <a:solidFill>
                  <a:schemeClr val="accent6">
                    <a:lumMod val="40000"/>
                    <a:lumOff val="60000"/>
                  </a:schemeClr>
                </a:solidFill>
                <a:latin typeface="Calibri"/>
              </a:rPr>
              <a:t>DRUKER</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الالتزام والانضباط بالعمل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التمتع برؤية ثاقبة واضح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اتسام بثقة عالية بقدراتهم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1" lang="ar-IQ" sz="3200" spc="-1" strike="noStrike">
                <a:solidFill>
                  <a:schemeClr val="accent6">
                    <a:lumMod val="40000"/>
                    <a:lumOff val="60000"/>
                  </a:schemeClr>
                </a:solidFill>
                <a:latin typeface="Calibri"/>
              </a:rPr>
              <a:t>ثانيا – ادوارد راب </a:t>
            </a:r>
            <a:r>
              <a:rPr b="1" lang="en-US" sz="3200" spc="-1" strike="noStrike">
                <a:solidFill>
                  <a:schemeClr val="accent6">
                    <a:lumMod val="40000"/>
                    <a:lumOff val="60000"/>
                  </a:schemeClr>
                </a:solidFill>
                <a:latin typeface="Calibri"/>
              </a:rPr>
              <a:t>WRAPP</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امتلاك الناجحين القدرة على الاطلاع والاحاطة الجيد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تخصيص الوقت والنشاط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سياسة الجيد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4</a:t>
            </a:r>
            <a:r>
              <a:rPr b="0" lang="en-US" sz="3200" spc="-1" strike="noStrike">
                <a:solidFill>
                  <a:srgbClr val="ffffff"/>
                </a:solidFill>
                <a:latin typeface="Calibri"/>
              </a:rPr>
              <a:t>- المهارة والمعرف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امتلاك القابلية للدفع من خلال النماذج والبرامج في اسلوب تدريجي نحو تحقيق الاهداف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849600"/>
          </a:xfrm>
          <a:prstGeom prst="rect">
            <a:avLst/>
          </a:prstGeom>
          <a:noFill/>
          <a:ln w="0">
            <a:noFill/>
          </a:ln>
        </p:spPr>
        <p:txBody>
          <a:bodyPr anchor="ctr">
            <a:noAutofit/>
          </a:bodyPr>
          <a:p>
            <a:pPr indent="0" algn="ctr" rtl="1">
              <a:lnSpc>
                <a:spcPct val="100000"/>
              </a:lnSpc>
              <a:buNone/>
            </a:pPr>
            <a:r>
              <a:rPr b="0" lang="ar-IQ" sz="4400" spc="-1" strike="noStrike">
                <a:solidFill>
                  <a:srgbClr val="ff0000"/>
                </a:solidFill>
                <a:latin typeface="Calibri"/>
              </a:rPr>
              <a:t>مخطط مهارات المدير الاستراتيجة</a:t>
            </a:r>
            <a:endParaRPr b="0" lang="en-US" sz="4400" spc="-1" strike="noStrike">
              <a:solidFill>
                <a:srgbClr val="ffffff"/>
              </a:solidFill>
              <a:latin typeface="Calibri"/>
            </a:endParaRPr>
          </a:p>
        </p:txBody>
      </p:sp>
      <p:graphicFrame>
        <p:nvGraphicFramePr>
          <p:cNvPr id="2" name="Diagram2"/>
          <p:cNvGraphicFramePr/>
          <p:nvPr>
            <p:extLst>
              <p:ext uri="{D42A27DB-BD31-4B8C-83A1-F6EECF244321}">
                <p14:modId xmlns:p14="http://schemas.microsoft.com/office/powerpoint/2010/main" val="249334881"/>
              </p:ext>
            </p:extLst>
          </p:nvPr>
        </p:nvGraphicFramePr>
        <p:xfrm>
          <a:off x="457200" y="1268640"/>
          <a:ext cx="822924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2700000"/>
        </a:gradFill>
      </p:bgPr>
    </p:bg>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3659260134"/>
              </p:ext>
            </p:extLst>
          </p:nvPr>
        </p:nvGraphicFramePr>
        <p:xfrm>
          <a:off x="395640" y="692640"/>
          <a:ext cx="8229240" cy="55771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476640"/>
            <a:ext cx="8229240" cy="5976360"/>
          </a:xfrm>
          <a:prstGeom prst="rect">
            <a:avLst/>
          </a:prstGeom>
          <a:noFill/>
          <a:ln w="0">
            <a:noFill/>
          </a:ln>
        </p:spPr>
        <p:txBody>
          <a:bodyPr anchor="t">
            <a:normAutofit fontScale="40000"/>
          </a:bodyPr>
          <a:p>
            <a:pPr indent="0" algn="just" rtl="1">
              <a:lnSpc>
                <a:spcPct val="100000"/>
              </a:lnSpc>
              <a:spcBef>
                <a:spcPts val="641"/>
              </a:spcBef>
              <a:buNone/>
              <a:tabLst>
                <a:tab algn="l" pos="0"/>
              </a:tabLst>
            </a:pPr>
            <a:r>
              <a:rPr b="0" lang="ar-IQ" sz="3200" spc="-1" strike="noStrike">
                <a:solidFill>
                  <a:srgbClr val="ffffff"/>
                </a:solidFill>
                <a:latin typeface="Calibri"/>
              </a:rPr>
              <a:t>أولاً : مفهوم وأهمية الإدارة الإ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  تطور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تعتبر الإدارة الإستراتيجية من مجالات الدراسة التي نالت إهتماماً واسعاً في العقود الثلاثة الأخير من القرن العشرين وذلك إستجابة للضغوط والمؤثرات البيئية الهائلة التي واجهتها منظمات الأعمال في تلك الحقبة . وتستمد كلمة الإستراتيجية جذورها من الكلمة اليونانية  </a:t>
            </a:r>
            <a:r>
              <a:rPr b="0" lang="en-GB" sz="3200" spc="-1" strike="noStrike">
                <a:solidFill>
                  <a:srgbClr val="ffffff"/>
                </a:solidFill>
                <a:latin typeface="Calibri"/>
              </a:rPr>
              <a:t>Strategos</a:t>
            </a:r>
            <a:r>
              <a:rPr b="0" lang="en-GB" sz="3200" spc="-1" strike="noStrike">
                <a:solidFill>
                  <a:srgbClr val="ffffff"/>
                </a:solidFill>
                <a:latin typeface="Calibri"/>
              </a:rPr>
              <a:t>   والتي إرتبط مفهومها بالخطط المستخدمة في إدارة المعارك وفنون المواجهة العسكرية ، إلا أنها إمتدت بعد ذلك إلى مجال الفكر الإداري وصارت مفضلة الإستخدام لدى منظمات الأعمال وغيرها من المنظمات الأخرى المهتمة بتحليل بيئتها وتحقيق المبادرة والريادة في مجال نشاط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قد نشأ مفهوم الإدارة الإستراتيجية بسبب التغير السريع والمتطور في النصف الثاني من القرن العشرين لبيئة الأعمال وتحولها من بيئة أعمال مستقرة إلى بيئة أعمال سريعة التغير ،  وبسبب نشوء منافسة عالية في بيئة الأعمال ، كما أنه وبسبب وجود الظروف البيئية غير المؤكدة  ، وبسبب ضرورة الإستجابة لمتغيرات المواقف البيئية التي تواجهها المنظمات ، وكذلك لتحليل الفرص والتهديدات البيئية الخارجية ، ولكي تخصص الموارد التنظيمية بما يضمن تحقيق الأهداف والغايات الرئيسية في المنظمة ، ومن ثم الإستفادة من الفرص المتاحة وتجنب أو التقليل من تهديدات البيئة الخارجية أو الداخلية المحتملة . فقد أدى إهتمام الرواد والباحثين  الإداريين بتأثير العوامل البيئية للمنظمة ككل ( السياسية ، الإقتصادية ، الإجتماعية ، الفنية ، القانونية ، ...) إلى إستبدال مصطلح سياسات الأعمال الذي كان منتشراً في ذلك الحين  إلى ما أصبح يطلق عليه مصطلح الإدارة الإستراتيجية نظراً لشموليته وقدرته على تمكين المنظمات من بلوغ أهدافها بفاعلية وكفاءة عال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 -  تعريف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تصدى العديد من الكتاب والباحثين لتعريف الإدارة الإستراتيجية ، حيث يعرفها </a:t>
            </a:r>
            <a:r>
              <a:rPr b="0" lang="en-GB" sz="3200" spc="-1" strike="noStrike">
                <a:solidFill>
                  <a:srgbClr val="ffffff"/>
                </a:solidFill>
                <a:latin typeface="Calibri"/>
              </a:rPr>
              <a:t>Ansoff</a:t>
            </a:r>
            <a:r>
              <a:rPr b="0" lang="en-GB" sz="3200" spc="-1" strike="noStrike">
                <a:solidFill>
                  <a:srgbClr val="ffffff"/>
                </a:solidFill>
                <a:latin typeface="Calibri"/>
              </a:rPr>
              <a:t>  ، وهو أحد رواد الفكر الإداري بأنها : " تصور المنظمة عن العلاقة المتوقعة بينها وبين بيئتها ، بحيث يوضح هذا التصور نوع العمليات التي يجب القيام بها على المدى البعيد ، والحد الذي يجب أن تذهب إليه المنظمة ، والغايات التي يجب أن تحقق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أما </a:t>
            </a:r>
            <a:r>
              <a:rPr b="0" lang="en-GB" sz="3200" spc="-1" strike="noStrike">
                <a:solidFill>
                  <a:srgbClr val="ffffff"/>
                </a:solidFill>
                <a:latin typeface="Calibri"/>
              </a:rPr>
              <a:t>Strickland &amp; Thampson</a:t>
            </a:r>
            <a:r>
              <a:rPr b="0" lang="en-GB" sz="3200" spc="-1" strike="noStrike">
                <a:solidFill>
                  <a:srgbClr val="ffffff"/>
                </a:solidFill>
                <a:latin typeface="Calibri"/>
              </a:rPr>
              <a:t>  فقد عرفا الإدارة الإستراتيجية بأنها : " رسم الإتجاه المستقبلي للمنظمة وبيان غاياتها على المدى البعيد ، وإختيار النمط الإستراتيجي المناسب لتحقيق ذلك في ضوء العوامل والمتغيرات البيئية الداخلية والخارجية ، ثم تنفيذ الإستراتيجية ومتابعتها وتقييم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476640"/>
            <a:ext cx="8229240" cy="5976360"/>
          </a:xfrm>
          <a:prstGeom prst="rect">
            <a:avLst/>
          </a:prstGeom>
          <a:noFill/>
          <a:ln w="0">
            <a:noFill/>
          </a:ln>
        </p:spPr>
        <p:txBody>
          <a:bodyPr anchor="t">
            <a:normAutofit fontScale="40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عرف كل من جوش وجلويك </a:t>
            </a:r>
            <a:r>
              <a:rPr b="0" lang="en-GB" sz="3200" spc="-1" strike="noStrike">
                <a:solidFill>
                  <a:srgbClr val="ffffff"/>
                </a:solidFill>
                <a:latin typeface="Calibri"/>
              </a:rPr>
              <a:t>Jauch &amp; Glueck</a:t>
            </a:r>
            <a:r>
              <a:rPr b="0" lang="en-GB" sz="3200" spc="-1" strike="noStrike">
                <a:solidFill>
                  <a:srgbClr val="ffffff"/>
                </a:solidFill>
                <a:latin typeface="Calibri"/>
              </a:rPr>
              <a:t>   الإدارة الإستراتيجية بأنها : " الخطة الموحدة ، المتفاعلة والشاملة التي تربط المزايا الإستراتيجية للشركة بتحديات البيئة . وقد صممت لضمان تحقيق الأهداف الأساسية للمنظمة من خلال التنفيذ الملائم ل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أما كوين </a:t>
            </a:r>
            <a:r>
              <a:rPr b="0" lang="en-GB" sz="3200" spc="-1" strike="noStrike">
                <a:solidFill>
                  <a:srgbClr val="ffffff"/>
                </a:solidFill>
                <a:latin typeface="Calibri"/>
              </a:rPr>
              <a:t>Quinn</a:t>
            </a:r>
            <a:r>
              <a:rPr b="0" lang="en-GB" sz="3200" spc="-1" strike="noStrike">
                <a:solidFill>
                  <a:srgbClr val="ffffff"/>
                </a:solidFill>
                <a:latin typeface="Calibri"/>
              </a:rPr>
              <a:t>    فقد عرف الإستراتيجية بأنها : " الأنموذج أو الخطة التي تتكامل فيها الأهداف الرئيسية والسياسات والإجراءات ، ومتابعة أنشطتها للتأكد من تحقيق الترابط التام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كما عرف دركر </a:t>
            </a:r>
            <a:r>
              <a:rPr b="0" lang="en-GB" sz="3200" spc="-1" strike="noStrike">
                <a:solidFill>
                  <a:srgbClr val="ffffff"/>
                </a:solidFill>
                <a:latin typeface="Calibri"/>
              </a:rPr>
              <a:t>Drucker</a:t>
            </a:r>
            <a:r>
              <a:rPr b="0" lang="en-GB" sz="3200" spc="-1" strike="noStrike">
                <a:solidFill>
                  <a:srgbClr val="ffffff"/>
                </a:solidFill>
                <a:latin typeface="Calibri"/>
              </a:rPr>
              <a:t>   الإستراتيجية بأنها : : عملية مستمرة لتنظيم وتنفيذ القرارات الحالية ، وتوفير المعلومات اللازمة ، وتنظيم الموارد والجهود الكفيلة لتنفيذ القرارات وتقييم النتائج بواسطة نظام معلومات متكامل وفعال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 -  مهام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من التعاريف السابقة نستنتج أن بعضها قد أكد على أنموذج أو صيغة للتخطيط ، بينما عرفها القسم الآخر بأنها مجموعة من القرارات تتخذ وفقاً لموقف معين تمليه العوامل البيئية المحيطة بالمنظمة ، أي ليس من الضروري أن تكون الإستراتيجية خطة 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من التعاريف السابقة نجد أن الإدارة الإستراتيجية تنطوي على خمس مهام رئيسية ه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صياغة رسالة المنظمة بعبارات عامة تعكس غرضها الرئيسي وفلسفتها وأهداف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ب‌- تحديد أكثر البدائل جاذبية في ضوء رسالة المنظمة ومواردها وظروفها البيئ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إختيار مجموعة من الأهداف طويلة الأجل والإستراتيجيات العامة التي يمكن ان تساعد في تحقيق أكثر الفرص جاذب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تحديد الأهداف السنوية والإستراتيجيات قصيرة الأجل والتي تتسق مع الأهداف طويلة الأجلوالإستراتيجيات العام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ج‌-تنفيذ الخيارات الإستراتيجية من خلال تخصيص الموارد ، مع مراعاة الأبعاد الخاصة بالمهام ، الأفراد ، الهياكل التنظيمية ، التكنولوجيا ، وأنظمة التحفيز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4</a:t>
            </a:r>
            <a:r>
              <a:rPr b="0" lang="en-GB" sz="3200" spc="-1" strike="noStrike">
                <a:solidFill>
                  <a:srgbClr val="ffffff"/>
                </a:solidFill>
                <a:latin typeface="Calibri"/>
              </a:rPr>
              <a:t> ـ  مراحل الادارة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1</a:t>
            </a:r>
            <a:r>
              <a:rPr b="0" lang="en-GB" sz="3200" spc="-1" strike="noStrike">
                <a:solidFill>
                  <a:srgbClr val="ffffff"/>
                </a:solidFill>
                <a:latin typeface="Calibri"/>
              </a:rPr>
              <a:t>-صياغ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تنفيذ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تقييم ورقاب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27640" y="620640"/>
            <a:ext cx="7344360" cy="547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548640"/>
            <a:ext cx="8229240" cy="5577120"/>
          </a:xfrm>
          <a:prstGeom prst="rect">
            <a:avLst/>
          </a:prstGeom>
          <a:noFill/>
          <a:ln w="0">
            <a:noFill/>
          </a:ln>
        </p:spPr>
        <p:txBody>
          <a:bodyPr anchor="t">
            <a:normAutofit fontScale="59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مستويات الاستراتيجية </a:t>
            </a:r>
            <a:r>
              <a:rPr b="0" lang="en-GB" sz="3200" spc="-1" strike="noStrike">
                <a:solidFill>
                  <a:srgbClr val="ffffff"/>
                </a:solidFill>
                <a:latin typeface="Calibri"/>
              </a:rPr>
              <a:t>STRATEGIC LEVELS</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1</a:t>
            </a:r>
            <a:r>
              <a:rPr b="0" lang="en-GB" sz="3200" spc="-1" strike="noStrike">
                <a:solidFill>
                  <a:srgbClr val="ffffff"/>
                </a:solidFill>
                <a:latin typeface="Calibri"/>
              </a:rPr>
              <a:t>- مستوى استراتيجية المنظم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ادارة المنظمة بصورتها الشمولية لتحقيق ميزة تنافسية مستدامة ,تحدد مسار او أتجاه طويل الامد للمنظمة بصورتها الكلية ,القرارات الاستراتيجية في هذا المستوى ترتبط بتخصيص الموارد لتطوير اعمال جديدة او للاستحواذ على منظمات اخرى او الانسحاب من اعمال قائمة لتشكيل محفظة اعمال المنظمة ككل.</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 مستوى استراتيجية الاعمال</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استراتيجية وحدة اعمال واحدة أو خط انتاجي معين وتصف اسلوب المنافسة في هذه الصناعة او السوق المحدد والمعلوم ,تحديد كيفية المنافسة من قبل الاقسام الرئيسية القرارات الاستراتيجية في هذا المستوى تحتوي على خيارات تتعلق المزيج السلعي او الخدماتي وموقع الوحدات الانتاجية والتكنلوجية المستخد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 مستوى استراتيجية الوظيف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كيفية استخدام الموارد في كل وظيفة من وظائف المنظمة وتوجيهها لرفد استراتيجية الاعمال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899640" y="620640"/>
            <a:ext cx="7560360" cy="55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548640"/>
            <a:ext cx="8229240" cy="5832360"/>
          </a:xfrm>
          <a:prstGeom prst="rect">
            <a:avLst/>
          </a:prstGeom>
          <a:noFill/>
          <a:ln w="0">
            <a:noFill/>
          </a:ln>
        </p:spPr>
        <p:txBody>
          <a:bodyPr anchor="t">
            <a:normAutofit fontScale="52000"/>
          </a:bodyPr>
          <a:p>
            <a:pPr indent="0" algn="just" rtl="1">
              <a:lnSpc>
                <a:spcPct val="100000"/>
              </a:lnSpc>
              <a:spcBef>
                <a:spcPts val="641"/>
              </a:spcBef>
              <a:buNone/>
              <a:tabLst>
                <a:tab algn="l" pos="0"/>
              </a:tabLst>
            </a:pPr>
            <a:r>
              <a:rPr b="0" lang="en-US" sz="3200" spc="-1" strike="noStrike">
                <a:solidFill>
                  <a:srgbClr val="ffffff"/>
                </a:solidFill>
                <a:latin typeface="Calibri"/>
              </a:rPr>
              <a:t>6</a:t>
            </a:r>
            <a:r>
              <a:rPr b="0" lang="en-US" sz="3200" spc="-1" strike="noStrike">
                <a:solidFill>
                  <a:srgbClr val="ffffff"/>
                </a:solidFill>
                <a:latin typeface="Calibri"/>
              </a:rPr>
              <a:t>-  أهمية الإدارة الإستراتيجية لمنظمات الأعمال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هدف أي منظمة من المنظمات هو البقاء والإستقرار والإستمرار والنمو ، وإن الأهداف السابقة لاتتحقق إلا بوجود إدارة فاعلة تستطيع أن تحقق هذه المطالب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قد كان لتوجه المنظمات نحو التخطيط الإستراتيجي علاقة كبيرة بنجاح هذه المنظمات ، حيث إتضح أن المنظمات التي أخذت بمفهوم الإدارة الإستراتيجية كانت ذات أداء أفضل من تلك المنظمات التي لم تأخذ بهذا المفهوم . وكذلك توصلت الدراسات التي أجراها الباحثون الإداريون أمثال : أنسوف ، وهارولد و برت ، إيستلك ماكدونالد وغيرهم ، إلى أن المنظمات التي تمارس التخطيط الإستراتيجي تتفوق على تلك التي لاتمارسه ، وتزداد أهمية الإدارة الإستراتيجية عندما تعمل منظمات الأعمال في بيئة متغير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تبرز أهمية الإدارة الإستراتيجية لمنظمات الأعمال من خلال قدرتها على رسم غايات المنظمة وأهدافها وتحديد التوجهات طويلة الأمد لبلوغ تلك الأهداف في مدى زمني ملائم وسط بيئة تتسم بالسرعة وعدم التأكد ، والقيام بمتابعة التنفيذ وتقييم النتائج ومدى التقدم لبلوغ الأهداف ، ومواجهة التحديات التي تتعرض لها منظمات الأعمال مث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التسارع الكمي والنوعي في البيئة الخارجية : حيث أن عصرنا هو عصر السرعة ، كما أن ظاهرة التغير هي السمة الجوهرية للعقود القريبة الماضية  والعقد الحال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تخصيص الموارد والإمكانيات بطريقة فعالة حيث يتم إستخدام الموارد المتاحة بطريقة تتلاءم وإحتياجات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زيادة دعم التفكير الإستراتيجي للمدراء ، وتنمية عادات التفكير في المستقب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4</a:t>
            </a:r>
            <a:r>
              <a:rPr b="0" lang="en-US" sz="3200" spc="-1" strike="noStrike">
                <a:solidFill>
                  <a:srgbClr val="ffffff"/>
                </a:solidFill>
                <a:latin typeface="Calibri"/>
              </a:rPr>
              <a:t>-توفير فرص المشاركة لجميع المستويات الإدارية في تخطيط وتنفيذ أهداف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المساهمة في التوجه للإهتمام بالمعرفة كقوة 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48640"/>
            <a:ext cx="8229240" cy="5832360"/>
          </a:xfrm>
          <a:prstGeom prst="rect">
            <a:avLst/>
          </a:prstGeom>
          <a:noFill/>
          <a:ln w="0">
            <a:noFill/>
          </a:ln>
        </p:spPr>
        <p:txBody>
          <a:bodyPr anchor="t">
            <a:normAutofit fontScale="53000"/>
          </a:bodyPr>
          <a:p>
            <a:pPr indent="0" algn="just" rtl="1">
              <a:lnSpc>
                <a:spcPct val="100000"/>
              </a:lnSpc>
              <a:spcBef>
                <a:spcPts val="641"/>
              </a:spcBef>
              <a:buNone/>
              <a:tabLst>
                <a:tab algn="l" pos="0"/>
              </a:tabLst>
            </a:pPr>
            <a:r>
              <a:rPr b="0" lang="ar-IQ" sz="3200" spc="-1" strike="noStrike">
                <a:solidFill>
                  <a:srgbClr val="ffffff"/>
                </a:solidFill>
                <a:latin typeface="Calibri"/>
              </a:rPr>
              <a:t>ثانياً :صياغ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توجه الإستراتيجي  ( رسالة المنظمة وأهداف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رسالة ا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وضح رسالة المنظمة الغرض أو المبرر الأساسي لوجودها  والغرض منها ، وتحاول رسالة المنظمة الإجابة على السؤالين التاليين : ماهو مجال عمل المنظمة ؟، وماهي الأعمال التي ستؤديها مستقبلاً ؟ ، ولابد أن تتسم الرسالة بالشمولية والعموم وأن تتضمن الكلمات الدقيقة والملخصة والواضحة الفهم ، وأن تتكون من فقرة واحدة تصف سبب وجود المنظمة وأهدافها وأعمالها وانشطتها ، كما يجب أن يصل مضمون الرسالة إلى العاملين والمتعاملين مع المنظمة . فرسالة شركة الإتصالات السعودية على سبيل المثال هي "  حياة أسهل " ، وهي تتضمن الهدف من وجود هذه الشركة ألا وهو تسهيل الحياة على المتعاملين معها حيث أنها توفر لهم  الإتصال بجميع مناطق العالم بسهولة ويسر وبأرخص الأسعار وبأسهل الطرق ومن أي منطقة من مناطق المملك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تحديد الأهداف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الأهداف هي النتيجة النهائية المطلوب تحقيقها من ممارسة الأنشطة المخططة أو إتباع الإستراتيجيات المخططة ،وتحدد الأهداف مالذي يجب إنجازه ومتى وماهي الكمية .                                                                                     وتختلف الأهداف عن الغايات ، حيث أن الغاية هي عبارة عامة لما ترغب المنظمة في تحقيقه دون أن يكون ذلك محدداً بإطار زمني أو أن يتم التعبير عنه كمياً ، فقد تكون الغاية هي الربحية أو الكفاءة أو النمو أو السمعة والشهرة ، .... إلخ ، أما الأهداف فهي تحدد ماذا نفعل ومتى نفعل وأين نفعل وكم يجب أن نحقق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640"/>
            <a:ext cx="8229240" cy="5976360"/>
          </a:xfrm>
          <a:prstGeom prst="rect">
            <a:avLst/>
          </a:prstGeom>
          <a:noFill/>
          <a:ln w="0">
            <a:noFill/>
          </a:ln>
        </p:spPr>
        <p:txBody>
          <a:bodyPr anchor="t">
            <a:normAutofit fontScale="43000"/>
          </a:bodyPr>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 Meaning and Important Concepts</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 An Introduction</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all about identification and description of the strategies that managers can carry so as to achieve better performance and a competitive advantage for their organization. An organization is said to have competitive advantage if its profitability is higher than the average profitability for all companies in its industry.</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can also be defined as a bundle of decisions and acts which a manager undertakes and which decides the result of the firm’s performance. The manager must have a thorough knowledge and analysis of the general and competitive organizational environment so as to take right decisions. They should conduct a SWOT Analysis (Strengths, Weaknesses, Opportunities, and Threats), i.e., they should make best possible utilization of strengths, minimize the organizational weaknesses, make use of arising opportunities from the business environment and shouldn’t ignore the threats.</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nothing but planning for both predictable as well as unfeasible contingencies. It is applicable to both small as well as large organizations as even the smallest organization face competition and, by formulating and implementing appropriate strategies, they can attain sustainable competitive advantage.</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It is a way in which strategists set the objectives and proceed about attaining them. It deals with making and implementing decisions about future direction of an organization. It helps us to identify the direction in which an organization is moving.</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a continuous process that evaluates and controls the business and the industries in which an organization is involved; evaluates its competitors and sets goals and strategies to meet all existing and potential competitors; and then reevaluates strategies on a regular basis to determine how it has been implemented and whether it was successful or does it needs replacement.</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539640" y="404640"/>
            <a:ext cx="8424720" cy="612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1640" y="260640"/>
            <a:ext cx="8640720" cy="6408360"/>
          </a:xfrm>
          <a:prstGeom prst="rect">
            <a:avLst/>
          </a:prstGeom>
          <a:noFill/>
          <a:ln w="0">
            <a:noFill/>
          </a:ln>
        </p:spPr>
        <p:txBody>
          <a:bodyPr anchor="t">
            <a:noAutofit/>
          </a:bodyPr>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من الشكل السابق يتبين لنا أن الرؤيا هي النتاج الملموس من التفكير الإستراتيجي ، والرسالة هي نتاج الرؤيا لما تتوقعه المنظمة للمستقبل ، والتي في ضوئها يمكن القيام ببناء غايات المنظمة التي تسعى لتحقيقها إنسجاماً ونتائج تحليل العوامل الخارجية المتمثلة بالفرص والتهديدات ، والعوامل الداخلية المتمثلة بالقوة والضعف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مفهوم التحليل الإستراتيجي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التحليل الإستراتيجي هو تشخيص وتحليل البيئة الخارجية المحيطة بالمنظمة لمعرفة مدى التغيرات الحاصلة  ولتحديد الفرص والتهديدات ، كذلك تشخيص وتحليل البيئة الداخلية للمنظمة لمعرفة المواصفات والميزات التنافسية من أجل السيطرة على بيئتها الداخلية بشكل يساعد الإدارة على تحديد الإستراتيجية المفيدة لتحقيق أهداف المنظمة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1</a:t>
            </a:r>
            <a:r>
              <a:rPr b="0" lang="en-US" sz="1300" spc="-1" strike="noStrike">
                <a:solidFill>
                  <a:srgbClr val="ffffff"/>
                </a:solidFill>
                <a:latin typeface="Calibri"/>
              </a:rPr>
              <a:t>-التحليل الإستراتيجي لعوامل البيئة الخارجية الكلية ( الفرص والتهديدات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البيئة الخارجية للمنظمة هي البيئة التي تقع خارج حدود المنظمة وخارج نطاق سيطرتها ورقابتها ، وعوامل البيئة الخارجية تتمثل بعوامل البيئة الإقتصادية ، وعوامل البيئة الإجتماعية والثقافية ، وعوامل البيئة التكنولوجية ، والعوامل الديموغرافية ، وعوامل البيئة السياسية والقانونية  ، عوامل البيئة الدولية والعالمية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إن دراسة وتحليل مكونات البيئة الخارجية يعد أمراً ضرورياً عند وضع الإستراتيجية المناسبة للمنظمة ، حيث أن نتائج هذه الدراسات تساعد في التعرف على جانبين رئيسيين يمثلان نقطة الإرتكاز في صياغة ورسم إستراتيجية المنظمة وهما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الفرص التي يمكن للمنظمة إستغلالها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المخاطر أو التهديدات التي يجب على المنظمة تجنبها أو الحد من آثارها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أ‌-عوامل البيئة الإقتصادية :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تعتبر العوامل الإقتصادية إحدى العوامل البيئية الكلية الهامة المؤثرة على منظمات الأعمال . وتتمثل العوامل الإقتصادية بمعدل الفائدة ، مقدار النمو الإقتصادي ، الميزان التجاري ، معدلات التضخم ، السياسات المالية والنقدية للدولة والخاصة بالضرائب على الدخل والضرائب على الأرباح ، والرسوم الجمركية المفروضة على المواد المستوردة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ب‌-عوامل البيئة الإجتماعية والثقافية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تتضمن العوامل الإجتماعية التقاليد ، والقيم ، وإتجاهات وثقافة المجتمع ، توقعات المجتمع للأعمال ، الأعراف الإجتماعية ، الثقافة والتعليم والتدريب والخبرات ، أنماط السلوك الإنساني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8640"/>
            <a:ext cx="8229240" cy="5832360"/>
          </a:xfrm>
          <a:prstGeom prst="rect">
            <a:avLst/>
          </a:prstGeom>
          <a:noFill/>
          <a:ln w="0">
            <a:noFill/>
          </a:ln>
        </p:spPr>
        <p:txBody>
          <a:bodyPr anchor="t">
            <a:normAutofit fontScale="40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عوامل البيئة التكنولو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نتيجة التطورات التكنولوجية السريعة والمتلاحقة ، أصبح لزاماً على المنظمات متابعة التغيرات التكنولوجية في البيئة الخارجية وخاصة تلك التغيرات والتطورات التكنولوجية التي ترتبط بأعمال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الرغبات المتغيرة للمستهلكين ، وتزايد المنافسة ، وظهور تقنيات جديدة تدعو الإدارة العليا إلى تقديم منتجات جديدة بتقنيات حديثة ،  وإلا فإنها سوف تعرض نفسها للمخاطرة بسبب الإبقاء على تقديم المنتجات الحالية ، مما قد يعرضها للفشل والخروج من السوق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العوامل الديموغراف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العوامل الديموغرافية تؤثر بشكل كبير جداً على المنظمات ، فزيادة السكان مثلاً تؤدي إلى زيادة الطلب على المنتجات أو الخدمات ، كما أن تناقص السكان يؤدي إلى تناقص حجم الطلب على المنتجات أو الخدمات التي تقدمها المنظمات . وبالمثل فإن حركة السكان من الأرياف إلى المدن ، أو تغير مستوى الدخل ، أو تغير التركيبة العمرية للسكان ، يفرض على الإدارة العليا للمنظمة إختيار إستراتيجية تتلاءم والبيئة الديموغرافية المحيطة با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ج‌-عوامل البيئة السياسية والقانون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ؤثر القرارات الحكومية في الإختيارات الإستراتيجية للمنظمات ، فقد تتيح لها في بعض الأحيان فرص عمل ، أو تحد منها لتمثل تهديداً لأعمالها في أحيان أخرى . ففي حال فرض الحكومات ضرائب على المنتجات المستوردة قد يعود بفائدة على المصانع الوطنية ، كما قد يعود بضرر في نفس الوقت على المنظمات المستوردة . فالتغير في القرارات السياسية قد يخلق فرصاً لبعض المنظمات ، أو قد يؤدي إلى زيادة التهديدات لمنظمات أخرى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تعتبر الجماعات والمنظمات والأفراد الذين يمتلكون قوة تأثير على قرارات المنظمة من ضمن نطاق البيئة السياسية والقانون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ح‌-عوامل البيئة الدولية والعالم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لعب التغيرات في البيئة الدولية والعالمية دوراً هاماً ومؤثراً على منظمات الأعمال بسبب قدرتها على إتاحة الفرص وخلق التهديدات في نفس الوقت . وتعتبر التكتلات الإقتصادية الدولية ، التحالفات السياسية الدولية ، الحروب والمنازعات الدولية ، المنازعات الإقتصادية الدولية ، الكوارث الطبيعية ، الأزمات الإقتصادية والسياسية الدولية ، التطورات التكنولوجية السريعة ، كل ذلك يعتبر من عوامل البيئة الدولية والعالم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48640"/>
            <a:ext cx="8229240" cy="5832360"/>
          </a:xfrm>
          <a:prstGeom prst="rect">
            <a:avLst/>
          </a:prstGeom>
          <a:noFill/>
          <a:ln w="0">
            <a:noFill/>
          </a:ln>
        </p:spPr>
        <p:txBody>
          <a:bodyPr anchor="t">
            <a:normAutofit fontScale="37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 التحليل الإستراتيجي لعوامل البيئة الداخلية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عملية تحليل البيئة الداخلية للمنظمة لها أهمية خاصة نظراً لما تحققه من تحديد للإمكانيات المتوفرة لدى المنظمة سواء كانت مادية أم بشرية ، وهي تحدد مناطق القوة ومناطق الضعف في المنظمة ، مما يساعد في معرفة موقع المنظمة في السوق مقارنة بالمنظمات المنافسة ، وهذا يساعد المنظمة على معرفة كيفية إستغلال الفرص المتوفرة في البيئة المحيطة ، كما يساعد في تجنيب المنظمة للمخاطر والتهديدات المتوقع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كما تسهم عملية التحليل البيئي الداخلي في تكامل عملية التحليل الإستراتيجي ، حيث أن إجتماع التحليل البيئي الداخلي مع الخارجي مع بيئة الصناعة يوفر التكامل لعملية لتحليل الإستراتيج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عوامل البيئة الداخلية تتمثل بما يأتي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أ‌- الهيكل التنظيمي : التنظيم وظيفة من وظائف الإدارة لتحقيق أهداف المنظمة ، ومن خلال التنظيم يتضح  مسار العمل وتحديد السلطة والمسؤولية في المنظمة بمختلف مستوياتها الإداري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ب‌-ثقافة المنظمة : تعرف ثقافة المنظمة بأنها تلك القيم السائدة التي تعتنقها المنظمة ، أو هي الفلسفة التي ترشد سياسة المنظمة نحو العاملين والزبائن ، أي أن ثقافة المنظمة هي مجموعة المعتقدات والرموز  التي تمتلكها المنظمة والتي نشأت بمرور الزمن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ت‌-العوامل التسويقية : تتعلق كفاءة وفاعلية الإدارة التسويقية بجدارة النشاط التسويقي الذي يهدف لتنفيذ أهداف المنظمة وإستراتيجيتها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ث‌-العوامل الإنتاجية :  تتمثل الإستراتيجيات الإنتاجية بإختيار وتصميم المنتج والرقابة على أنشطة المنظمة اللازمة للإنتاج أو الخدمات ، كما أن إستراتيجيات الإنتاج تعكس مستوى الجودة والتكلفة والخدمة والكفاءة الإنتاجي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ج‌-عوامل إدارة الموارد البشرية : تستطيع المنظمة التي تتمتع بموارد بشرية كفوءة أن تحقق أهدافها الإستراتيجية بفاعلية وكفاء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ح‌-العوامل المالية :  يساهم تحليل العوامل المالية في المنظمة في تحديد طبيعة الإستراتيجية التي يمكن أن تنتهجها إزاء موقفها المالي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حديد الموقف الإستراتيجي</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قع على الإدارة الإستراتيجية بعد التحليل مهمة تحديد الموقف الإستراتيجي للمنظمة وذلك لمعرفة ماهي الإستراتيجيات العامة التي يمكن إتخاذها إنسجاماً مع إمكانات المنظمة الداخلية ( القوة والضعف ) ومواقفها الخارجية ( الفرص والتهديدات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يتحدد الموقف الإستراتيجي للمنظمة من خلال القيام بتحليل مصفوفة </a:t>
            </a:r>
            <a:r>
              <a:rPr b="0" lang="en-GB" sz="3200" spc="-1" strike="noStrike">
                <a:solidFill>
                  <a:srgbClr val="ffffff"/>
                </a:solidFill>
                <a:latin typeface="Calibri"/>
              </a:rPr>
              <a:t>SWOT</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395640" y="764640"/>
            <a:ext cx="849672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48640"/>
            <a:ext cx="8229240" cy="5832360"/>
          </a:xfrm>
          <a:prstGeom prst="rect">
            <a:avLst/>
          </a:prstGeom>
          <a:noFill/>
          <a:ln w="0">
            <a:noFill/>
          </a:ln>
        </p:spPr>
        <p:txBody>
          <a:bodyPr anchor="t">
            <a:normAutofit fontScale="50000"/>
          </a:bodyPr>
          <a:p>
            <a:pPr indent="0" algn="just" rtl="1">
              <a:lnSpc>
                <a:spcPct val="100000"/>
              </a:lnSpc>
              <a:spcBef>
                <a:spcPts val="641"/>
              </a:spcBef>
              <a:buNone/>
              <a:tabLst>
                <a:tab algn="l" pos="0"/>
              </a:tabLst>
            </a:pPr>
            <a:r>
              <a:rPr b="0" lang="ar-IQ" sz="3200" spc="-1" strike="noStrike">
                <a:solidFill>
                  <a:srgbClr val="ffffff"/>
                </a:solidFill>
                <a:latin typeface="Calibri"/>
              </a:rPr>
              <a:t>تحليل الفرص والمخاطر </a:t>
            </a:r>
            <a:r>
              <a:rPr b="0" lang="en-GB" sz="3200" spc="-1" strike="noStrike">
                <a:solidFill>
                  <a:srgbClr val="ffffff"/>
                </a:solidFill>
                <a:latin typeface="Calibri"/>
              </a:rPr>
              <a:t>SWOT</a:t>
            </a:r>
            <a:r>
              <a:rPr b="0" lang="en-GB" sz="3200" spc="-1" strike="noStrike">
                <a:solidFill>
                  <a:srgbClr val="ffffff"/>
                </a:solidFill>
                <a:latin typeface="Calibri"/>
              </a:rPr>
              <a:t>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هو اختصار لـ </a:t>
            </a:r>
            <a:r>
              <a:rPr b="0" lang="en-GB" sz="3200" spc="-1" strike="noStrike">
                <a:solidFill>
                  <a:srgbClr val="ffffff"/>
                </a:solidFill>
                <a:latin typeface="Calibri"/>
              </a:rPr>
              <a:t>Strength, Weakness, Opportunities &amp; Threats</a:t>
            </a:r>
            <a:r>
              <a:rPr b="0" lang="en-GB" sz="3200" spc="-1" strike="noStrike">
                <a:solidFill>
                  <a:srgbClr val="ffffff"/>
                </a:solidFill>
                <a:latin typeface="Calibri"/>
              </a:rPr>
              <a:t>  ، ويعتبر تحليل </a:t>
            </a:r>
            <a:r>
              <a:rPr b="0" lang="en-GB" sz="3200" spc="-1" strike="noStrike">
                <a:solidFill>
                  <a:srgbClr val="ffffff"/>
                </a:solidFill>
                <a:latin typeface="Calibri"/>
              </a:rPr>
              <a:t>SWOT</a:t>
            </a:r>
            <a:r>
              <a:rPr b="0" lang="en-GB" sz="3200" spc="-1" strike="noStrike">
                <a:solidFill>
                  <a:srgbClr val="ffffff"/>
                </a:solidFill>
                <a:latin typeface="Calibri"/>
              </a:rPr>
              <a:t> أداة مفيدة لفهم عمل المنظمة من الداخل والخارج . حيث يأخذ تحليل نقاط القوة والضعف بالاعتبار العوامل الداخلية للمنظمة ، ويصنف كل عامل من هذه العوامل كعامل قوة أو ضعف بالنسبة ل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كما يهتم تحليل الفرص والمخاطر </a:t>
            </a:r>
            <a:r>
              <a:rPr b="0" lang="en-GB" sz="3200" spc="-1" strike="noStrike">
                <a:solidFill>
                  <a:srgbClr val="ffffff"/>
                </a:solidFill>
                <a:latin typeface="Calibri"/>
              </a:rPr>
              <a:t>SWOT</a:t>
            </a:r>
            <a:r>
              <a:rPr b="0" lang="en-GB" sz="3200" spc="-1" strike="noStrike">
                <a:solidFill>
                  <a:srgbClr val="ffffff"/>
                </a:solidFill>
                <a:latin typeface="Calibri"/>
              </a:rPr>
              <a:t> بالبيئة الخارجية للمنظمة  في محاولة للتركيز على اتجاهها في المستقب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نستطيع من خلال هذا التحليل أن نفهم الفرص المتوفرة لنا والتي يمكن أن تكون على شكل تكنولوجيا جديدة أو تطوير البنية التحتية التي يمكن أن توسع قاعدة الزبائن .. فهو يسمح ببناء قوة المنظمة وخلق فرص جديدة للوصول لمزيد من الزبائن . وهو مهم أيضا لأخذ المخاطر بعين الاعتبار مثل الـ “</a:t>
            </a:r>
            <a:r>
              <a:rPr b="0" lang="en-GB" sz="3200" spc="-1" strike="noStrike">
                <a:solidFill>
                  <a:srgbClr val="ffffff"/>
                </a:solidFill>
                <a:latin typeface="Calibri"/>
              </a:rPr>
              <a:t>Feed-back</a:t>
            </a:r>
            <a:r>
              <a:rPr b="0" lang="en-GB" sz="3200" spc="-1" strike="noStrike">
                <a:solidFill>
                  <a:srgbClr val="ffffff"/>
                </a:solidFill>
                <a:latin typeface="Calibri"/>
              </a:rPr>
              <a:t>” التي تأتي من البيئة الخارجية.  ويجاوب على كثير من الأسئلة حول ما هي المخاطر الكبرى التي سوف تواجهها المنظمة الآن وخلال الأعوام الخمس القادمة ؟ وهنا نعرف أننا يجب مراقبة هذه المخاطر التي سوف تواجهها المنظمة بشكل مستمر للتوصل إلى الاستراتيجيات المناسبة للتعامل مع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إختيار الإستراتيجية يستمد أساساً من نتائج تقييم مصفوفة </a:t>
            </a:r>
            <a:r>
              <a:rPr b="0" lang="en-GB" sz="3200" spc="-1" strike="noStrike">
                <a:solidFill>
                  <a:srgbClr val="ffffff"/>
                </a:solidFill>
                <a:latin typeface="Calibri"/>
              </a:rPr>
              <a:t>SWOT</a:t>
            </a:r>
            <a:r>
              <a:rPr b="0" lang="en-GB" sz="3200" spc="-1" strike="noStrike">
                <a:solidFill>
                  <a:srgbClr val="ffffff"/>
                </a:solidFill>
                <a:latin typeface="Calibri"/>
              </a:rPr>
              <a:t> ، وإن المنظمة التي تضع خطة إستراتيجية ولم تأخذ بعين الإعتبار أهمية العناصر الرئيسية للمصفوفة سوف تعرض نفسها للخطر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داء المنظمة ، مثل دخول منافسين جدد ، أو نمو قوة التفاوض لدى المشترين أو الموردين.</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حليل مصفوفة </a:t>
            </a:r>
            <a:r>
              <a:rPr b="0" lang="en-GB" sz="3200" spc="-1" strike="noStrike">
                <a:solidFill>
                  <a:srgbClr val="ffffff"/>
                </a:solidFill>
                <a:latin typeface="Calibri"/>
              </a:rPr>
              <a:t>SWOT</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تحليل المتغيرات الأربعة للمصفوفة  يساعد على تحليل الموقف الإستراتيجي عبر دمج تقييم عناصر البيئة الخارجية ( الفرص والتهديدات ) مع أنشطة الإدارة الداخلية ( القوة والضعف ) ، وفي ضوء النتائج يتبن لنا الإستراتيجيات التي يتوجب العمل بها.</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548640"/>
            <a:ext cx="8229240" cy="5832360"/>
          </a:xfrm>
          <a:prstGeom prst="rect">
            <a:avLst/>
          </a:prstGeom>
          <a:noFill/>
          <a:ln w="0">
            <a:noFill/>
          </a:ln>
        </p:spPr>
        <p:txBody>
          <a:bodyPr anchor="t">
            <a:normAutofit fontScale="57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يمكن تلخيص هذه الإستراتيجيات طبقاً للآت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إستراتيجيات هجومية : وتهدف لإستغلال الفرص ، وتستخدم عند وجود فرص متاحة بالإضافة إلى نقاط قوة  كبير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ب‌-إستراتيجيات علاجية : وتهدف لتصحيح نقاط الضعف الداخلية في المنظمة عند وجود فرص كبيرة لايمكن إستغلالها بسبب نقاط الضعف الموجود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إستراتيجيات دفاعية : وتهدف للدفاع ضد أخطار التهديدات المحيطة بالمنظمة ، وتستخدم عند توفر نقاط قوة وبوجود تهديدات محيط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إستراتيجيات إنكماشية : وتهدف للتقليل من التهديدات الخارجية ومعالجة نقاط الضعف الداخل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ثالثاً  : تنفيذ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تعتبر هذه المرحلة من عمليات الادارة الاستراتيجية مهمة جدا حيت ان التنفيذ الفعال للاستراتيجيات المصاغه جيدا يؤدي على النجاح في حين ان التنفيذ غير الفعال للاستراتيجيات المصاغه جيدا يؤدي الى ظهور اشكالات عديدة .ويمكن للتنفيذ الفعال ان يساهم في سد الفجوات في الاستراتيجية غير المصاغة جيدا ويتجاوز الاخطاء الواردة في حين سيكون الفشل حليف الاستراتيجية غير المصاغة جيدا ترافقها عمليات تنفيذ غير فعالة كما في الشكل التالي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67640" y="548640"/>
            <a:ext cx="8064360" cy="1927080"/>
          </a:xfrm>
          <a:prstGeom prst="rect">
            <a:avLst/>
          </a:prstGeom>
          <a:ln w="0">
            <a:noFill/>
          </a:ln>
        </p:spPr>
      </p:pic>
      <p:sp>
        <p:nvSpPr>
          <p:cNvPr id="74" name="Rectangle 2"/>
          <p:cNvSpPr/>
          <p:nvPr/>
        </p:nvSpPr>
        <p:spPr>
          <a:xfrm>
            <a:off x="683640" y="3213000"/>
            <a:ext cx="7920360" cy="27709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200" spc="-1" strike="noStrike">
                <a:solidFill>
                  <a:srgbClr val="ffffff"/>
                </a:solidFill>
                <a:latin typeface="Calibri"/>
              </a:rPr>
              <a:t>مستلزمات تنفيذ الاستراتيجية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1</a:t>
            </a:r>
            <a:r>
              <a:rPr b="0" lang="en-US" sz="2200" spc="-1" strike="noStrike">
                <a:solidFill>
                  <a:srgbClr val="ffffff"/>
                </a:solidFill>
                <a:latin typeface="Calibri"/>
              </a:rPr>
              <a:t>-هيكل تنظيمي فعال وكفؤ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2</a:t>
            </a:r>
            <a:r>
              <a:rPr b="0" lang="en-US" sz="2200" spc="-1" strike="noStrike">
                <a:solidFill>
                  <a:srgbClr val="ffffff"/>
                </a:solidFill>
                <a:latin typeface="Calibri"/>
              </a:rPr>
              <a:t>-انظمة الادارة والاساليب الادارية المستخدمة فالتنفيذ الفعال يتطلب انظمة معلومات استراتيجية لها القدرة على تزويد متخذي القرار بالمعلومات الرئيسية والمهمة بالسرعة والدقه والكفاءة المطلوبة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3</a:t>
            </a:r>
            <a:r>
              <a:rPr b="0" lang="en-US" sz="2200" spc="-1" strike="noStrike">
                <a:solidFill>
                  <a:srgbClr val="ffffff"/>
                </a:solidFill>
                <a:latin typeface="Calibri"/>
              </a:rPr>
              <a:t>-القيادة الاستراتيجية الملهمة للعاملين والايحاء لهم بقبول التغير المستمر وتحسين الاستراتيجيات وعمليات تنفيذها.</a:t>
            </a:r>
            <a:endParaRPr b="0" lang="en-US" sz="2200" spc="-1" strike="noStrike">
              <a:solidFill>
                <a:srgbClr val="000000"/>
              </a:solidFill>
              <a:latin typeface="Arial"/>
            </a:endParaRPr>
          </a:p>
          <a:p>
            <a:pPr algn="just" rtl="1">
              <a:lnSpc>
                <a:spcPct val="100000"/>
              </a:lnSpc>
              <a:tabLst>
                <a:tab algn="l" pos="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48640"/>
            <a:ext cx="8229240" cy="5616360"/>
          </a:xfrm>
          <a:prstGeom prst="rect">
            <a:avLst/>
          </a:prstGeom>
          <a:noFill/>
          <a:ln w="0">
            <a:noFill/>
          </a:ln>
        </p:spPr>
        <p:txBody>
          <a:bodyPr anchor="t">
            <a:normAutofit fontScale="97000"/>
          </a:bodyPr>
          <a:p>
            <a:pPr marL="332640" indent="-332640" algn="just" rtl="1">
              <a:lnSpc>
                <a:spcPct val="100000"/>
              </a:lnSpc>
              <a:spcBef>
                <a:spcPts val="641"/>
              </a:spcBef>
              <a:buClr>
                <a:srgbClr val="ffffff"/>
              </a:buClr>
              <a:buFont typeface="StarSymbol"/>
              <a:buChar char="-"/>
            </a:pPr>
            <a:r>
              <a:rPr b="0" lang="ar-IQ" sz="3200" spc="-1" strike="noStrike">
                <a:solidFill>
                  <a:srgbClr val="ffffff"/>
                </a:solidFill>
                <a:latin typeface="Calibri"/>
              </a:rPr>
              <a:t>رابعاً : تقييم ورقابة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هي رقابة عامة تتأكد بموجبها الادارة من صحة التوجهات التي تسير عليها  المنظمة .ان نظام او نموذج الرقابة للتغذية الامامية او الرقاية قبل التنفيذ من خلال تهيئة المقدمات هو النموذج الاصلح للرقابة الاستراتيجية .والرقابة الفعالة تتطلب</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وجود هيكل مناسب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ثقافة تنظيمية تشارك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أنظمة معلومات متطورة لغرض تحسين كفاءة النظام الرقابي وزيادة دقة مؤشراته.</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548640"/>
            <a:ext cx="8229240" cy="5328360"/>
          </a:xfrm>
          <a:prstGeom prst="rect">
            <a:avLst/>
          </a:prstGeom>
          <a:noFill/>
          <a:ln w="0">
            <a:noFill/>
          </a:ln>
        </p:spPr>
        <p:txBody>
          <a:bodyPr anchor="t">
            <a:normAutofit fontScale="93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مراجع والمصادر</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صالح مهدي محسن العامري &amp; طاهر محسن منصور الغالبي , الادارة والاعمال , </a:t>
            </a:r>
            <a:r>
              <a:rPr b="0" lang="en-US" sz="3200" spc="-1" strike="noStrike">
                <a:solidFill>
                  <a:srgbClr val="ffffff"/>
                </a:solidFill>
                <a:latin typeface="Calibri"/>
              </a:rPr>
              <a:t>2011</a:t>
            </a:r>
            <a:r>
              <a:rPr b="0" lang="en-US" sz="3200" spc="-1" strike="noStrike">
                <a:solidFill>
                  <a:srgbClr val="ffffff"/>
                </a:solidFill>
                <a:latin typeface="Calibri"/>
              </a:rPr>
              <a:t> ليلى هاشم ، الاتجاهات الحديثة فى الادارة العا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عبد الحميد عبد الفتاح المغربي , الادارة الاستراتيجية , مجموعة النيل القاهرة , ط</a:t>
            </a:r>
            <a:r>
              <a:rPr b="0" lang="en-US" sz="3200" spc="-1" strike="noStrike">
                <a:solidFill>
                  <a:srgbClr val="ffffff"/>
                </a:solidFill>
                <a:latin typeface="Calibri"/>
              </a:rPr>
              <a:t>2</a:t>
            </a:r>
            <a:r>
              <a:rPr b="0" lang="en-US" sz="3200" spc="-1" strike="noStrike">
                <a:solidFill>
                  <a:srgbClr val="ffffff"/>
                </a:solidFill>
                <a:latin typeface="Calibri"/>
              </a:rPr>
              <a:t> , </a:t>
            </a:r>
            <a:r>
              <a:rPr b="0" lang="en-US" sz="3200" spc="-1" strike="noStrike">
                <a:solidFill>
                  <a:srgbClr val="ffffff"/>
                </a:solidFill>
                <a:latin typeface="Calibri"/>
              </a:rPr>
              <a:t>1995</a:t>
            </a:r>
            <a:r>
              <a:rPr b="0" lang="en-US" sz="3200" spc="-1" strike="noStrike">
                <a:solidFill>
                  <a:srgbClr val="ffffff"/>
                </a:solidFill>
                <a:latin typeface="Calibri"/>
              </a:rPr>
              <a:t> ثابت عبدالرحمن إدريس &amp; د. جمال الدين محمد المرسى ، الإدارة الاستراتيجية (مفاهيم ونماذج وتطبيقات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640"/>
            <a:ext cx="8229240" cy="5976360"/>
          </a:xfrm>
          <a:prstGeom prst="rect">
            <a:avLst/>
          </a:prstGeom>
          <a:noFill/>
          <a:ln w="0">
            <a:noFill/>
          </a:ln>
        </p:spPr>
        <p:txBody>
          <a:bodyPr anchor="t">
            <a:normAutofit fontScale="46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 المعنى والمفاهيم المهم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 مقدم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هي كل ما يتعلق بتحديد ووصف الاستراتيجيات التي يمكن للمديرين تنفيذها لتحقيق أداء أفضل وميزة تنافسية لمنظمتهم. يقال إن المؤسسة تتمتع بميزة تنافسية إذا كانت ربحيتها أعلى من متوسط الربحية لجميع الشركات في صناعت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مكن أيضًا تعريف الإدارة الإستراتيجية على أنها مجموعة من القرارات والأفعال التي يقوم بها المدير والتي تحدد نتيجة أداء الشركة. يجب أن يكون لدى المدير معرفة وتحليل شاملين للبيئة التنظيمية العامة والتنافسية حتى يتسنى له اتخاذ القرارات الصحيحة. يجب عليهم إجراء تحليل نقاط القوة والضعف والفرص والمخاطر (نقاط القوة والضعف والفرص والتهديدات) ، أي يجب أن يستفيدوا على أفضل وجه ممكن من نقاط القوة وتقليل نقاط الضعف التنظيمية والاستفادة من الفرص الناشئة من بيئة الأعمال وعدم تجاهل التهديدات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استراتيجية ليست سوى التخطيط لكل من الحالات الطارئة التي يمكن التنبؤ بها وكذلك غير الممكنة. وهو قابل للتطبيق على المؤسسات الصغيرة والكبيرة على حد سواء وحتى أصغر المؤسسات تواجه المنافسة ، ومن خلال صياغة وتنفيذ الاستراتيجيات المناسبة ، فإنها يمكن أن تحقق ميزة تنافسية مستدا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ها طريقة يحدد بها الاستراتيجيون الأهداف والمضي قدماً في تحقيقها. إنه يتعامل مع صنع وتنفيذ القرارات المتعلقة بالاتجاه المستقبلي للمنظمة. إنها تساعدنا على تحديد الاتجاه الذي تتحرك فيه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هي عملية مستمرة تقوم بتقييم وضبط الأعمال والصناعات التي تشارك فيها المنظمة ؛ تقييم منافسيها وتحديد الأهداف والاستراتيجيات لتلبية جميع المنافسين الحاليين والمحتملين ؛ ثم تعيد تقييم الاستراتيجيات على أساس منتظم لتحديد كيفية تنفيذها وما إذا كانت ناجحة أم أنها تحتاج إلى استبدال</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827640" y="764640"/>
            <a:ext cx="7632360" cy="532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tl"/>
        </a:blipFill>
      </p:bgPr>
    </p:bg>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405038923"/>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993600"/>
          </a:xfrm>
          <a:prstGeom prst="rect">
            <a:avLst/>
          </a:prstGeom>
          <a:noFill/>
          <a:ln w="0">
            <a:noFill/>
          </a:ln>
        </p:spPr>
        <p:txBody>
          <a:bodyPr anchor="ctr">
            <a:normAutofit/>
          </a:bodyPr>
          <a:p>
            <a:pPr indent="0" algn="ctr" rtl="1">
              <a:lnSpc>
                <a:spcPct val="100000"/>
              </a:lnSpc>
              <a:buNone/>
            </a:pPr>
            <a:r>
              <a:rPr b="1" lang="ar-IQ" sz="5400" spc="-1" strike="noStrike">
                <a:solidFill>
                  <a:srgbClr val="ff0000"/>
                </a:solidFill>
                <a:latin typeface="Calibri"/>
              </a:rPr>
              <a:t>التطـــــــور</a:t>
            </a:r>
            <a:endParaRPr b="0" lang="en-US" sz="5400" spc="-1" strike="noStrike">
              <a:solidFill>
                <a:srgbClr val="ffffff"/>
              </a:solidFill>
              <a:latin typeface="Calibri"/>
            </a:endParaRPr>
          </a:p>
        </p:txBody>
      </p:sp>
      <p:sp>
        <p:nvSpPr>
          <p:cNvPr id="46" name="PlaceHolder 2"/>
          <p:cNvSpPr>
            <a:spLocks noGrp="1"/>
          </p:cNvSpPr>
          <p:nvPr>
            <p:ph/>
          </p:nvPr>
        </p:nvSpPr>
        <p:spPr>
          <a:xfrm>
            <a:off x="323640" y="1196640"/>
            <a:ext cx="8424720" cy="5328360"/>
          </a:xfrm>
          <a:prstGeom prst="rect">
            <a:avLst/>
          </a:prstGeom>
          <a:noFill/>
          <a:ln w="0">
            <a:noFill/>
          </a:ln>
        </p:spPr>
        <p:txBody>
          <a:bodyPr anchor="t">
            <a:normAutofit fontScale="81000"/>
          </a:bodyPr>
          <a:p>
            <a:pPr marL="300240" indent="0" algn="r" rtl="1">
              <a:lnSpc>
                <a:spcPct val="150000"/>
              </a:lnSpc>
              <a:spcBef>
                <a:spcPts val="519"/>
              </a:spcBef>
              <a:buNone/>
              <a:tabLst>
                <a:tab algn="l" pos="0"/>
              </a:tabLst>
            </a:pPr>
            <a:r>
              <a:rPr b="1" lang="ar-IQ" sz="2600" spc="-1" strike="noStrike">
                <a:solidFill>
                  <a:schemeClr val="accent6">
                    <a:lumMod val="20000"/>
                    <a:lumOff val="80000"/>
                  </a:schemeClr>
                </a:solidFill>
                <a:latin typeface="Calibri"/>
              </a:rPr>
              <a:t>مدرسة هارفارد للإعمال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1</a:t>
            </a:r>
            <a:r>
              <a:rPr b="0" lang="en-US" sz="2600" spc="-1" strike="noStrike">
                <a:solidFill>
                  <a:srgbClr val="ffffff"/>
                </a:solidFill>
                <a:latin typeface="Calibri"/>
              </a:rPr>
              <a:t>- أطلقت عنها سياسات الأعمال حيث كانت تعني بـ (الإنتاجية  , التسويق , الموارد البشرية , المالية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2</a:t>
            </a:r>
            <a:r>
              <a:rPr b="0" lang="en-US" sz="2600" spc="-1" strike="noStrike">
                <a:solidFill>
                  <a:srgbClr val="ffffff"/>
                </a:solidFill>
                <a:latin typeface="Calibri"/>
              </a:rPr>
              <a:t>- وضع الحلول الافتراضية التي تعالج التطورات المتسارعة في البيئة الخارجية      ( سياسية , اقتصادية , اجتماعية , فنية , قانونية  . وغيرها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3</a:t>
            </a:r>
            <a:r>
              <a:rPr b="0" lang="en-US" sz="2600" spc="-1" strike="noStrike">
                <a:solidFill>
                  <a:srgbClr val="ffffff"/>
                </a:solidFill>
                <a:latin typeface="Calibri"/>
              </a:rPr>
              <a:t>- استبدال مصطلح سياسة الاعمال بمصطلح الإدارة الإستراتيجية ( لشموليته وقدرته على تمكين المنظمات من بلوغ أهدافها بفاعلية وكفائة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4</a:t>
            </a:r>
            <a:r>
              <a:rPr b="0" lang="en-US" sz="2600" spc="-1" strike="noStrike">
                <a:solidFill>
                  <a:srgbClr val="ffffff"/>
                </a:solidFill>
                <a:latin typeface="Calibri"/>
              </a:rPr>
              <a:t>- مع تغيير البيئة للاعمال ظهرت الحاجة الى بلورة مفهوم الادارة الاسراتيجية وتغيرها من بيئة مستقرة الى بيئة سريعة وبسبب المنافسة العالية وظروف عدم التاكد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4000" y="404640"/>
            <a:ext cx="39704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عقد السبعينات </a:t>
            </a: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240" cy="4852800"/>
          </a:xfrm>
          <a:prstGeom prst="rect">
            <a:avLst/>
          </a:prstGeom>
          <a:noFill/>
          <a:ln w="0">
            <a:noFill/>
          </a:ln>
        </p:spPr>
        <p:txBody>
          <a:bodyPr anchor="t">
            <a:noAutofit/>
          </a:bodyPr>
          <a:p>
            <a:pPr marL="3430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تم استخدام مصفوفة </a:t>
            </a:r>
            <a:r>
              <a:rPr b="0" lang="en-US" sz="3200" spc="-1" strike="noStrike">
                <a:solidFill>
                  <a:srgbClr val="ffffff"/>
                </a:solidFill>
                <a:latin typeface="Calibri"/>
              </a:rPr>
              <a:t>SWOT</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قدم بورتر أنموذجه المميز لهيكل الصناعة </a:t>
            </a:r>
            <a:endParaRPr b="0" lang="en-US" sz="3200" spc="-1" strike="noStrike">
              <a:solidFill>
                <a:srgbClr val="ffffff"/>
              </a:solidFill>
              <a:latin typeface="Calibri"/>
            </a:endParaRPr>
          </a:p>
          <a:p>
            <a:pPr marL="3430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عقد الاخير من القرن العشرين زيادة سرعة ديناميكية المتغيرات البيئية للتكنولوجيا ام السياسة والاقتصاد او التشريع او الثقافة ( اذواق الزبائن ورغباتهم ) والمنافسة ظهرت مداخل جديدة مثل ادارة الجودة الشاملة واعادة هندسة الشركات ومدخل الهدم الخلاق ومدخل المقارنة المرجعية .</a:t>
            </a:r>
            <a:endParaRPr b="0" lang="en-US" sz="3200" spc="-1" strike="noStrike">
              <a:solidFill>
                <a:srgbClr val="ffffff"/>
              </a:solidFill>
              <a:latin typeface="Calibri"/>
            </a:endParaRPr>
          </a:p>
        </p:txBody>
      </p:sp>
      <p:sp>
        <p:nvSpPr>
          <p:cNvPr id="49" name="مربع نص 3"/>
          <p:cNvSpPr/>
          <p:nvPr/>
        </p:nvSpPr>
        <p:spPr>
          <a:xfrm>
            <a:off x="611640" y="620640"/>
            <a:ext cx="345600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0000"/>
                </a:solidFill>
                <a:latin typeface="Calibri"/>
              </a:rPr>
              <a:t>MILES &amp; S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06560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هم التعاريف </a:t>
            </a:r>
            <a:endParaRPr b="0" lang="en-US" sz="4400" spc="-1" strike="noStrike">
              <a:solidFill>
                <a:srgbClr val="ffffff"/>
              </a:solidFill>
              <a:latin typeface="Calibri"/>
            </a:endParaRPr>
          </a:p>
        </p:txBody>
      </p:sp>
      <p:sp>
        <p:nvSpPr>
          <p:cNvPr id="51" name="PlaceHolder 2"/>
          <p:cNvSpPr>
            <a:spLocks noGrp="1"/>
          </p:cNvSpPr>
          <p:nvPr>
            <p:ph/>
          </p:nvPr>
        </p:nvSpPr>
        <p:spPr>
          <a:xfrm>
            <a:off x="457200" y="1268640"/>
            <a:ext cx="8362800" cy="5112360"/>
          </a:xfrm>
          <a:prstGeom prst="rect">
            <a:avLst/>
          </a:prstGeom>
          <a:noFill/>
          <a:ln w="0">
            <a:noFill/>
          </a:ln>
        </p:spPr>
        <p:txBody>
          <a:bodyPr anchor="t">
            <a:normAutofit fontScale="69000"/>
          </a:bodyPr>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1</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IQ" sz="3200" spc="-1" strike="noStrike">
                <a:solidFill>
                  <a:schemeClr val="accent6">
                    <a:lumMod val="60000"/>
                    <a:lumOff val="40000"/>
                  </a:schemeClr>
                </a:solidFill>
                <a:latin typeface="Calibri"/>
              </a:rPr>
              <a:t>شاندلر </a:t>
            </a:r>
            <a:r>
              <a:rPr b="1" lang="en-US" sz="3200" spc="-1" strike="noStrike">
                <a:solidFill>
                  <a:schemeClr val="accent6">
                    <a:lumMod val="60000"/>
                    <a:lumOff val="40000"/>
                  </a:schemeClr>
                </a:solidFill>
                <a:latin typeface="Calibri"/>
              </a:rPr>
              <a:t>CHANDLER</a:t>
            </a:r>
            <a:r>
              <a:rPr b="1" lang="en-US" sz="3200" spc="-1" strike="noStrike">
                <a:solidFill>
                  <a:schemeClr val="accent6">
                    <a:lumMod val="60000"/>
                    <a:lumOff val="40000"/>
                  </a:schemeClr>
                </a:solidFill>
                <a:latin typeface="Calibri"/>
              </a:rPr>
              <a:t> </a:t>
            </a:r>
            <a:r>
              <a:rPr b="1" lang="en-US" sz="3200" spc="-1" strike="noStrike">
                <a:solidFill>
                  <a:schemeClr val="accent6">
                    <a:lumMod val="60000"/>
                    <a:lumOff val="40000"/>
                  </a:schemeClr>
                </a:solidFill>
                <a:latin typeface="Calibri"/>
              </a:rPr>
              <a:t> :</a:t>
            </a:r>
            <a:r>
              <a:rPr b="1" lang="ar-SA" sz="3200" spc="-1" strike="noStrike">
                <a:solidFill>
                  <a:srgbClr val="ffffff"/>
                </a:solidFill>
                <a:latin typeface="Calibri"/>
              </a:rPr>
              <a:t>الاستراتيجة</a:t>
            </a:r>
            <a:r>
              <a:rPr b="1" lang="en-US" sz="3200" spc="-1" strike="noStrike">
                <a:solidFill>
                  <a:schemeClr val="accent6">
                    <a:lumMod val="60000"/>
                    <a:lumOff val="40000"/>
                  </a:schemeClr>
                </a:solidFill>
                <a:latin typeface="Calibri"/>
              </a:rPr>
              <a:t> </a:t>
            </a:r>
            <a:r>
              <a:rPr b="0" lang="ar-SA" sz="3200" spc="-1" strike="noStrike">
                <a:solidFill>
                  <a:srgbClr val="ffffff"/>
                </a:solidFill>
                <a:latin typeface="Calibri"/>
              </a:rPr>
              <a:t>هي تحديد المنظمة لاهدافها وغاياتها على المدى البعيد وتخصيص الموارد لتحقيق اهدافها وغاياتها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2</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جوش وجلوك </a:t>
            </a:r>
            <a:r>
              <a:rPr b="1" lang="en-US" sz="3200" spc="-1" strike="noStrike">
                <a:solidFill>
                  <a:schemeClr val="accent6">
                    <a:lumMod val="60000"/>
                    <a:lumOff val="40000"/>
                  </a:schemeClr>
                </a:solidFill>
                <a:latin typeface="Calibri"/>
              </a:rPr>
              <a:t>JAUCH &amp; CLUECK</a:t>
            </a:r>
            <a:r>
              <a:rPr b="1" lang="en-US" sz="3200" spc="-1" strike="noStrike">
                <a:solidFill>
                  <a:schemeClr val="accent6">
                    <a:lumMod val="60000"/>
                    <a:lumOff val="40000"/>
                  </a:schemeClr>
                </a:solidFill>
                <a:latin typeface="Calibri"/>
              </a:rPr>
              <a:t>  </a:t>
            </a:r>
            <a:r>
              <a:rPr b="0" lang="en-US" sz="3200" spc="-1" strike="noStrike">
                <a:solidFill>
                  <a:srgbClr val="ffffff"/>
                </a:solidFill>
                <a:latin typeface="Calibri"/>
              </a:rPr>
              <a:t>: هي الخطة الموحدة المتفاعلة والشاملة التي تربط المزايا الاستراتيجية للمنظمة بتحديات البيئة وقد صممت لضمان تحقيق الاهداف الاساسية للمنظمة من خلال التنفيذ الملائم للمنظمة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3</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دركر </a:t>
            </a:r>
            <a:r>
              <a:rPr b="1" lang="en-US" sz="3200" spc="-1" strike="noStrike">
                <a:solidFill>
                  <a:schemeClr val="accent6">
                    <a:lumMod val="60000"/>
                    <a:lumOff val="40000"/>
                  </a:schemeClr>
                </a:solidFill>
                <a:latin typeface="Calibri"/>
              </a:rPr>
              <a:t>DRUCKER</a:t>
            </a:r>
            <a:r>
              <a:rPr b="1" lang="en-US" sz="3200" spc="-1" strike="noStrike">
                <a:solidFill>
                  <a:schemeClr val="accent6">
                    <a:lumMod val="60000"/>
                    <a:lumOff val="40000"/>
                  </a:schemeClr>
                </a:solidFill>
                <a:latin typeface="Calibri"/>
              </a:rPr>
              <a:t> : </a:t>
            </a:r>
            <a:r>
              <a:rPr b="0" lang="ar-SA" sz="3200" spc="-1" strike="noStrike">
                <a:solidFill>
                  <a:srgbClr val="ffffff"/>
                </a:solidFill>
                <a:latin typeface="Calibri"/>
              </a:rPr>
              <a:t>الاستراتيجية هي عملية مستمرة التنظيم وتنفيذ القرارات الحالية وتوفير المعلومات اللازمة وتنظيم الموارد والجهود الكفيلة لتنفيذ القرارات وتقييم النتائج بواسطة نظام متكامل وفعال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4</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د . زكريا الدوري : </a:t>
            </a:r>
            <a:r>
              <a:rPr b="0" lang="ar-SA" sz="3200" spc="-1" strike="noStrike">
                <a:solidFill>
                  <a:srgbClr val="ffffff"/>
                </a:solidFill>
                <a:latin typeface="Calibri"/>
              </a:rPr>
              <a:t>الاستراتيجية تتضمن المراحل المبكرة لتحديد رسالة وغاية واهداف المنظمة مع الظروف المرافقة لبيئتها الداخلية والخارجية</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8496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خطوات الادارة الاستراتيجة </a:t>
            </a:r>
            <a:endParaRPr b="0" lang="en-US" sz="4400" spc="-1" strike="noStrike">
              <a:solidFill>
                <a:srgbClr val="ffffff"/>
              </a:solidFill>
              <a:latin typeface="Calibri"/>
            </a:endParaRPr>
          </a:p>
        </p:txBody>
      </p:sp>
      <p:sp>
        <p:nvSpPr>
          <p:cNvPr id="53" name="PlaceHolder 2"/>
          <p:cNvSpPr>
            <a:spLocks noGrp="1"/>
          </p:cNvSpPr>
          <p:nvPr>
            <p:ph/>
          </p:nvPr>
        </p:nvSpPr>
        <p:spPr>
          <a:xfrm>
            <a:off x="457200" y="1340640"/>
            <a:ext cx="8229240" cy="5112360"/>
          </a:xfrm>
          <a:prstGeom prst="rect">
            <a:avLst/>
          </a:prstGeom>
          <a:noFill/>
          <a:ln w="0">
            <a:noFill/>
          </a:ln>
        </p:spPr>
        <p:txBody>
          <a:bodyPr anchor="t">
            <a:normAutofit fontScale="79000"/>
          </a:bodyPr>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1</a:t>
            </a:r>
            <a:r>
              <a:rPr b="1" lang="en-US" sz="3200" spc="-1" strike="noStrike">
                <a:solidFill>
                  <a:srgbClr val="ffffff"/>
                </a:solidFill>
                <a:latin typeface="Calibri"/>
              </a:rPr>
              <a:t>- صياغة رسالة المنظمة وتحديد غاياتها واهدافها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2</a:t>
            </a:r>
            <a:r>
              <a:rPr b="1" lang="en-US" sz="3200" spc="-1" strike="noStrike">
                <a:solidFill>
                  <a:srgbClr val="ffffff"/>
                </a:solidFill>
                <a:latin typeface="Calibri"/>
              </a:rPr>
              <a:t>- صياغة الاستراتيج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3</a:t>
            </a:r>
            <a:r>
              <a:rPr b="1" lang="en-US" sz="3200" spc="-1" strike="noStrike">
                <a:solidFill>
                  <a:srgbClr val="ffffff"/>
                </a:solidFill>
                <a:latin typeface="Calibri"/>
              </a:rPr>
              <a:t>- التحليل الاستراتيجي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أ . تحديد الفرص والتهديدات في البيئة الخارج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ب . تحليل جوانب القوة والضعف في البيئة الداخل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4</a:t>
            </a:r>
            <a:r>
              <a:rPr b="1" lang="en-US" sz="3200" spc="-1" strike="noStrike">
                <a:solidFill>
                  <a:srgbClr val="ffffff"/>
                </a:solidFill>
                <a:latin typeface="Calibri"/>
              </a:rPr>
              <a:t>- الخيارات الاستراتيج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أ. تحديد البدائل على مستوى المنظم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ب. تحديد البدائل على مستوى وحدة الاعمال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ج. تحديد البدائل على المستوى الوظيفي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5</a:t>
            </a:r>
            <a:r>
              <a:rPr b="1" lang="en-US" sz="3200" spc="-1" strike="noStrike">
                <a:solidFill>
                  <a:srgbClr val="ffffff"/>
                </a:solidFill>
                <a:latin typeface="Calibri"/>
              </a:rPr>
              <a:t>-  تنفيذ الاستراتجية</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6</a:t>
            </a:r>
            <a:r>
              <a:rPr b="1" lang="en-US" sz="3200" spc="-1" strike="noStrike">
                <a:solidFill>
                  <a:srgbClr val="ffffff"/>
                </a:solidFill>
                <a:latin typeface="Calibri"/>
              </a:rPr>
              <a:t>- تقييم ورقابة الاداء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3600" spc="-1" strike="noStrike">
                <a:solidFill>
                  <a:srgbClr val="ff0000"/>
                </a:solidFill>
                <a:latin typeface="Calibri"/>
              </a:rPr>
              <a:t>اداور ومهام المدير الاستراتيجي هنري منتزبرج </a:t>
            </a:r>
            <a:r>
              <a:rPr b="1" lang="en-US" sz="3600" spc="-1" strike="noStrike">
                <a:solidFill>
                  <a:srgbClr val="ff0000"/>
                </a:solidFill>
                <a:latin typeface="Calibri"/>
              </a:rPr>
              <a:t>MINTZBERG</a:t>
            </a:r>
            <a:endParaRPr b="0" lang="en-US" sz="3600" spc="-1" strike="noStrike">
              <a:solidFill>
                <a:srgbClr val="ffffff"/>
              </a:solidFill>
              <a:latin typeface="Calibri"/>
            </a:endParaRPr>
          </a:p>
        </p:txBody>
      </p:sp>
      <p:sp>
        <p:nvSpPr>
          <p:cNvPr id="55" name="PlaceHolder 2"/>
          <p:cNvSpPr>
            <a:spLocks noGrp="1"/>
          </p:cNvSpPr>
          <p:nvPr>
            <p:ph/>
          </p:nvPr>
        </p:nvSpPr>
        <p:spPr>
          <a:xfrm>
            <a:off x="457200" y="1600200"/>
            <a:ext cx="8229240" cy="4852800"/>
          </a:xfrm>
          <a:prstGeom prst="rect">
            <a:avLst/>
          </a:prstGeom>
          <a:noFill/>
          <a:ln w="0">
            <a:noFill/>
          </a:ln>
        </p:spPr>
        <p:txBody>
          <a:bodyPr anchor="t">
            <a:normAutofit fontScale="84000"/>
          </a:bodyPr>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1</a:t>
            </a:r>
            <a:r>
              <a:rPr b="0" lang="en-US" sz="3200" spc="-1" strike="noStrike">
                <a:solidFill>
                  <a:srgbClr val="ffffff"/>
                </a:solidFill>
                <a:latin typeface="Calibri"/>
              </a:rPr>
              <a:t>- رمز المدير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2</a:t>
            </a:r>
            <a:r>
              <a:rPr b="0" lang="en-US" sz="3200" spc="-1" strike="noStrike">
                <a:solidFill>
                  <a:srgbClr val="ffffff"/>
                </a:solidFill>
                <a:latin typeface="Calibri"/>
              </a:rPr>
              <a:t>- القائد والمظهرية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3</a:t>
            </a:r>
            <a:r>
              <a:rPr b="0" lang="en-US" sz="3200" spc="-1" strike="noStrike">
                <a:solidFill>
                  <a:srgbClr val="ffffff"/>
                </a:solidFill>
                <a:latin typeface="Calibri"/>
              </a:rPr>
              <a:t>- الدور الارتباطي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4</a:t>
            </a:r>
            <a:r>
              <a:rPr b="0" lang="en-US" sz="3200" spc="-1" strike="noStrike">
                <a:solidFill>
                  <a:srgbClr val="ffffff"/>
                </a:solidFill>
                <a:latin typeface="Calibri"/>
              </a:rPr>
              <a:t>- المراقب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5</a:t>
            </a:r>
            <a:r>
              <a:rPr b="0" lang="en-US" sz="3200" spc="-1" strike="noStrike">
                <a:solidFill>
                  <a:srgbClr val="ffffff"/>
                </a:solidFill>
                <a:latin typeface="Calibri"/>
              </a:rPr>
              <a:t>- الموزع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6</a:t>
            </a:r>
            <a:r>
              <a:rPr b="0" lang="en-US" sz="3200" spc="-1" strike="noStrike">
                <a:solidFill>
                  <a:srgbClr val="ffffff"/>
                </a:solidFill>
                <a:latin typeface="Calibri"/>
              </a:rPr>
              <a:t>- متحدث رسمي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7</a:t>
            </a:r>
            <a:r>
              <a:rPr b="0" lang="en-US" sz="3200" spc="-1" strike="noStrike">
                <a:solidFill>
                  <a:srgbClr val="ffffff"/>
                </a:solidFill>
                <a:latin typeface="Calibri"/>
              </a:rPr>
              <a:t>- مطور</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8</a:t>
            </a:r>
            <a:r>
              <a:rPr b="0" lang="en-US" sz="3200" spc="-1" strike="noStrike">
                <a:solidFill>
                  <a:srgbClr val="ffffff"/>
                </a:solidFill>
                <a:latin typeface="Calibri"/>
              </a:rPr>
              <a:t>- مصلح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9</a:t>
            </a:r>
            <a:r>
              <a:rPr b="0" lang="en-US" sz="3200" spc="-1" strike="noStrike">
                <a:solidFill>
                  <a:srgbClr val="ffffff"/>
                </a:solidFill>
                <a:latin typeface="Calibri"/>
              </a:rPr>
              <a:t>- ادارة الموارد</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10</a:t>
            </a:r>
            <a:r>
              <a:rPr b="0" lang="en-US" sz="3200" spc="-1" strike="noStrike">
                <a:solidFill>
                  <a:srgbClr val="ffffff"/>
                </a:solidFill>
                <a:latin typeface="Calibri"/>
              </a:rPr>
              <a:t>- مفاوض</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Words>3774</Words>
  <Paragraphs>246</Paragraphs>
  <Company>H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07:08:47Z</dcterms:created>
  <dc:creator>07901843931@gmail.com</dc:creator>
  <dc:description/>
  <dc:language>en-US</dc:language>
  <cp:lastModifiedBy>DR.Ahmed Saker 2o1O</cp:lastModifiedBy>
  <dcterms:modified xsi:type="dcterms:W3CDTF">2019-11-20T06:02:09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30</vt:r8>
  </property>
</Properties>
</file>