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888E-BEB3-4730-8426-71B910B4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8D1-2CFB-4B12-BB11-B12791DF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EA87-F0DF-4658-AD6B-43314F4D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CA9-2D3A-4E62-AEDC-7A78BEB9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4C9E-7661-489C-A5B2-130161A8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B81D-583E-4680-A7DC-F25A3D39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EECC-E20C-4481-9BF7-C98CE94D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8E60-5110-48A0-90E0-A9AD6BE3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A9DA-CEB2-4FBF-AF11-BF2C46BE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F5FD-9FF7-49D7-A8DF-AC48E59B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99FF-EE1B-4429-8670-375FA34D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6F97-A628-4D73-90EA-220CF0BA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2D55-0144-4E1E-A6E1-05F6B283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CBA8-472D-4801-BFA8-2C170656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CF94-25CD-44D6-9EEC-8DD95F82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5FC6-426E-4BB3-890E-9A957338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FD44-F68E-4937-BFA5-321AE382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B3A-BF80-4426-B2CF-F0EFA643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9461-5254-45DD-BF35-EE12DFCC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BB8-60AF-4947-9460-2472B852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DF1-E857-4D1B-9FA3-BF7E0EE4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569-08EE-4D25-B657-ADB2C0EA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6C5B-EAC5-48BA-8EC2-06FA9254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03D-5F27-42D0-B2BA-011DAC15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شكل حر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مثلث قائم الزاوية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رابط مستقيم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مثلث قائم الزاوية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4800" spc="-1" strike="noStrike">
                <a:solidFill>
                  <a:srgbClr val="464646"/>
                </a:solidFill>
                <a:latin typeface="Lucida Sans Unicode"/>
              </a:rPr>
              <a:t>انقر لتحرير نمط العنوان الرئيسي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مجموعة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شكل حر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شكل حر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شكل حر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 rtl="1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رابط مستقيم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1A9E5064-4524-4B7D-A359-FB68FF99F98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شكل حر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شكل حر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مثلث قائم الزاوية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رابط مستقيم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انقر لتحرير أنماط النص الرئيسي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 algn="r" rtl="1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ar-SA" sz="2300" spc="-1" strike="noStrike">
                <a:solidFill>
                  <a:srgbClr val="000000"/>
                </a:solidFill>
                <a:latin typeface="Lucida Sans Unicode"/>
              </a:rPr>
              <a:t>المستوى الثاني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ar-SA" sz="2100" spc="-1" strike="noStrike">
                <a:solidFill>
                  <a:srgbClr val="000000"/>
                </a:solidFill>
                <a:latin typeface="Lucida Sans Unicode"/>
              </a:rPr>
              <a:t>المستوى الثالث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ar-SA" sz="1900" spc="-1" strike="noStrike">
                <a:solidFill>
                  <a:srgbClr val="000000"/>
                </a:solidFill>
                <a:latin typeface="Lucida Sans Unicode"/>
              </a:rPr>
              <a:t>المستوى الرابع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38AA8437-2E48-430A-8852-A276773308A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4100" spc="-1" strike="noStrike">
                <a:solidFill>
                  <a:srgbClr val="464646"/>
                </a:solidFill>
                <a:latin typeface="Lucida Sans Unicode"/>
              </a:rPr>
              <a:t>انقر لتحرير نمط العنوان الرئيسي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48640"/>
            <a:ext cx="7772040" cy="30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4800" spc="-1" strike="noStrike">
                <a:solidFill>
                  <a:srgbClr val="464646"/>
                </a:solidFill>
                <a:latin typeface="Lucida Sans Unicode"/>
              </a:rPr>
              <a:t>المحاضرة التاسعة</a:t>
            </a:r>
            <a:br>
              <a:rPr sz="4800"/>
            </a:br>
            <a:r>
              <a:rPr b="1" lang="ar-IQ" sz="4800" spc="-1" strike="noStrike">
                <a:solidFill>
                  <a:srgbClr val="464646"/>
                </a:solidFill>
                <a:latin typeface="Lucida Sans Unicode"/>
              </a:rPr>
              <a:t>الفصل الخامس</a:t>
            </a:r>
            <a:br>
              <a:rPr sz="4800"/>
            </a:br>
            <a:r>
              <a:rPr b="1" lang="ar-IQ" sz="4800" spc="-1" strike="noStrike">
                <a:solidFill>
                  <a:srgbClr val="464646"/>
                </a:solidFill>
                <a:latin typeface="Lucida Sans Unicode"/>
              </a:rPr>
              <a:t>اختيار مصدر الشراء المناسب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219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جامعة بغداد – كلية الإدارة والاقتص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القسم:- الإدارة الصنا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المادة:- إدارة المو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المرحلة:- الثالث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اسم الأستاذ:- المدرس وداد موسى محم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ويمكن معرفة أهمية مصدر الشراء من خلال:-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فيما يخص الجودة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فيما يخص الكمية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فيما يخص الوقت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فيما يخص التكلفة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6000"/>
          </a:bodyPr>
          <a:p>
            <a:pPr indent="0" rtl="1">
              <a:lnSpc>
                <a:spcPct val="100000"/>
              </a:lnSpc>
              <a:buNone/>
            </a:pPr>
            <a:br>
              <a:rPr sz="4100"/>
            </a:b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أهمية اختيار مصدر الشراء (المورد) المناسب:-- 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54600" indent="-2480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2700" spc="-1" strike="noStrike">
                <a:solidFill>
                  <a:srgbClr val="000000"/>
                </a:solidFill>
                <a:latin typeface="Lucida Sans Unicode"/>
              </a:rPr>
              <a:t>مرحلة الاختيار الأولى والعوامل المؤثرة في عدد مصادر التوريد المحتم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4600" indent="-2480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وتتضمن: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4600" indent="-2480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أدلة ونشرات المورد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4600" indent="-2480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دليل التجاري والصناعي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4600" indent="-2480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مجلات الاقتصادية والتجار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4600" indent="-2480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إعلانات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4600" indent="-2480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ملفات وسجل الموردين لدى جهاز المشتريات الإداري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4600" indent="-2480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مندوبو البي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4600" indent="-2480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معارض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4600" indent="-2480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ملحقون التجاريو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4600" indent="-24804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ar-IQ" sz="2700" spc="-1" strike="noStrike">
                <a:solidFill>
                  <a:srgbClr val="000000"/>
                </a:solidFill>
                <a:latin typeface="Lucida Sans Unicode"/>
              </a:rPr>
              <a:t>الزيارات الشخصية للمورد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6000"/>
          </a:bodyPr>
          <a:p>
            <a:pPr indent="0" rtl="1">
              <a:lnSpc>
                <a:spcPct val="100000"/>
              </a:lnSpc>
              <a:buNone/>
            </a:pPr>
            <a:br>
              <a:rPr sz="4100"/>
            </a:b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مراحل عملية اختيار مصدر الشراء المناسب: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مواصفات السلعة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الوقت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كمية الطلب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5000"/>
          </a:bodyPr>
          <a:p>
            <a:pPr indent="0" rtl="1">
              <a:lnSpc>
                <a:spcPct val="100000"/>
              </a:lnSpc>
              <a:buNone/>
            </a:pPr>
            <a:br>
              <a:rPr sz="4100"/>
            </a:b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# العوامل المؤثرة في عدد مصادر التوريد المحتملة :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39840" indent="-237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الموقع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-237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حجم الطاقة الإنتاجية الإضافية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-237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درجة التقدم الفني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-237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مدى استقرار العلاقات الصناعية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-237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الاعتبارات المالية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-237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الخدمة التي يقدمها المورد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-237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ar-IQ" sz="3200" spc="-1" strike="noStrike">
                <a:solidFill>
                  <a:srgbClr val="000000"/>
                </a:solidFill>
                <a:latin typeface="Lucida Sans Unicode"/>
              </a:rPr>
              <a:t>تقويم أداء الموردين بعد التعامل معهم...............الخ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-237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 rtl="1">
              <a:lnSpc>
                <a:spcPct val="100000"/>
              </a:lnSpc>
              <a:spcBef>
                <a:spcPts val="400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9000"/>
          </a:bodyPr>
          <a:p>
            <a:pPr indent="0" rtl="1">
              <a:lnSpc>
                <a:spcPct val="100000"/>
              </a:lnSpc>
              <a:buNone/>
            </a:pPr>
            <a:br>
              <a:rPr sz="4100"/>
            </a:br>
            <a:r>
              <a:rPr b="1" lang="ar-IQ" sz="4100" spc="-1" strike="noStrike">
                <a:solidFill>
                  <a:srgbClr val="464646"/>
                </a:solidFill>
                <a:latin typeface="Lucida Sans Unicode"/>
              </a:rPr>
              <a:t>مرحلة تقييم الموردين المحتملين والمفاضلة بينهم لاختيار انسبهم.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ملتقى">
  <a:themeElements>
    <a:clrScheme name="ملتقى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ملتقى">
  <a:themeElements>
    <a:clrScheme name="ملتقى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4</TotalTime>
  <Application>LibreOffice/7.4.7.2$Linux_X86_64 LibreOffice_project/40$Build-2</Application>
  <AppVersion>15.0000</AppVersion>
  <Words>138</Words>
  <Paragraphs>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5T22:25:54Z</dcterms:created>
  <dc:creator>anas office</dc:creator>
  <dc:description/>
  <dc:language>en-US</dc:language>
  <cp:lastModifiedBy>anas office</cp:lastModifiedBy>
  <dcterms:modified xsi:type="dcterms:W3CDTF">2019-01-05T22:32:04Z</dcterms:modified>
  <cp:revision>7</cp:revision>
  <dc:subject/>
  <dc:title>المحاضرة التاسعة الفصل الخامس اختيار مصدر الشراء المناسب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عرض على الشاشة (3:4)‏</vt:lpwstr>
  </property>
  <property fmtid="{D5CDD505-2E9C-101B-9397-08002B2CF9AE}" pid="3" name="Slides">
    <vt:r8>5</vt:r8>
  </property>
</Properties>
</file>