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ED02-3C98-47DD-8842-9593D559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B20-A483-4ECD-BBFC-B94F4FAA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34B-922C-4220-8707-4E520C4E4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DF9-80D9-4E02-914F-D7DE30F1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6397-AA47-46CF-B280-466C07FA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5031-3FAC-4DB9-BC09-9B495CB0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83C8-9BAB-4658-9E4A-F7B74329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962D-133B-4A35-845B-51B05FE2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DA6B-A9F5-4E32-A79E-435095E4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0F78-A3C4-4808-AD85-B2256117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F714-7E88-491A-8752-9AD0956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2EFE-FE55-46CF-8AF7-D716A633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DE2A-D56F-49EE-8899-9D6C9E16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5B9-F769-4F8B-9AF4-29439B6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0BD0-4086-4620-B243-F451E81C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F2E0-D808-4470-8DF7-0E0B953BE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12C8-6C30-44ED-88CD-04EC235D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885-9814-45E9-914F-ACEB2764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850-9499-4C5B-8DE2-BCCF9EF9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8BB6-7099-4E82-A29F-165A01CC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E82-3D65-4ABF-A7B8-44BD8A52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0A9-CE54-471F-80D9-5400681D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BCA-C062-4107-BD13-E433B704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buNone/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504-8D4B-4544-A181-1AFA6F5E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مستطيل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رابط مستقيم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SA" sz="4200" spc="-1" strike="noStrike" cap="all">
                <a:solidFill>
                  <a:srgbClr val="000000"/>
                </a:solidFill>
                <a:latin typeface="Trebuchet MS"/>
              </a:rPr>
              <a:t>انقر لتحرير نمط العنوان الرئيسي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10FD9FBB-B039-45C1-8E01-A21649F1F337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 algn="r" rtl="1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 algn="r" rtl="1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 algn="r" rtl="1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 algn="r" rtl="1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lnSpc>
                <a:spcPct val="100000"/>
              </a:lnSpc>
              <a:buNone/>
            </a:pPr>
            <a:r>
              <a:rPr b="1" lang="ar-SA" sz="3800" spc="-1" strike="noStrike" cap="all">
                <a:solidFill>
                  <a:srgbClr val="000000"/>
                </a:solidFill>
                <a:latin typeface="Trebuchet MS"/>
              </a:rPr>
              <a:t>انقر لتحرير نمط العنوان الرئيسي</a:t>
            </a: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SA" sz="2600" spc="-1" strike="noStrike">
                <a:solidFill>
                  <a:srgbClr val="000000"/>
                </a:solidFill>
                <a:latin typeface="Trebuchet MS"/>
              </a:rPr>
              <a:t>انقر لتحرير أنماط النص الرئيسي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 algn="r" rtl="1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</a:pPr>
            <a:r>
              <a:rPr b="0" lang="ar-SA" sz="2300" spc="-1" strike="noStrike">
                <a:solidFill>
                  <a:srgbClr val="6f6f6f"/>
                </a:solidFill>
                <a:latin typeface="Trebuchet MS"/>
              </a:rPr>
              <a:t>المستوى الثاني</a:t>
            </a:r>
            <a:endParaRPr b="0" lang="en-US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</a:rPr>
              <a:t>المستوى الثالث</a:t>
            </a:r>
            <a:endParaRPr b="0" lang="en-US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 algn="r" rtl="1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80000"/>
              <a:buFont typeface="Wingdings 2" charset="2"/>
              <a:buChar char=""/>
            </a:pPr>
            <a:r>
              <a:rPr b="0" lang="ar-SA" sz="2000" spc="-1" strike="noStrike">
                <a:solidFill>
                  <a:srgbClr val="6f6f6f"/>
                </a:solidFill>
                <a:latin typeface="Trebuchet MS"/>
              </a:rPr>
              <a:t>المستوى الراب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 algn="r" rtl="1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70000"/>
              <a:buFont typeface="Wingdings" charset="2"/>
              <a:buChar char=""/>
            </a:pPr>
            <a:r>
              <a:rPr b="0" lang="ar-SA" sz="1800" spc="-1" strike="noStrike">
                <a:solidFill>
                  <a:srgbClr val="000000"/>
                </a:solidFill>
                <a:latin typeface="Trebuchet MS"/>
              </a:rPr>
              <a:t>المستوى الخامس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rtl="1">
              <a:lnSpc>
                <a:spcPct val="100000"/>
              </a:lnSpc>
              <a:buNone/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rtl="1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lnSpc>
                <a:spcPct val="100000"/>
              </a:lnSpc>
              <a:buNone/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 rtl="1">
              <a:lnSpc>
                <a:spcPct val="100000"/>
              </a:lnSpc>
              <a:buNone/>
            </a:pPr>
            <a:fld id="{EF446B0A-2B25-4384-B0BD-AB652C1ADDC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43640" y="332640"/>
            <a:ext cx="6120360" cy="3068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en-US" sz="4200" spc="-1" strike="noStrike" cap="all">
                <a:solidFill>
                  <a:srgbClr val="000000"/>
                </a:solidFill>
                <a:latin typeface="Trebuchet MS"/>
              </a:rPr>
              <a:t>         المحاضرة السابعة</a:t>
            </a:r>
            <a:br>
              <a:rPr sz="4200"/>
            </a:br>
            <a:r>
              <a:rPr b="1" lang="ar-IQ" sz="4200" spc="-1" strike="noStrike" cap="all">
                <a:solidFill>
                  <a:srgbClr val="000000"/>
                </a:solidFill>
                <a:latin typeface="Trebuchet MS"/>
              </a:rPr>
              <a:t>طرق تحديد الحجم الاقتصادي لطلبيه الشراء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843640" y="3539880"/>
            <a:ext cx="5625000" cy="3057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IQ" sz="2000" spc="-1" strike="noStrike">
                <a:solidFill>
                  <a:srgbClr val="ffffff"/>
                </a:solidFill>
                <a:latin typeface="Trebuchet MS"/>
              </a:rPr>
              <a:t>جامعة بغداد – كلية الإدارة والاقتص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IQ" sz="2000" spc="-1" strike="noStrike">
                <a:solidFill>
                  <a:srgbClr val="ffffff"/>
                </a:solidFill>
                <a:latin typeface="Trebuchet MS"/>
              </a:rPr>
              <a:t>القسم:- الإدارة الصنا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IQ" sz="2000" spc="-1" strike="noStrike">
                <a:solidFill>
                  <a:srgbClr val="ffffff"/>
                </a:solidFill>
                <a:latin typeface="Trebuchet MS"/>
              </a:rPr>
              <a:t>المادة:- إدارة الموا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IQ" sz="2000" spc="-1" strike="noStrike">
                <a:solidFill>
                  <a:srgbClr val="ffffff"/>
                </a:solidFill>
                <a:latin typeface="Trebuchet MS"/>
              </a:rPr>
              <a:t>المرحلة:- الثالث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ar-IQ" sz="2000" spc="-1" strike="noStrike">
                <a:solidFill>
                  <a:srgbClr val="ffffff"/>
                </a:solidFill>
                <a:latin typeface="Trebuchet MS"/>
              </a:rPr>
              <a:t>اسم الأستاذ:- المدرس وداد موسى محم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2172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62000"/>
          </a:bodyPr>
          <a:p>
            <a:pPr indent="0" rtl="1">
              <a:lnSpc>
                <a:spcPct val="100000"/>
              </a:lnSpc>
              <a:buNone/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1" lang="ar-IQ" sz="3800" spc="-1" strike="noStrike" cap="all">
                <a:solidFill>
                  <a:srgbClr val="000000"/>
                </a:solidFill>
                <a:latin typeface="Trebuchet MS"/>
              </a:rPr>
              <a:t>هنالك ثلاث طرق معروفة، كانت وما زالت شائعة في الاستخدام في هذا المجال وهي :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000"/>
            <a:ext cx="72385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2600" spc="-1" strike="noStrike">
                <a:solidFill>
                  <a:srgbClr val="000000"/>
                </a:solidFill>
                <a:latin typeface="Trebuchet MS"/>
              </a:rPr>
              <a:t>الطريقة المحاسبية (او طريقة الجداول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2600" spc="-1" strike="noStrike">
                <a:solidFill>
                  <a:srgbClr val="000000"/>
                </a:solidFill>
                <a:latin typeface="Trebuchet MS"/>
              </a:rPr>
              <a:t>الطريقة البيانية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2600" spc="-1" strike="noStrike">
                <a:solidFill>
                  <a:srgbClr val="000000"/>
                </a:solidFill>
                <a:latin typeface="Trebuchet MS"/>
              </a:rPr>
              <a:t>الطريقة الجبرية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2807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وهذه الطرق الثلاث المشار أليها أنفا، جميعها يعتمد على معطيات واحدة ثابتة هي ما يلي:- 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حجم الطلب معروف ومحدد وثابت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معدل استهلاك الصنف ثابت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فترة التوريد (الشراء) معلومة وثابتة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انتظام أعداد وتنفيذ طلبيه (أمر الشراء) الواحدة معروفة وثابتة ولا تتغير مع تغير حجم الطلبية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تكلفة التخزين معروفة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ثبات الأسعار خلال فترة التوريد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Arial"/>
              </a:rPr>
              <a:t>لا يوجد خصم على كمية الشراء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Arial"/>
              </a:rPr>
              <a:t>متوسط المخزون يساوي حجم الطلبية مضروبا بــ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Arial"/>
              </a:rPr>
              <a:t>تكلفة التخزين بوجه عام تتناسب طردياً مع كمية المخزون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8000"/>
          </a:bodyPr>
          <a:p>
            <a:pPr indent="0" rtl="1">
              <a:lnSpc>
                <a:spcPct val="100000"/>
              </a:lnSpc>
              <a:buNone/>
            </a:pPr>
            <a:r>
              <a:rPr b="1" lang="ar-IQ" sz="3800" spc="-1" strike="noStrike" cap="all">
                <a:solidFill>
                  <a:srgbClr val="000000"/>
                </a:solidFill>
                <a:latin typeface="Trebuchet MS"/>
              </a:rPr>
              <a:t>أولا:- الطريقة المحاسبية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7570800" cy="525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لو فرضنا ان مجمع الشرق الأوسط للصناعات الكهربائية والالكترونية يحتاج من الصنف (س) الى (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1000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) وحدة في الشهر، وان تكلفة إصدار الطلبية الشراء الواحدة هي (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20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) وحدة نقدية، وتكلفة الاحتفاظ بالوحدة الواحدة كمخزون من هذا الصنف لمدة شهر واحد هي (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0.5</a:t>
            </a: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) وحدة نقدية، ومتوسط المخزون في الشهر الواحد يساوي نصف حجم الطلبية. فما هو الحجم الاقتصادي لطلبيه الشراء في ضوء هذه البيانات المعطاة؟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عنصر نائب للمحتوى 3"/>
          <p:cNvGraphicFramePr/>
          <p:nvPr/>
        </p:nvGraphicFramePr>
        <p:xfrm>
          <a:off x="457200" y="476280"/>
          <a:ext cx="7570440" cy="5544720"/>
        </p:xfrm>
        <a:graphic>
          <a:graphicData uri="http://schemas.openxmlformats.org/drawingml/2006/table">
            <a:tbl>
              <a:tblPr/>
              <a:tblGrid>
                <a:gridCol w="1513800"/>
                <a:gridCol w="1513800"/>
                <a:gridCol w="1513800"/>
                <a:gridCol w="1513800"/>
                <a:gridCol w="1513800"/>
              </a:tblGrid>
              <a:tr h="82944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</a:pPr>
                      <a:r>
                        <a:rPr b="1" lang="ar-IQ" sz="1600" spc="-1" strike="noStrike">
                          <a:solidFill>
                            <a:schemeClr val="lt1"/>
                          </a:solidFill>
                          <a:latin typeface="Calibri"/>
                          <a:cs typeface="Simplified Arabic"/>
                        </a:rPr>
                        <a:t>حجم الطلبية (افتراضي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</a:pPr>
                      <a:r>
                        <a:rPr b="1" lang="ar-IQ" sz="1600" spc="-1" strike="noStrike">
                          <a:solidFill>
                            <a:schemeClr val="lt1"/>
                          </a:solidFill>
                          <a:latin typeface="Calibri"/>
                          <a:cs typeface="Simplified Arabic"/>
                        </a:rPr>
                        <a:t>عدد طلبيات الشراء في الشه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</a:pPr>
                      <a:r>
                        <a:rPr b="1" lang="ar-IQ" sz="1600" spc="-1" strike="noStrike">
                          <a:solidFill>
                            <a:schemeClr val="lt1"/>
                          </a:solidFill>
                          <a:latin typeface="Calibri"/>
                          <a:cs typeface="Simplified Arabic"/>
                        </a:rPr>
                        <a:t>تكلفة إصدار الطلبيات في الشه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</a:pPr>
                      <a:r>
                        <a:rPr b="1" lang="ar-IQ" sz="1600" spc="-1" strike="noStrike">
                          <a:solidFill>
                            <a:schemeClr val="lt1"/>
                          </a:solidFill>
                          <a:latin typeface="Calibri"/>
                          <a:cs typeface="Simplified Arabic"/>
                        </a:rPr>
                        <a:t>تكلفة التخزين في الشه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07000"/>
                        </a:lnSpc>
                      </a:pPr>
                      <a:r>
                        <a:rPr b="1" lang="ar-IQ" sz="1600" spc="-1" strike="noStrike">
                          <a:solidFill>
                            <a:schemeClr val="lt1"/>
                          </a:solidFill>
                          <a:latin typeface="Calibri"/>
                          <a:cs typeface="Simplified Arabic"/>
                        </a:rPr>
                        <a:t>التكلفة الك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89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589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589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7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4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589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8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44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589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589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5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  <a:tr h="589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6ced3"/>
                    </a:solidFill>
                  </a:tcPr>
                </a:tc>
              </a:tr>
              <a:tr h="589320"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3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</a:pPr>
                      <a:r>
                        <a:rPr b="0" lang="en-US" sz="16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7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 rtl="1">
              <a:buNone/>
            </a:pPr>
            <a:endParaRPr b="1" lang="en-US" sz="3800" spc="-1" strike="noStrike" cap="all">
              <a:solidFill>
                <a:srgbClr val="fdf2e8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فيما يلي بعض الأمور التفسيرية لكيفية احتساب أرقام الجدول :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عدد الطلبيات في الشهر : حجم الطلب الكلي في الشهر/ حجم الطلبية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just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3000" spc="-1" strike="noStrike">
                <a:solidFill>
                  <a:srgbClr val="000000"/>
                </a:solidFill>
                <a:latin typeface="Trebuchet MS"/>
              </a:rPr>
              <a:t>تكلفة التخزين في الشهر : حجم المخزون الشهري (نصف حجم الطلبية) *تكلفة تخزين الوحدة الواحدة.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indent="0" algn="just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7238520" cy="58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2600" spc="-1" strike="noStrike">
                <a:solidFill>
                  <a:srgbClr val="000000"/>
                </a:solidFill>
                <a:latin typeface="Trebuchet MS"/>
              </a:rPr>
              <a:t>تكلفة إصدار الطلبيات : عدد الطلبيات الشهرية *    تكلفة إصدار الوحدة الواحدة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2600" spc="-1" strike="noStrike">
                <a:solidFill>
                  <a:srgbClr val="000000"/>
                </a:solidFill>
                <a:latin typeface="Trebuchet MS"/>
              </a:rPr>
              <a:t>التكلفة الكلية :تكلفة إصدار الطلبية * تكلفة التخزين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ar-IQ" sz="2600" spc="-1" strike="noStrike">
                <a:solidFill>
                  <a:srgbClr val="000000"/>
                </a:solidFill>
                <a:latin typeface="Trebuchet MS"/>
              </a:rPr>
              <a:t>وفي ضوء الجدول السابق نجد ان الحجم الاقتصادي لطلبيه الشراء هو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283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 وحدة، حيث تكون التكلفة الكلية عند أدنى حد لها وهو (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140.75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) وحدة نقدية، وعندها أيضا تتساوى تكلفة إصدار الطلبيات الشهرية مع تكلفة الاحتفاظ بالمخزون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4320" indent="-274320" algn="r" rtl="1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 algn="r" rtl="1">
              <a:lnSpc>
                <a:spcPct val="100000"/>
              </a:lnSpc>
              <a:spcBef>
                <a:spcPts val="601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وافر">
  <a:themeElements>
    <a:clrScheme name="وافر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وافر">
  <a:themeElements>
    <a:clrScheme name="وافر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12</TotalTime>
  <Application>LibreOffice/7.4.7.2$Linux_X86_64 LibreOffice_project/40$Build-2</Application>
  <AppVersion>15.0000</AppVersion>
  <Words>378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5T21:52:32Z</dcterms:created>
  <dc:creator>anas office</dc:creator>
  <dc:description/>
  <dc:language>en-US</dc:language>
  <cp:lastModifiedBy>anas office</cp:lastModifiedBy>
  <dcterms:modified xsi:type="dcterms:W3CDTF">2019-01-05T22:07:45Z</dcterms:modified>
  <cp:revision>12</cp:revision>
  <dc:subject/>
  <dc:title>         المحاضرة السابعة طرق تحديد الحجم الاقتصادي لطلبيه الشراء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عرض على الشاشة (3:4)‏</vt:lpwstr>
  </property>
  <property fmtid="{D5CDD505-2E9C-101B-9397-08002B2CF9AE}" pid="3" name="Slides">
    <vt:r8>7</vt:r8>
  </property>
</Properties>
</file>