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ffffff"/>
                </a:solidFill>
                <a:latin typeface="Verdana"/>
              </a:rPr>
              <a:t>Click to move the slide</a:t>
            </a:r>
            <a:endParaRPr b="0" lang="en-US" sz="1800" spc="-1" strike="noStrike">
              <a:solidFill>
                <a:srgbClr val="ffffff"/>
              </a:solidFill>
              <a:latin typeface="Verdana"/>
            </a:endParaRPr>
          </a:p>
        </p:txBody>
      </p:sp>
      <p:sp>
        <p:nvSpPr>
          <p:cNvPr id="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15FFBC1-AA31-4929-BC03-10057F791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1640" cy="3428640"/>
          </a:xfrm>
          <a:prstGeom prst="rect">
            <a:avLst/>
          </a:prstGeom>
          <a:ln w="0">
            <a:noFill/>
          </a:ln>
        </p:spPr>
      </p:sp>
      <p:sp>
        <p:nvSpPr>
          <p:cNvPr id="1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08" name="PlaceHolder 3"/>
          <p:cNvSpPr>
            <a:spLocks noGrp="1"/>
          </p:cNvSpPr>
          <p:nvPr>
            <p:ph type="sldNum" idx="8"/>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740044BA-608B-4A17-8D6F-E3C858C2B6C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1640" cy="3428640"/>
          </a:xfrm>
          <a:prstGeom prst="rect">
            <a:avLst/>
          </a:prstGeom>
          <a:ln w="0">
            <a:noFill/>
          </a:ln>
        </p:spPr>
      </p:sp>
      <p:sp>
        <p:nvSpPr>
          <p:cNvPr id="1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1" name="PlaceHolder 3"/>
          <p:cNvSpPr>
            <a:spLocks noGrp="1"/>
          </p:cNvSpPr>
          <p:nvPr>
            <p:ph type="sldNum" idx="9"/>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A4AEB0D1-844C-449D-97B3-BAA4228DF34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1640" cy="3428640"/>
          </a:xfrm>
          <a:prstGeom prst="rect">
            <a:avLst/>
          </a:prstGeom>
          <a:ln w="0">
            <a:noFill/>
          </a:ln>
        </p:spPr>
      </p:sp>
      <p:sp>
        <p:nvSpPr>
          <p:cNvPr id="1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4" name="PlaceHolder 3"/>
          <p:cNvSpPr>
            <a:spLocks noGrp="1"/>
          </p:cNvSpPr>
          <p:nvPr>
            <p:ph type="sldNum" idx="10"/>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5C560096-C0D3-4855-AEE1-75B4F899966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1640" cy="3428640"/>
          </a:xfrm>
          <a:prstGeom prst="rect">
            <a:avLst/>
          </a:prstGeom>
          <a:ln w="0">
            <a:noFill/>
          </a:ln>
        </p:spPr>
      </p:sp>
      <p:sp>
        <p:nvSpPr>
          <p:cNvPr id="1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05" name="PlaceHolder 3"/>
          <p:cNvSpPr>
            <a:spLocks noGrp="1"/>
          </p:cNvSpPr>
          <p:nvPr>
            <p:ph type="sldNum" idx="7"/>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E0F9344D-1BB4-49E2-9958-E93B8C0F9D5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CDAC3-8F11-4551-8C45-4B51096EC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F5B88-7559-45EA-8200-DB265EE6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2D3B0-2844-4E95-9E54-125813FC3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4960C-DF18-4D33-AE3F-0A8BDB03D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03A44-5145-49F2-8418-8B661999F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298EE-8899-4637-975E-FD2DF4870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C232F-2D50-4901-9B6C-CEE91FB5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21418-DED9-437E-930A-D94FC42D6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13CC-0A8E-4D90-B078-6CEB1B1FB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FD790-60EB-4D5E-B187-8C393EA0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E45E-BFF7-4E97-AA01-3ACCD9E9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C20D-DEFA-4386-9D32-4BE3165C0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8000">
              <a:srgbClr val="64b7df"/>
            </a:gs>
            <a:gs pos="100000">
              <a:srgbClr val="076eaf"/>
            </a:gs>
          </a:gsLst>
          <a:lin ang="16200000"/>
        </a:gradFill>
      </p:bgPr>
    </p:bg>
    <p:spTree>
      <p:nvGrpSpPr>
        <p:cNvPr id="1" name=""/>
        <p:cNvGrpSpPr/>
        <p:nvPr/>
      </p:nvGrpSpPr>
      <p:grpSpPr>
        <a:xfrm>
          <a:off x="0" y="0"/>
          <a:ext cx="0" cy="0"/>
          <a:chOff x="0" y="0"/>
          <a:chExt cx="0" cy="0"/>
        </a:xfrm>
      </p:grpSpPr>
      <p:grpSp>
        <p:nvGrpSpPr>
          <p:cNvPr id="0" name="Group 218"/>
          <p:cNvGrpSpPr/>
          <p:nvPr/>
        </p:nvGrpSpPr>
        <p:grpSpPr>
          <a:xfrm>
            <a:off x="6558120" y="0"/>
            <a:ext cx="2669040" cy="6888240"/>
            <a:chOff x="6558120" y="0"/>
            <a:chExt cx="2669040" cy="6888240"/>
          </a:xfrm>
        </p:grpSpPr>
        <p:grpSp>
          <p:nvGrpSpPr>
            <p:cNvPr id="1" name="Group 62"/>
            <p:cNvGrpSpPr/>
            <p:nvPr/>
          </p:nvGrpSpPr>
          <p:grpSpPr>
            <a:xfrm>
              <a:off x="6804000" y="0"/>
              <a:ext cx="2423160" cy="6888240"/>
              <a:chOff x="6804000" y="0"/>
              <a:chExt cx="2423160" cy="6888240"/>
            </a:xfrm>
          </p:grpSpPr>
          <p:grpSp>
            <p:nvGrpSpPr>
              <p:cNvPr id="2" name="Group 44"/>
              <p:cNvGrpSpPr/>
              <p:nvPr/>
            </p:nvGrpSpPr>
            <p:grpSpPr>
              <a:xfrm>
                <a:off x="6804000" y="0"/>
                <a:ext cx="2306520" cy="6888240"/>
                <a:chOff x="6804000" y="0"/>
                <a:chExt cx="2306520" cy="6888240"/>
              </a:xfrm>
            </p:grpSpPr>
            <p:sp>
              <p:nvSpPr>
                <p:cNvPr id="3" name="Freeform 233"/>
                <p:cNvSpPr/>
                <p:nvPr/>
              </p:nvSpPr>
              <p:spPr>
                <a:xfrm rot="879600">
                  <a:off x="7130160" y="66240"/>
                  <a:ext cx="608760" cy="662040"/>
                </a:xfrm>
                <a:custGeom>
                  <a:avLst/>
                  <a:gdLst>
                    <a:gd name="textAreaLeft" fmla="*/ 0 w 608760"/>
                    <a:gd name="textAreaRight" fmla="*/ 609120 w 608760"/>
                    <a:gd name="textAreaTop" fmla="*/ 0 h 662040"/>
                    <a:gd name="textAreaBottom" fmla="*/ 662400 h 662040"/>
                  </a:gdLst>
                  <a:ahLst/>
                  <a:rect l="textAreaLeft" t="textAreaTop" r="textAreaRight" b="textAreaBottom"/>
                  <a:pathLst>
                    <a:path w="758" h="824">
                      <a:moveTo>
                        <a:pt x="700" y="576"/>
                      </a:moveTo>
                      <a:lnTo>
                        <a:pt x="758" y="558"/>
                      </a:lnTo>
                      <a:lnTo>
                        <a:pt x="756" y="548"/>
                      </a:lnTo>
                      <a:lnTo>
                        <a:pt x="686" y="566"/>
                      </a:lnTo>
                      <a:lnTo>
                        <a:pt x="686" y="566"/>
                      </a:lnTo>
                      <a:lnTo>
                        <a:pt x="640" y="538"/>
                      </a:lnTo>
                      <a:lnTo>
                        <a:pt x="748" y="508"/>
                      </a:lnTo>
                      <a:lnTo>
                        <a:pt x="746" y="496"/>
                      </a:lnTo>
                      <a:lnTo>
                        <a:pt x="620" y="528"/>
                      </a:lnTo>
                      <a:lnTo>
                        <a:pt x="620" y="528"/>
                      </a:lnTo>
                      <a:lnTo>
                        <a:pt x="568" y="502"/>
                      </a:lnTo>
                      <a:lnTo>
                        <a:pt x="568" y="502"/>
                      </a:lnTo>
                      <a:lnTo>
                        <a:pt x="550" y="492"/>
                      </a:lnTo>
                      <a:lnTo>
                        <a:pt x="550" y="490"/>
                      </a:lnTo>
                      <a:lnTo>
                        <a:pt x="550" y="490"/>
                      </a:lnTo>
                      <a:lnTo>
                        <a:pt x="550" y="488"/>
                      </a:lnTo>
                      <a:lnTo>
                        <a:pt x="546" y="484"/>
                      </a:lnTo>
                      <a:lnTo>
                        <a:pt x="518" y="456"/>
                      </a:lnTo>
                      <a:lnTo>
                        <a:pt x="518" y="456"/>
                      </a:lnTo>
                      <a:lnTo>
                        <a:pt x="512" y="448"/>
                      </a:lnTo>
                      <a:lnTo>
                        <a:pt x="512" y="448"/>
                      </a:lnTo>
                      <a:lnTo>
                        <a:pt x="504" y="432"/>
                      </a:lnTo>
                      <a:lnTo>
                        <a:pt x="500" y="414"/>
                      </a:lnTo>
                      <a:lnTo>
                        <a:pt x="500" y="414"/>
                      </a:lnTo>
                      <a:lnTo>
                        <a:pt x="500" y="412"/>
                      </a:lnTo>
                      <a:lnTo>
                        <a:pt x="500" y="412"/>
                      </a:lnTo>
                      <a:lnTo>
                        <a:pt x="500" y="408"/>
                      </a:lnTo>
                      <a:lnTo>
                        <a:pt x="500" y="408"/>
                      </a:lnTo>
                      <a:lnTo>
                        <a:pt x="504" y="392"/>
                      </a:lnTo>
                      <a:lnTo>
                        <a:pt x="512" y="374"/>
                      </a:lnTo>
                      <a:lnTo>
                        <a:pt x="512" y="374"/>
                      </a:lnTo>
                      <a:lnTo>
                        <a:pt x="518" y="366"/>
                      </a:lnTo>
                      <a:lnTo>
                        <a:pt x="518" y="366"/>
                      </a:lnTo>
                      <a:lnTo>
                        <a:pt x="546" y="340"/>
                      </a:lnTo>
                      <a:lnTo>
                        <a:pt x="550" y="334"/>
                      </a:lnTo>
                      <a:lnTo>
                        <a:pt x="550" y="332"/>
                      </a:lnTo>
                      <a:lnTo>
                        <a:pt x="548" y="330"/>
                      </a:lnTo>
                      <a:lnTo>
                        <a:pt x="548" y="330"/>
                      </a:lnTo>
                      <a:lnTo>
                        <a:pt x="568" y="320"/>
                      </a:lnTo>
                      <a:lnTo>
                        <a:pt x="568" y="320"/>
                      </a:lnTo>
                      <a:lnTo>
                        <a:pt x="620" y="294"/>
                      </a:lnTo>
                      <a:lnTo>
                        <a:pt x="744" y="324"/>
                      </a:lnTo>
                      <a:lnTo>
                        <a:pt x="746" y="312"/>
                      </a:lnTo>
                      <a:lnTo>
                        <a:pt x="640" y="282"/>
                      </a:lnTo>
                      <a:lnTo>
                        <a:pt x="640" y="282"/>
                      </a:lnTo>
                      <a:lnTo>
                        <a:pt x="686" y="254"/>
                      </a:lnTo>
                      <a:lnTo>
                        <a:pt x="754" y="272"/>
                      </a:lnTo>
                      <a:lnTo>
                        <a:pt x="758" y="262"/>
                      </a:lnTo>
                      <a:lnTo>
                        <a:pt x="700" y="246"/>
                      </a:lnTo>
                      <a:lnTo>
                        <a:pt x="700" y="246"/>
                      </a:lnTo>
                      <a:lnTo>
                        <a:pt x="720" y="230"/>
                      </a:lnTo>
                      <a:lnTo>
                        <a:pt x="740" y="216"/>
                      </a:lnTo>
                      <a:lnTo>
                        <a:pt x="742" y="214"/>
                      </a:lnTo>
                      <a:lnTo>
                        <a:pt x="732" y="196"/>
                      </a:lnTo>
                      <a:lnTo>
                        <a:pt x="728" y="196"/>
                      </a:lnTo>
                      <a:lnTo>
                        <a:pt x="728" y="196"/>
                      </a:lnTo>
                      <a:lnTo>
                        <a:pt x="704" y="206"/>
                      </a:lnTo>
                      <a:lnTo>
                        <a:pt x="682" y="216"/>
                      </a:lnTo>
                      <a:lnTo>
                        <a:pt x="696" y="156"/>
                      </a:lnTo>
                      <a:lnTo>
                        <a:pt x="686" y="154"/>
                      </a:lnTo>
                      <a:lnTo>
                        <a:pt x="666" y="222"/>
                      </a:lnTo>
                      <a:lnTo>
                        <a:pt x="666" y="222"/>
                      </a:lnTo>
                      <a:lnTo>
                        <a:pt x="620" y="248"/>
                      </a:lnTo>
                      <a:lnTo>
                        <a:pt x="646" y="140"/>
                      </a:lnTo>
                      <a:lnTo>
                        <a:pt x="636" y="136"/>
                      </a:lnTo>
                      <a:lnTo>
                        <a:pt x="600" y="260"/>
                      </a:lnTo>
                      <a:lnTo>
                        <a:pt x="600" y="260"/>
                      </a:lnTo>
                      <a:lnTo>
                        <a:pt x="552" y="292"/>
                      </a:lnTo>
                      <a:lnTo>
                        <a:pt x="552" y="292"/>
                      </a:lnTo>
                      <a:lnTo>
                        <a:pt x="534" y="306"/>
                      </a:lnTo>
                      <a:lnTo>
                        <a:pt x="532" y="304"/>
                      </a:lnTo>
                      <a:lnTo>
                        <a:pt x="530" y="304"/>
                      </a:lnTo>
                      <a:lnTo>
                        <a:pt x="530" y="304"/>
                      </a:lnTo>
                      <a:lnTo>
                        <a:pt x="522" y="304"/>
                      </a:lnTo>
                      <a:lnTo>
                        <a:pt x="488" y="314"/>
                      </a:lnTo>
                      <a:lnTo>
                        <a:pt x="488" y="314"/>
                      </a:lnTo>
                      <a:lnTo>
                        <a:pt x="482" y="314"/>
                      </a:lnTo>
                      <a:lnTo>
                        <a:pt x="478" y="314"/>
                      </a:lnTo>
                      <a:lnTo>
                        <a:pt x="478" y="314"/>
                      </a:lnTo>
                      <a:lnTo>
                        <a:pt x="476" y="312"/>
                      </a:lnTo>
                      <a:lnTo>
                        <a:pt x="476" y="312"/>
                      </a:lnTo>
                      <a:lnTo>
                        <a:pt x="476" y="312"/>
                      </a:lnTo>
                      <a:lnTo>
                        <a:pt x="476" y="312"/>
                      </a:lnTo>
                      <a:lnTo>
                        <a:pt x="456" y="310"/>
                      </a:lnTo>
                      <a:lnTo>
                        <a:pt x="446" y="308"/>
                      </a:lnTo>
                      <a:lnTo>
                        <a:pt x="438" y="304"/>
                      </a:lnTo>
                      <a:lnTo>
                        <a:pt x="438" y="304"/>
                      </a:lnTo>
                      <a:lnTo>
                        <a:pt x="424" y="292"/>
                      </a:lnTo>
                      <a:lnTo>
                        <a:pt x="414" y="278"/>
                      </a:lnTo>
                      <a:lnTo>
                        <a:pt x="414" y="278"/>
                      </a:lnTo>
                      <a:lnTo>
                        <a:pt x="410" y="268"/>
                      </a:lnTo>
                      <a:lnTo>
                        <a:pt x="410" y="268"/>
                      </a:lnTo>
                      <a:lnTo>
                        <a:pt x="400" y="230"/>
                      </a:lnTo>
                      <a:lnTo>
                        <a:pt x="398" y="224"/>
                      </a:lnTo>
                      <a:lnTo>
                        <a:pt x="396" y="224"/>
                      </a:lnTo>
                      <a:lnTo>
                        <a:pt x="394" y="224"/>
                      </a:lnTo>
                      <a:lnTo>
                        <a:pt x="394" y="224"/>
                      </a:lnTo>
                      <a:lnTo>
                        <a:pt x="396" y="202"/>
                      </a:lnTo>
                      <a:lnTo>
                        <a:pt x="396" y="202"/>
                      </a:lnTo>
                      <a:lnTo>
                        <a:pt x="398" y="142"/>
                      </a:lnTo>
                      <a:lnTo>
                        <a:pt x="486" y="52"/>
                      </a:lnTo>
                      <a:lnTo>
                        <a:pt x="478" y="44"/>
                      </a:lnTo>
                      <a:lnTo>
                        <a:pt x="398" y="120"/>
                      </a:lnTo>
                      <a:lnTo>
                        <a:pt x="398" y="120"/>
                      </a:lnTo>
                      <a:lnTo>
                        <a:pt x="396" y="66"/>
                      </a:lnTo>
                      <a:lnTo>
                        <a:pt x="446" y="16"/>
                      </a:lnTo>
                      <a:lnTo>
                        <a:pt x="438" y="8"/>
                      </a:lnTo>
                      <a:lnTo>
                        <a:pt x="396" y="50"/>
                      </a:lnTo>
                      <a:lnTo>
                        <a:pt x="396" y="50"/>
                      </a:lnTo>
                      <a:lnTo>
                        <a:pt x="394" y="26"/>
                      </a:lnTo>
                      <a:lnTo>
                        <a:pt x="390" y="2"/>
                      </a:lnTo>
                      <a:lnTo>
                        <a:pt x="388" y="0"/>
                      </a:lnTo>
                      <a:lnTo>
                        <a:pt x="368" y="0"/>
                      </a:lnTo>
                      <a:lnTo>
                        <a:pt x="368" y="2"/>
                      </a:lnTo>
                      <a:lnTo>
                        <a:pt x="368" y="2"/>
                      </a:lnTo>
                      <a:lnTo>
                        <a:pt x="364" y="28"/>
                      </a:lnTo>
                      <a:lnTo>
                        <a:pt x="360" y="52"/>
                      </a:lnTo>
                      <a:lnTo>
                        <a:pt x="316" y="10"/>
                      </a:lnTo>
                      <a:lnTo>
                        <a:pt x="310" y="16"/>
                      </a:lnTo>
                      <a:lnTo>
                        <a:pt x="360" y="68"/>
                      </a:lnTo>
                      <a:lnTo>
                        <a:pt x="360" y="68"/>
                      </a:lnTo>
                      <a:lnTo>
                        <a:pt x="358" y="122"/>
                      </a:lnTo>
                      <a:lnTo>
                        <a:pt x="278" y="44"/>
                      </a:lnTo>
                      <a:lnTo>
                        <a:pt x="270" y="52"/>
                      </a:lnTo>
                      <a:lnTo>
                        <a:pt x="360" y="144"/>
                      </a:lnTo>
                      <a:lnTo>
                        <a:pt x="360" y="144"/>
                      </a:lnTo>
                      <a:lnTo>
                        <a:pt x="362" y="202"/>
                      </a:lnTo>
                      <a:lnTo>
                        <a:pt x="362" y="202"/>
                      </a:lnTo>
                      <a:lnTo>
                        <a:pt x="364" y="224"/>
                      </a:lnTo>
                      <a:lnTo>
                        <a:pt x="362" y="224"/>
                      </a:lnTo>
                      <a:lnTo>
                        <a:pt x="362" y="224"/>
                      </a:lnTo>
                      <a:lnTo>
                        <a:pt x="360" y="224"/>
                      </a:lnTo>
                      <a:lnTo>
                        <a:pt x="358" y="230"/>
                      </a:lnTo>
                      <a:lnTo>
                        <a:pt x="348" y="268"/>
                      </a:lnTo>
                      <a:lnTo>
                        <a:pt x="348" y="268"/>
                      </a:lnTo>
                      <a:lnTo>
                        <a:pt x="344" y="278"/>
                      </a:lnTo>
                      <a:lnTo>
                        <a:pt x="344" y="278"/>
                      </a:lnTo>
                      <a:lnTo>
                        <a:pt x="334" y="294"/>
                      </a:lnTo>
                      <a:lnTo>
                        <a:pt x="320" y="306"/>
                      </a:lnTo>
                      <a:lnTo>
                        <a:pt x="320" y="306"/>
                      </a:lnTo>
                      <a:lnTo>
                        <a:pt x="312" y="310"/>
                      </a:lnTo>
                      <a:lnTo>
                        <a:pt x="302" y="312"/>
                      </a:lnTo>
                      <a:lnTo>
                        <a:pt x="292" y="314"/>
                      </a:lnTo>
                      <a:lnTo>
                        <a:pt x="282" y="314"/>
                      </a:lnTo>
                      <a:lnTo>
                        <a:pt x="282" y="314"/>
                      </a:lnTo>
                      <a:lnTo>
                        <a:pt x="280" y="314"/>
                      </a:lnTo>
                      <a:lnTo>
                        <a:pt x="280" y="314"/>
                      </a:lnTo>
                      <a:lnTo>
                        <a:pt x="270" y="312"/>
                      </a:lnTo>
                      <a:lnTo>
                        <a:pt x="270" y="312"/>
                      </a:lnTo>
                      <a:lnTo>
                        <a:pt x="236" y="302"/>
                      </a:lnTo>
                      <a:lnTo>
                        <a:pt x="228" y="302"/>
                      </a:lnTo>
                      <a:lnTo>
                        <a:pt x="224" y="302"/>
                      </a:lnTo>
                      <a:lnTo>
                        <a:pt x="224" y="304"/>
                      </a:lnTo>
                      <a:lnTo>
                        <a:pt x="224" y="304"/>
                      </a:lnTo>
                      <a:lnTo>
                        <a:pt x="206" y="292"/>
                      </a:lnTo>
                      <a:lnTo>
                        <a:pt x="206" y="292"/>
                      </a:lnTo>
                      <a:lnTo>
                        <a:pt x="156" y="260"/>
                      </a:lnTo>
                      <a:lnTo>
                        <a:pt x="120" y="140"/>
                      </a:lnTo>
                      <a:lnTo>
                        <a:pt x="110" y="142"/>
                      </a:lnTo>
                      <a:lnTo>
                        <a:pt x="136" y="250"/>
                      </a:lnTo>
                      <a:lnTo>
                        <a:pt x="136" y="250"/>
                      </a:lnTo>
                      <a:lnTo>
                        <a:pt x="90" y="224"/>
                      </a:lnTo>
                      <a:lnTo>
                        <a:pt x="70" y="156"/>
                      </a:lnTo>
                      <a:lnTo>
                        <a:pt x="60" y="158"/>
                      </a:lnTo>
                      <a:lnTo>
                        <a:pt x="74" y="216"/>
                      </a:lnTo>
                      <a:lnTo>
                        <a:pt x="74" y="216"/>
                      </a:lnTo>
                      <a:lnTo>
                        <a:pt x="52" y="206"/>
                      </a:lnTo>
                      <a:lnTo>
                        <a:pt x="30" y="198"/>
                      </a:lnTo>
                      <a:lnTo>
                        <a:pt x="26" y="196"/>
                      </a:lnTo>
                      <a:lnTo>
                        <a:pt x="16" y="214"/>
                      </a:lnTo>
                      <a:lnTo>
                        <a:pt x="18" y="216"/>
                      </a:lnTo>
                      <a:lnTo>
                        <a:pt x="18" y="216"/>
                      </a:lnTo>
                      <a:lnTo>
                        <a:pt x="38" y="232"/>
                      </a:lnTo>
                      <a:lnTo>
                        <a:pt x="58" y="248"/>
                      </a:lnTo>
                      <a:lnTo>
                        <a:pt x="0" y="264"/>
                      </a:lnTo>
                      <a:lnTo>
                        <a:pt x="2" y="274"/>
                      </a:lnTo>
                      <a:lnTo>
                        <a:pt x="72" y="256"/>
                      </a:lnTo>
                      <a:lnTo>
                        <a:pt x="72" y="256"/>
                      </a:lnTo>
                      <a:lnTo>
                        <a:pt x="118" y="284"/>
                      </a:lnTo>
                      <a:lnTo>
                        <a:pt x="10" y="316"/>
                      </a:lnTo>
                      <a:lnTo>
                        <a:pt x="12" y="326"/>
                      </a:lnTo>
                      <a:lnTo>
                        <a:pt x="138" y="296"/>
                      </a:lnTo>
                      <a:lnTo>
                        <a:pt x="138" y="296"/>
                      </a:lnTo>
                      <a:lnTo>
                        <a:pt x="190" y="322"/>
                      </a:lnTo>
                      <a:lnTo>
                        <a:pt x="190" y="322"/>
                      </a:lnTo>
                      <a:lnTo>
                        <a:pt x="208" y="332"/>
                      </a:lnTo>
                      <a:lnTo>
                        <a:pt x="208" y="332"/>
                      </a:lnTo>
                      <a:lnTo>
                        <a:pt x="208" y="332"/>
                      </a:lnTo>
                      <a:lnTo>
                        <a:pt x="208" y="334"/>
                      </a:lnTo>
                      <a:lnTo>
                        <a:pt x="212" y="340"/>
                      </a:lnTo>
                      <a:lnTo>
                        <a:pt x="240" y="366"/>
                      </a:lnTo>
                      <a:lnTo>
                        <a:pt x="240" y="366"/>
                      </a:lnTo>
                      <a:lnTo>
                        <a:pt x="246" y="374"/>
                      </a:lnTo>
                      <a:lnTo>
                        <a:pt x="246" y="374"/>
                      </a:lnTo>
                      <a:lnTo>
                        <a:pt x="254" y="392"/>
                      </a:lnTo>
                      <a:lnTo>
                        <a:pt x="258" y="408"/>
                      </a:lnTo>
                      <a:lnTo>
                        <a:pt x="258" y="408"/>
                      </a:lnTo>
                      <a:lnTo>
                        <a:pt x="258" y="412"/>
                      </a:lnTo>
                      <a:lnTo>
                        <a:pt x="258" y="412"/>
                      </a:lnTo>
                      <a:lnTo>
                        <a:pt x="258" y="414"/>
                      </a:lnTo>
                      <a:lnTo>
                        <a:pt x="258" y="414"/>
                      </a:lnTo>
                      <a:lnTo>
                        <a:pt x="254" y="432"/>
                      </a:lnTo>
                      <a:lnTo>
                        <a:pt x="246" y="448"/>
                      </a:lnTo>
                      <a:lnTo>
                        <a:pt x="246" y="448"/>
                      </a:lnTo>
                      <a:lnTo>
                        <a:pt x="240" y="456"/>
                      </a:lnTo>
                      <a:lnTo>
                        <a:pt x="240" y="456"/>
                      </a:lnTo>
                      <a:lnTo>
                        <a:pt x="212" y="484"/>
                      </a:lnTo>
                      <a:lnTo>
                        <a:pt x="208" y="488"/>
                      </a:lnTo>
                      <a:lnTo>
                        <a:pt x="208" y="490"/>
                      </a:lnTo>
                      <a:lnTo>
                        <a:pt x="210" y="492"/>
                      </a:lnTo>
                      <a:lnTo>
                        <a:pt x="210" y="492"/>
                      </a:lnTo>
                      <a:lnTo>
                        <a:pt x="190" y="502"/>
                      </a:lnTo>
                      <a:lnTo>
                        <a:pt x="190" y="502"/>
                      </a:lnTo>
                      <a:lnTo>
                        <a:pt x="138" y="530"/>
                      </a:lnTo>
                      <a:lnTo>
                        <a:pt x="14" y="500"/>
                      </a:lnTo>
                      <a:lnTo>
                        <a:pt x="12" y="510"/>
                      </a:lnTo>
                      <a:lnTo>
                        <a:pt x="118" y="540"/>
                      </a:lnTo>
                      <a:lnTo>
                        <a:pt x="118" y="540"/>
                      </a:lnTo>
                      <a:lnTo>
                        <a:pt x="72" y="568"/>
                      </a:lnTo>
                      <a:lnTo>
                        <a:pt x="4" y="552"/>
                      </a:lnTo>
                      <a:lnTo>
                        <a:pt x="0" y="560"/>
                      </a:lnTo>
                      <a:lnTo>
                        <a:pt x="58" y="578"/>
                      </a:lnTo>
                      <a:lnTo>
                        <a:pt x="58" y="578"/>
                      </a:lnTo>
                      <a:lnTo>
                        <a:pt x="38" y="592"/>
                      </a:lnTo>
                      <a:lnTo>
                        <a:pt x="18" y="608"/>
                      </a:lnTo>
                      <a:lnTo>
                        <a:pt x="16" y="610"/>
                      </a:lnTo>
                      <a:lnTo>
                        <a:pt x="26" y="628"/>
                      </a:lnTo>
                      <a:lnTo>
                        <a:pt x="30" y="626"/>
                      </a:lnTo>
                      <a:lnTo>
                        <a:pt x="30" y="626"/>
                      </a:lnTo>
                      <a:lnTo>
                        <a:pt x="54" y="618"/>
                      </a:lnTo>
                      <a:lnTo>
                        <a:pt x="76" y="608"/>
                      </a:lnTo>
                      <a:lnTo>
                        <a:pt x="62" y="666"/>
                      </a:lnTo>
                      <a:lnTo>
                        <a:pt x="72" y="670"/>
                      </a:lnTo>
                      <a:lnTo>
                        <a:pt x="92" y="600"/>
                      </a:lnTo>
                      <a:lnTo>
                        <a:pt x="92" y="600"/>
                      </a:lnTo>
                      <a:lnTo>
                        <a:pt x="138" y="574"/>
                      </a:lnTo>
                      <a:lnTo>
                        <a:pt x="112" y="682"/>
                      </a:lnTo>
                      <a:lnTo>
                        <a:pt x="122" y="686"/>
                      </a:lnTo>
                      <a:lnTo>
                        <a:pt x="158" y="562"/>
                      </a:lnTo>
                      <a:lnTo>
                        <a:pt x="158" y="562"/>
                      </a:lnTo>
                      <a:lnTo>
                        <a:pt x="206" y="530"/>
                      </a:lnTo>
                      <a:lnTo>
                        <a:pt x="206" y="530"/>
                      </a:lnTo>
                      <a:lnTo>
                        <a:pt x="224" y="518"/>
                      </a:lnTo>
                      <a:lnTo>
                        <a:pt x="226" y="520"/>
                      </a:lnTo>
                      <a:lnTo>
                        <a:pt x="228" y="520"/>
                      </a:lnTo>
                      <a:lnTo>
                        <a:pt x="228" y="520"/>
                      </a:lnTo>
                      <a:lnTo>
                        <a:pt x="236" y="518"/>
                      </a:lnTo>
                      <a:lnTo>
                        <a:pt x="270" y="510"/>
                      </a:lnTo>
                      <a:lnTo>
                        <a:pt x="270" y="510"/>
                      </a:lnTo>
                      <a:lnTo>
                        <a:pt x="280" y="508"/>
                      </a:lnTo>
                      <a:lnTo>
                        <a:pt x="280" y="508"/>
                      </a:lnTo>
                      <a:lnTo>
                        <a:pt x="282" y="508"/>
                      </a:lnTo>
                      <a:lnTo>
                        <a:pt x="282" y="508"/>
                      </a:lnTo>
                      <a:lnTo>
                        <a:pt x="292" y="508"/>
                      </a:lnTo>
                      <a:lnTo>
                        <a:pt x="302" y="510"/>
                      </a:lnTo>
                      <a:lnTo>
                        <a:pt x="312" y="512"/>
                      </a:lnTo>
                      <a:lnTo>
                        <a:pt x="320" y="516"/>
                      </a:lnTo>
                      <a:lnTo>
                        <a:pt x="320" y="516"/>
                      </a:lnTo>
                      <a:lnTo>
                        <a:pt x="334" y="528"/>
                      </a:lnTo>
                      <a:lnTo>
                        <a:pt x="344" y="544"/>
                      </a:lnTo>
                      <a:lnTo>
                        <a:pt x="344" y="544"/>
                      </a:lnTo>
                      <a:lnTo>
                        <a:pt x="348" y="554"/>
                      </a:lnTo>
                      <a:lnTo>
                        <a:pt x="348" y="554"/>
                      </a:lnTo>
                      <a:lnTo>
                        <a:pt x="358" y="594"/>
                      </a:lnTo>
                      <a:lnTo>
                        <a:pt x="360" y="598"/>
                      </a:lnTo>
                      <a:lnTo>
                        <a:pt x="362" y="598"/>
                      </a:lnTo>
                      <a:lnTo>
                        <a:pt x="364" y="598"/>
                      </a:lnTo>
                      <a:lnTo>
                        <a:pt x="364" y="598"/>
                      </a:lnTo>
                      <a:lnTo>
                        <a:pt x="362" y="622"/>
                      </a:lnTo>
                      <a:lnTo>
                        <a:pt x="362" y="622"/>
                      </a:lnTo>
                      <a:lnTo>
                        <a:pt x="360" y="680"/>
                      </a:lnTo>
                      <a:lnTo>
                        <a:pt x="272" y="772"/>
                      </a:lnTo>
                      <a:lnTo>
                        <a:pt x="280" y="778"/>
                      </a:lnTo>
                      <a:lnTo>
                        <a:pt x="360" y="702"/>
                      </a:lnTo>
                      <a:lnTo>
                        <a:pt x="360" y="702"/>
                      </a:lnTo>
                      <a:lnTo>
                        <a:pt x="362" y="756"/>
                      </a:lnTo>
                      <a:lnTo>
                        <a:pt x="312" y="806"/>
                      </a:lnTo>
                      <a:lnTo>
                        <a:pt x="320" y="814"/>
                      </a:lnTo>
                      <a:lnTo>
                        <a:pt x="362" y="772"/>
                      </a:lnTo>
                      <a:lnTo>
                        <a:pt x="362" y="772"/>
                      </a:lnTo>
                      <a:lnTo>
                        <a:pt x="364" y="796"/>
                      </a:lnTo>
                      <a:lnTo>
                        <a:pt x="368" y="822"/>
                      </a:lnTo>
                      <a:lnTo>
                        <a:pt x="370" y="824"/>
                      </a:lnTo>
                      <a:lnTo>
                        <a:pt x="390" y="824"/>
                      </a:lnTo>
                      <a:lnTo>
                        <a:pt x="390" y="822"/>
                      </a:lnTo>
                      <a:lnTo>
                        <a:pt x="390" y="822"/>
                      </a:lnTo>
                      <a:lnTo>
                        <a:pt x="396" y="796"/>
                      </a:lnTo>
                      <a:lnTo>
                        <a:pt x="398" y="772"/>
                      </a:lnTo>
                      <a:lnTo>
                        <a:pt x="442" y="814"/>
                      </a:lnTo>
                      <a:lnTo>
                        <a:pt x="448" y="806"/>
                      </a:lnTo>
                      <a:lnTo>
                        <a:pt x="398" y="754"/>
                      </a:lnTo>
                      <a:lnTo>
                        <a:pt x="398" y="754"/>
                      </a:lnTo>
                      <a:lnTo>
                        <a:pt x="400" y="702"/>
                      </a:lnTo>
                      <a:lnTo>
                        <a:pt x="480" y="778"/>
                      </a:lnTo>
                      <a:lnTo>
                        <a:pt x="488" y="770"/>
                      </a:lnTo>
                      <a:lnTo>
                        <a:pt x="400" y="678"/>
                      </a:lnTo>
                      <a:lnTo>
                        <a:pt x="400" y="678"/>
                      </a:lnTo>
                      <a:lnTo>
                        <a:pt x="396" y="620"/>
                      </a:lnTo>
                      <a:lnTo>
                        <a:pt x="396" y="620"/>
                      </a:lnTo>
                      <a:lnTo>
                        <a:pt x="394" y="600"/>
                      </a:lnTo>
                      <a:lnTo>
                        <a:pt x="396" y="600"/>
                      </a:lnTo>
                      <a:lnTo>
                        <a:pt x="396" y="600"/>
                      </a:lnTo>
                      <a:lnTo>
                        <a:pt x="398" y="600"/>
                      </a:lnTo>
                      <a:lnTo>
                        <a:pt x="400" y="594"/>
                      </a:lnTo>
                      <a:lnTo>
                        <a:pt x="410" y="556"/>
                      </a:lnTo>
                      <a:lnTo>
                        <a:pt x="410" y="556"/>
                      </a:lnTo>
                      <a:lnTo>
                        <a:pt x="414" y="546"/>
                      </a:lnTo>
                      <a:lnTo>
                        <a:pt x="414" y="546"/>
                      </a:lnTo>
                      <a:lnTo>
                        <a:pt x="424" y="530"/>
                      </a:lnTo>
                      <a:lnTo>
                        <a:pt x="430" y="522"/>
                      </a:lnTo>
                      <a:lnTo>
                        <a:pt x="438" y="518"/>
                      </a:lnTo>
                      <a:lnTo>
                        <a:pt x="438" y="518"/>
                      </a:lnTo>
                      <a:lnTo>
                        <a:pt x="446" y="514"/>
                      </a:lnTo>
                      <a:lnTo>
                        <a:pt x="456" y="510"/>
                      </a:lnTo>
                      <a:lnTo>
                        <a:pt x="466" y="508"/>
                      </a:lnTo>
                      <a:lnTo>
                        <a:pt x="476" y="508"/>
                      </a:lnTo>
                      <a:lnTo>
                        <a:pt x="476" y="508"/>
                      </a:lnTo>
                      <a:lnTo>
                        <a:pt x="478" y="508"/>
                      </a:lnTo>
                      <a:lnTo>
                        <a:pt x="478" y="508"/>
                      </a:lnTo>
                      <a:lnTo>
                        <a:pt x="488" y="510"/>
                      </a:lnTo>
                      <a:lnTo>
                        <a:pt x="488" y="510"/>
                      </a:lnTo>
                      <a:lnTo>
                        <a:pt x="522" y="520"/>
                      </a:lnTo>
                      <a:lnTo>
                        <a:pt x="530" y="522"/>
                      </a:lnTo>
                      <a:lnTo>
                        <a:pt x="534" y="520"/>
                      </a:lnTo>
                      <a:lnTo>
                        <a:pt x="534" y="518"/>
                      </a:lnTo>
                      <a:lnTo>
                        <a:pt x="534" y="518"/>
                      </a:lnTo>
                      <a:lnTo>
                        <a:pt x="552" y="530"/>
                      </a:lnTo>
                      <a:lnTo>
                        <a:pt x="552" y="530"/>
                      </a:lnTo>
                      <a:lnTo>
                        <a:pt x="602" y="562"/>
                      </a:lnTo>
                      <a:lnTo>
                        <a:pt x="638" y="684"/>
                      </a:lnTo>
                      <a:lnTo>
                        <a:pt x="648" y="680"/>
                      </a:lnTo>
                      <a:lnTo>
                        <a:pt x="622" y="574"/>
                      </a:lnTo>
                      <a:lnTo>
                        <a:pt x="622" y="574"/>
                      </a:lnTo>
                      <a:lnTo>
                        <a:pt x="668" y="600"/>
                      </a:lnTo>
                      <a:lnTo>
                        <a:pt x="688" y="666"/>
                      </a:lnTo>
                      <a:lnTo>
                        <a:pt x="698" y="664"/>
                      </a:lnTo>
                      <a:lnTo>
                        <a:pt x="684" y="606"/>
                      </a:lnTo>
                      <a:lnTo>
                        <a:pt x="684" y="606"/>
                      </a:lnTo>
                      <a:lnTo>
                        <a:pt x="706" y="616"/>
                      </a:lnTo>
                      <a:lnTo>
                        <a:pt x="728" y="626"/>
                      </a:lnTo>
                      <a:lnTo>
                        <a:pt x="732" y="626"/>
                      </a:lnTo>
                      <a:lnTo>
                        <a:pt x="742" y="608"/>
                      </a:lnTo>
                      <a:lnTo>
                        <a:pt x="740" y="606"/>
                      </a:lnTo>
                      <a:lnTo>
                        <a:pt x="740" y="606"/>
                      </a:lnTo>
                      <a:lnTo>
                        <a:pt x="720" y="590"/>
                      </a:lnTo>
                      <a:lnTo>
                        <a:pt x="700" y="576"/>
                      </a:lnTo>
                      <a:lnTo>
                        <a:pt x="700" y="576"/>
                      </a:lnTo>
                      <a:close/>
                      <a:moveTo>
                        <a:pt x="324" y="424"/>
                      </a:moveTo>
                      <a:lnTo>
                        <a:pt x="310" y="412"/>
                      </a:lnTo>
                      <a:lnTo>
                        <a:pt x="324" y="398"/>
                      </a:lnTo>
                      <a:lnTo>
                        <a:pt x="324" y="398"/>
                      </a:lnTo>
                      <a:lnTo>
                        <a:pt x="342" y="412"/>
                      </a:lnTo>
                      <a:lnTo>
                        <a:pt x="342" y="412"/>
                      </a:lnTo>
                      <a:lnTo>
                        <a:pt x="324" y="424"/>
                      </a:lnTo>
                      <a:lnTo>
                        <a:pt x="324" y="424"/>
                      </a:lnTo>
                      <a:close/>
                      <a:moveTo>
                        <a:pt x="344" y="472"/>
                      </a:moveTo>
                      <a:lnTo>
                        <a:pt x="340" y="452"/>
                      </a:lnTo>
                      <a:lnTo>
                        <a:pt x="340" y="452"/>
                      </a:lnTo>
                      <a:lnTo>
                        <a:pt x="360" y="444"/>
                      </a:lnTo>
                      <a:lnTo>
                        <a:pt x="360" y="444"/>
                      </a:lnTo>
                      <a:lnTo>
                        <a:pt x="362" y="466"/>
                      </a:lnTo>
                      <a:lnTo>
                        <a:pt x="344" y="472"/>
                      </a:lnTo>
                      <a:close/>
                      <a:moveTo>
                        <a:pt x="360" y="380"/>
                      </a:moveTo>
                      <a:lnTo>
                        <a:pt x="360" y="380"/>
                      </a:lnTo>
                      <a:lnTo>
                        <a:pt x="340" y="370"/>
                      </a:lnTo>
                      <a:lnTo>
                        <a:pt x="344" y="352"/>
                      </a:lnTo>
                      <a:lnTo>
                        <a:pt x="364" y="358"/>
                      </a:lnTo>
                      <a:lnTo>
                        <a:pt x="364" y="358"/>
                      </a:lnTo>
                      <a:lnTo>
                        <a:pt x="360" y="380"/>
                      </a:lnTo>
                      <a:lnTo>
                        <a:pt x="360" y="380"/>
                      </a:lnTo>
                      <a:close/>
                      <a:moveTo>
                        <a:pt x="414" y="352"/>
                      </a:moveTo>
                      <a:lnTo>
                        <a:pt x="418" y="370"/>
                      </a:lnTo>
                      <a:lnTo>
                        <a:pt x="418" y="370"/>
                      </a:lnTo>
                      <a:lnTo>
                        <a:pt x="398" y="380"/>
                      </a:lnTo>
                      <a:lnTo>
                        <a:pt x="398" y="380"/>
                      </a:lnTo>
                      <a:lnTo>
                        <a:pt x="396" y="358"/>
                      </a:lnTo>
                      <a:lnTo>
                        <a:pt x="414" y="352"/>
                      </a:lnTo>
                      <a:close/>
                      <a:moveTo>
                        <a:pt x="414" y="472"/>
                      </a:moveTo>
                      <a:lnTo>
                        <a:pt x="394" y="466"/>
                      </a:lnTo>
                      <a:lnTo>
                        <a:pt x="394" y="466"/>
                      </a:lnTo>
                      <a:lnTo>
                        <a:pt x="398" y="444"/>
                      </a:lnTo>
                      <a:lnTo>
                        <a:pt x="398" y="444"/>
                      </a:lnTo>
                      <a:lnTo>
                        <a:pt x="418" y="452"/>
                      </a:lnTo>
                      <a:lnTo>
                        <a:pt x="414" y="472"/>
                      </a:lnTo>
                      <a:close/>
                      <a:moveTo>
                        <a:pt x="434" y="424"/>
                      </a:moveTo>
                      <a:lnTo>
                        <a:pt x="434" y="424"/>
                      </a:lnTo>
                      <a:lnTo>
                        <a:pt x="416" y="412"/>
                      </a:lnTo>
                      <a:lnTo>
                        <a:pt x="416" y="412"/>
                      </a:lnTo>
                      <a:lnTo>
                        <a:pt x="434" y="398"/>
                      </a:lnTo>
                      <a:lnTo>
                        <a:pt x="448" y="412"/>
                      </a:lnTo>
                      <a:lnTo>
                        <a:pt x="434" y="424"/>
                      </a:lnTo>
                      <a:close/>
                    </a:path>
                  </a:pathLst>
                </a:custGeom>
                <a:solidFill>
                  <a:srgbClr val="feffff">
                    <a:alpha val="3000"/>
                  </a:srgbClr>
                </a:solidFill>
                <a:ln w="0">
                  <a:solidFill>
                    <a:srgbClr val="feffff">
                      <a:alpha val="4000"/>
                    </a:srgbClr>
                  </a:solidFill>
                </a:ln>
                <a:effectLst>
                  <a:glow rad="76320">
                    <a:srgbClr val="feffff">
                      <a:alpha val="6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4" name="Freeform 25"/>
                <p:cNvSpPr/>
                <p:nvPr/>
              </p:nvSpPr>
              <p:spPr>
                <a:xfrm rot="20016600">
                  <a:off x="7677720" y="2380680"/>
                  <a:ext cx="824400" cy="946440"/>
                </a:xfrm>
                <a:custGeom>
                  <a:avLst/>
                  <a:gdLst>
                    <a:gd name="textAreaLeft" fmla="*/ 0 w 824400"/>
                    <a:gd name="textAreaRight" fmla="*/ 824760 w 824400"/>
                    <a:gd name="textAreaTop" fmla="*/ 0 h 946440"/>
                    <a:gd name="textAreaBottom" fmla="*/ 946800 h 946440"/>
                  </a:gdLst>
                  <a:ahLst/>
                  <a:rect l="textAreaLeft" t="textAreaTop" r="textAreaRight" b="textAreaBottom"/>
                  <a:pathLst>
                    <a:path w="756" h="868">
                      <a:moveTo>
                        <a:pt x="748" y="642"/>
                      </a:moveTo>
                      <a:lnTo>
                        <a:pt x="748" y="642"/>
                      </a:lnTo>
                      <a:lnTo>
                        <a:pt x="732" y="632"/>
                      </a:lnTo>
                      <a:lnTo>
                        <a:pt x="734" y="630"/>
                      </a:lnTo>
                      <a:lnTo>
                        <a:pt x="734" y="630"/>
                      </a:lnTo>
                      <a:lnTo>
                        <a:pt x="736" y="626"/>
                      </a:lnTo>
                      <a:lnTo>
                        <a:pt x="734" y="624"/>
                      </a:lnTo>
                      <a:lnTo>
                        <a:pt x="734" y="624"/>
                      </a:lnTo>
                      <a:lnTo>
                        <a:pt x="702" y="598"/>
                      </a:lnTo>
                      <a:lnTo>
                        <a:pt x="670" y="576"/>
                      </a:lnTo>
                      <a:lnTo>
                        <a:pt x="732" y="558"/>
                      </a:lnTo>
                      <a:lnTo>
                        <a:pt x="730" y="548"/>
                      </a:lnTo>
                      <a:lnTo>
                        <a:pt x="654" y="566"/>
                      </a:lnTo>
                      <a:lnTo>
                        <a:pt x="654" y="566"/>
                      </a:lnTo>
                      <a:lnTo>
                        <a:pt x="632" y="554"/>
                      </a:lnTo>
                      <a:lnTo>
                        <a:pt x="632" y="554"/>
                      </a:lnTo>
                      <a:lnTo>
                        <a:pt x="610" y="534"/>
                      </a:lnTo>
                      <a:lnTo>
                        <a:pt x="720" y="502"/>
                      </a:lnTo>
                      <a:lnTo>
                        <a:pt x="718" y="490"/>
                      </a:lnTo>
                      <a:lnTo>
                        <a:pt x="598" y="520"/>
                      </a:lnTo>
                      <a:lnTo>
                        <a:pt x="598" y="520"/>
                      </a:lnTo>
                      <a:lnTo>
                        <a:pt x="588" y="504"/>
                      </a:lnTo>
                      <a:lnTo>
                        <a:pt x="578" y="490"/>
                      </a:lnTo>
                      <a:lnTo>
                        <a:pt x="570" y="474"/>
                      </a:lnTo>
                      <a:lnTo>
                        <a:pt x="566" y="460"/>
                      </a:lnTo>
                      <a:lnTo>
                        <a:pt x="566" y="460"/>
                      </a:lnTo>
                      <a:lnTo>
                        <a:pt x="606" y="484"/>
                      </a:lnTo>
                      <a:lnTo>
                        <a:pt x="616" y="490"/>
                      </a:lnTo>
                      <a:lnTo>
                        <a:pt x="622" y="492"/>
                      </a:lnTo>
                      <a:lnTo>
                        <a:pt x="624" y="492"/>
                      </a:lnTo>
                      <a:lnTo>
                        <a:pt x="626" y="490"/>
                      </a:lnTo>
                      <a:lnTo>
                        <a:pt x="626" y="490"/>
                      </a:lnTo>
                      <a:lnTo>
                        <a:pt x="626" y="488"/>
                      </a:lnTo>
                      <a:lnTo>
                        <a:pt x="622" y="482"/>
                      </a:lnTo>
                      <a:lnTo>
                        <a:pt x="586" y="454"/>
                      </a:lnTo>
                      <a:lnTo>
                        <a:pt x="586" y="454"/>
                      </a:lnTo>
                      <a:lnTo>
                        <a:pt x="576" y="444"/>
                      </a:lnTo>
                      <a:lnTo>
                        <a:pt x="570" y="434"/>
                      </a:lnTo>
                      <a:lnTo>
                        <a:pt x="570" y="434"/>
                      </a:lnTo>
                      <a:lnTo>
                        <a:pt x="576" y="424"/>
                      </a:lnTo>
                      <a:lnTo>
                        <a:pt x="586" y="414"/>
                      </a:lnTo>
                      <a:lnTo>
                        <a:pt x="586" y="414"/>
                      </a:lnTo>
                      <a:lnTo>
                        <a:pt x="622" y="386"/>
                      </a:lnTo>
                      <a:lnTo>
                        <a:pt x="626" y="380"/>
                      </a:lnTo>
                      <a:lnTo>
                        <a:pt x="626" y="378"/>
                      </a:lnTo>
                      <a:lnTo>
                        <a:pt x="624" y="374"/>
                      </a:lnTo>
                      <a:lnTo>
                        <a:pt x="622" y="374"/>
                      </a:lnTo>
                      <a:lnTo>
                        <a:pt x="622" y="374"/>
                      </a:lnTo>
                      <a:lnTo>
                        <a:pt x="616" y="376"/>
                      </a:lnTo>
                      <a:lnTo>
                        <a:pt x="606" y="382"/>
                      </a:lnTo>
                      <a:lnTo>
                        <a:pt x="566" y="408"/>
                      </a:lnTo>
                      <a:lnTo>
                        <a:pt x="566" y="408"/>
                      </a:lnTo>
                      <a:lnTo>
                        <a:pt x="570" y="392"/>
                      </a:lnTo>
                      <a:lnTo>
                        <a:pt x="578" y="376"/>
                      </a:lnTo>
                      <a:lnTo>
                        <a:pt x="588" y="362"/>
                      </a:lnTo>
                      <a:lnTo>
                        <a:pt x="600" y="346"/>
                      </a:lnTo>
                      <a:lnTo>
                        <a:pt x="716" y="374"/>
                      </a:lnTo>
                      <a:lnTo>
                        <a:pt x="718" y="362"/>
                      </a:lnTo>
                      <a:lnTo>
                        <a:pt x="612" y="332"/>
                      </a:lnTo>
                      <a:lnTo>
                        <a:pt x="612" y="332"/>
                      </a:lnTo>
                      <a:lnTo>
                        <a:pt x="636" y="308"/>
                      </a:lnTo>
                      <a:lnTo>
                        <a:pt x="636" y="308"/>
                      </a:lnTo>
                      <a:lnTo>
                        <a:pt x="656" y="298"/>
                      </a:lnTo>
                      <a:lnTo>
                        <a:pt x="728" y="316"/>
                      </a:lnTo>
                      <a:lnTo>
                        <a:pt x="730" y="306"/>
                      </a:lnTo>
                      <a:lnTo>
                        <a:pt x="670" y="288"/>
                      </a:lnTo>
                      <a:lnTo>
                        <a:pt x="670" y="288"/>
                      </a:lnTo>
                      <a:lnTo>
                        <a:pt x="702" y="266"/>
                      </a:lnTo>
                      <a:lnTo>
                        <a:pt x="732" y="242"/>
                      </a:lnTo>
                      <a:lnTo>
                        <a:pt x="734" y="240"/>
                      </a:lnTo>
                      <a:lnTo>
                        <a:pt x="734" y="238"/>
                      </a:lnTo>
                      <a:lnTo>
                        <a:pt x="734" y="238"/>
                      </a:lnTo>
                      <a:lnTo>
                        <a:pt x="732" y="236"/>
                      </a:lnTo>
                      <a:lnTo>
                        <a:pt x="732" y="236"/>
                      </a:lnTo>
                      <a:lnTo>
                        <a:pt x="748" y="226"/>
                      </a:lnTo>
                      <a:lnTo>
                        <a:pt x="756" y="220"/>
                      </a:lnTo>
                      <a:lnTo>
                        <a:pt x="756" y="220"/>
                      </a:lnTo>
                      <a:lnTo>
                        <a:pt x="756" y="220"/>
                      </a:lnTo>
                      <a:lnTo>
                        <a:pt x="756" y="220"/>
                      </a:lnTo>
                      <a:lnTo>
                        <a:pt x="754" y="216"/>
                      </a:lnTo>
                      <a:lnTo>
                        <a:pt x="752" y="214"/>
                      </a:lnTo>
                      <a:lnTo>
                        <a:pt x="752" y="214"/>
                      </a:lnTo>
                      <a:lnTo>
                        <a:pt x="752" y="214"/>
                      </a:lnTo>
                      <a:lnTo>
                        <a:pt x="752" y="212"/>
                      </a:lnTo>
                      <a:lnTo>
                        <a:pt x="744" y="218"/>
                      </a:lnTo>
                      <a:lnTo>
                        <a:pt x="744" y="218"/>
                      </a:lnTo>
                      <a:lnTo>
                        <a:pt x="728" y="226"/>
                      </a:lnTo>
                      <a:lnTo>
                        <a:pt x="726" y="224"/>
                      </a:lnTo>
                      <a:lnTo>
                        <a:pt x="726" y="224"/>
                      </a:lnTo>
                      <a:lnTo>
                        <a:pt x="724" y="220"/>
                      </a:lnTo>
                      <a:lnTo>
                        <a:pt x="720" y="222"/>
                      </a:lnTo>
                      <a:lnTo>
                        <a:pt x="720" y="222"/>
                      </a:lnTo>
                      <a:lnTo>
                        <a:pt x="684" y="236"/>
                      </a:lnTo>
                      <a:lnTo>
                        <a:pt x="648" y="252"/>
                      </a:lnTo>
                      <a:lnTo>
                        <a:pt x="664" y="190"/>
                      </a:lnTo>
                      <a:lnTo>
                        <a:pt x="654" y="186"/>
                      </a:lnTo>
                      <a:lnTo>
                        <a:pt x="632" y="260"/>
                      </a:lnTo>
                      <a:lnTo>
                        <a:pt x="632" y="260"/>
                      </a:lnTo>
                      <a:lnTo>
                        <a:pt x="608" y="274"/>
                      </a:lnTo>
                      <a:lnTo>
                        <a:pt x="608" y="274"/>
                      </a:lnTo>
                      <a:lnTo>
                        <a:pt x="580" y="282"/>
                      </a:lnTo>
                      <a:lnTo>
                        <a:pt x="608" y="172"/>
                      </a:lnTo>
                      <a:lnTo>
                        <a:pt x="598" y="168"/>
                      </a:lnTo>
                      <a:lnTo>
                        <a:pt x="564" y="286"/>
                      </a:lnTo>
                      <a:lnTo>
                        <a:pt x="564" y="286"/>
                      </a:lnTo>
                      <a:lnTo>
                        <a:pt x="546" y="288"/>
                      </a:lnTo>
                      <a:lnTo>
                        <a:pt x="528" y="290"/>
                      </a:lnTo>
                      <a:lnTo>
                        <a:pt x="528" y="290"/>
                      </a:lnTo>
                      <a:lnTo>
                        <a:pt x="510" y="288"/>
                      </a:lnTo>
                      <a:lnTo>
                        <a:pt x="496" y="284"/>
                      </a:lnTo>
                      <a:lnTo>
                        <a:pt x="496" y="284"/>
                      </a:lnTo>
                      <a:lnTo>
                        <a:pt x="528" y="266"/>
                      </a:lnTo>
                      <a:lnTo>
                        <a:pt x="546" y="258"/>
                      </a:lnTo>
                      <a:lnTo>
                        <a:pt x="552" y="252"/>
                      </a:lnTo>
                      <a:lnTo>
                        <a:pt x="552" y="250"/>
                      </a:lnTo>
                      <a:lnTo>
                        <a:pt x="550" y="246"/>
                      </a:lnTo>
                      <a:lnTo>
                        <a:pt x="548" y="246"/>
                      </a:lnTo>
                      <a:lnTo>
                        <a:pt x="548" y="246"/>
                      </a:lnTo>
                      <a:lnTo>
                        <a:pt x="538" y="248"/>
                      </a:lnTo>
                      <a:lnTo>
                        <a:pt x="500" y="264"/>
                      </a:lnTo>
                      <a:lnTo>
                        <a:pt x="500" y="264"/>
                      </a:lnTo>
                      <a:lnTo>
                        <a:pt x="488" y="266"/>
                      </a:lnTo>
                      <a:lnTo>
                        <a:pt x="478" y="268"/>
                      </a:lnTo>
                      <a:lnTo>
                        <a:pt x="478" y="268"/>
                      </a:lnTo>
                      <a:lnTo>
                        <a:pt x="474" y="268"/>
                      </a:lnTo>
                      <a:lnTo>
                        <a:pt x="474" y="268"/>
                      </a:lnTo>
                      <a:lnTo>
                        <a:pt x="468" y="256"/>
                      </a:lnTo>
                      <a:lnTo>
                        <a:pt x="466" y="244"/>
                      </a:lnTo>
                      <a:lnTo>
                        <a:pt x="466" y="244"/>
                      </a:lnTo>
                      <a:lnTo>
                        <a:pt x="458" y="198"/>
                      </a:lnTo>
                      <a:lnTo>
                        <a:pt x="456" y="192"/>
                      </a:lnTo>
                      <a:lnTo>
                        <a:pt x="452" y="192"/>
                      </a:lnTo>
                      <a:lnTo>
                        <a:pt x="450" y="192"/>
                      </a:lnTo>
                      <a:lnTo>
                        <a:pt x="450" y="192"/>
                      </a:lnTo>
                      <a:lnTo>
                        <a:pt x="450" y="192"/>
                      </a:lnTo>
                      <a:lnTo>
                        <a:pt x="448" y="194"/>
                      </a:lnTo>
                      <a:lnTo>
                        <a:pt x="448" y="202"/>
                      </a:lnTo>
                      <a:lnTo>
                        <a:pt x="450" y="258"/>
                      </a:lnTo>
                      <a:lnTo>
                        <a:pt x="450" y="258"/>
                      </a:lnTo>
                      <a:lnTo>
                        <a:pt x="438" y="246"/>
                      </a:lnTo>
                      <a:lnTo>
                        <a:pt x="428" y="232"/>
                      </a:lnTo>
                      <a:lnTo>
                        <a:pt x="420" y="216"/>
                      </a:lnTo>
                      <a:lnTo>
                        <a:pt x="412" y="198"/>
                      </a:lnTo>
                      <a:lnTo>
                        <a:pt x="496" y="112"/>
                      </a:lnTo>
                      <a:lnTo>
                        <a:pt x="486" y="104"/>
                      </a:lnTo>
                      <a:lnTo>
                        <a:pt x="408" y="180"/>
                      </a:lnTo>
                      <a:lnTo>
                        <a:pt x="408" y="180"/>
                      </a:lnTo>
                      <a:lnTo>
                        <a:pt x="400" y="148"/>
                      </a:lnTo>
                      <a:lnTo>
                        <a:pt x="400" y="148"/>
                      </a:lnTo>
                      <a:lnTo>
                        <a:pt x="400" y="126"/>
                      </a:lnTo>
                      <a:lnTo>
                        <a:pt x="452" y="72"/>
                      </a:lnTo>
                      <a:lnTo>
                        <a:pt x="444" y="64"/>
                      </a:lnTo>
                      <a:lnTo>
                        <a:pt x="398" y="108"/>
                      </a:lnTo>
                      <a:lnTo>
                        <a:pt x="398" y="108"/>
                      </a:lnTo>
                      <a:lnTo>
                        <a:pt x="396" y="70"/>
                      </a:lnTo>
                      <a:lnTo>
                        <a:pt x="390" y="30"/>
                      </a:lnTo>
                      <a:lnTo>
                        <a:pt x="388" y="28"/>
                      </a:lnTo>
                      <a:lnTo>
                        <a:pt x="386" y="28"/>
                      </a:lnTo>
                      <a:lnTo>
                        <a:pt x="384" y="28"/>
                      </a:lnTo>
                      <a:lnTo>
                        <a:pt x="384" y="28"/>
                      </a:lnTo>
                      <a:lnTo>
                        <a:pt x="382" y="10"/>
                      </a:lnTo>
                      <a:lnTo>
                        <a:pt x="382" y="0"/>
                      </a:lnTo>
                      <a:lnTo>
                        <a:pt x="382" y="0"/>
                      </a:lnTo>
                      <a:lnTo>
                        <a:pt x="382" y="0"/>
                      </a:lnTo>
                      <a:lnTo>
                        <a:pt x="382" y="0"/>
                      </a:lnTo>
                      <a:lnTo>
                        <a:pt x="378" y="0"/>
                      </a:lnTo>
                      <a:lnTo>
                        <a:pt x="374" y="0"/>
                      </a:lnTo>
                      <a:lnTo>
                        <a:pt x="374" y="0"/>
                      </a:lnTo>
                      <a:lnTo>
                        <a:pt x="374" y="0"/>
                      </a:lnTo>
                      <a:lnTo>
                        <a:pt x="374" y="0"/>
                      </a:lnTo>
                      <a:lnTo>
                        <a:pt x="374" y="10"/>
                      </a:lnTo>
                      <a:lnTo>
                        <a:pt x="374" y="10"/>
                      </a:lnTo>
                      <a:lnTo>
                        <a:pt x="374" y="28"/>
                      </a:lnTo>
                      <a:lnTo>
                        <a:pt x="370" y="28"/>
                      </a:lnTo>
                      <a:lnTo>
                        <a:pt x="366" y="28"/>
                      </a:lnTo>
                      <a:lnTo>
                        <a:pt x="366" y="30"/>
                      </a:lnTo>
                      <a:lnTo>
                        <a:pt x="366" y="30"/>
                      </a:lnTo>
                      <a:lnTo>
                        <a:pt x="358" y="70"/>
                      </a:lnTo>
                      <a:lnTo>
                        <a:pt x="356" y="110"/>
                      </a:lnTo>
                      <a:lnTo>
                        <a:pt x="310" y="64"/>
                      </a:lnTo>
                      <a:lnTo>
                        <a:pt x="302" y="72"/>
                      </a:lnTo>
                      <a:lnTo>
                        <a:pt x="356" y="128"/>
                      </a:lnTo>
                      <a:lnTo>
                        <a:pt x="356" y="128"/>
                      </a:lnTo>
                      <a:lnTo>
                        <a:pt x="356" y="154"/>
                      </a:lnTo>
                      <a:lnTo>
                        <a:pt x="356" y="154"/>
                      </a:lnTo>
                      <a:lnTo>
                        <a:pt x="348" y="182"/>
                      </a:lnTo>
                      <a:lnTo>
                        <a:pt x="266" y="104"/>
                      </a:lnTo>
                      <a:lnTo>
                        <a:pt x="258" y="112"/>
                      </a:lnTo>
                      <a:lnTo>
                        <a:pt x="342" y="200"/>
                      </a:lnTo>
                      <a:lnTo>
                        <a:pt x="342" y="200"/>
                      </a:lnTo>
                      <a:lnTo>
                        <a:pt x="336" y="218"/>
                      </a:lnTo>
                      <a:lnTo>
                        <a:pt x="328" y="234"/>
                      </a:lnTo>
                      <a:lnTo>
                        <a:pt x="318" y="246"/>
                      </a:lnTo>
                      <a:lnTo>
                        <a:pt x="308" y="258"/>
                      </a:lnTo>
                      <a:lnTo>
                        <a:pt x="308" y="258"/>
                      </a:lnTo>
                      <a:lnTo>
                        <a:pt x="308" y="202"/>
                      </a:lnTo>
                      <a:lnTo>
                        <a:pt x="308" y="194"/>
                      </a:lnTo>
                      <a:lnTo>
                        <a:pt x="308" y="192"/>
                      </a:lnTo>
                      <a:lnTo>
                        <a:pt x="306" y="192"/>
                      </a:lnTo>
                      <a:lnTo>
                        <a:pt x="304" y="192"/>
                      </a:lnTo>
                      <a:lnTo>
                        <a:pt x="304" y="192"/>
                      </a:lnTo>
                      <a:lnTo>
                        <a:pt x="302" y="192"/>
                      </a:lnTo>
                      <a:lnTo>
                        <a:pt x="298" y="198"/>
                      </a:lnTo>
                      <a:lnTo>
                        <a:pt x="292" y="244"/>
                      </a:lnTo>
                      <a:lnTo>
                        <a:pt x="292" y="244"/>
                      </a:lnTo>
                      <a:lnTo>
                        <a:pt x="288" y="256"/>
                      </a:lnTo>
                      <a:lnTo>
                        <a:pt x="282" y="268"/>
                      </a:lnTo>
                      <a:lnTo>
                        <a:pt x="282" y="268"/>
                      </a:lnTo>
                      <a:lnTo>
                        <a:pt x="278" y="268"/>
                      </a:lnTo>
                      <a:lnTo>
                        <a:pt x="278" y="268"/>
                      </a:lnTo>
                      <a:lnTo>
                        <a:pt x="268" y="266"/>
                      </a:lnTo>
                      <a:lnTo>
                        <a:pt x="256" y="264"/>
                      </a:lnTo>
                      <a:lnTo>
                        <a:pt x="256" y="264"/>
                      </a:lnTo>
                      <a:lnTo>
                        <a:pt x="218" y="248"/>
                      </a:lnTo>
                      <a:lnTo>
                        <a:pt x="210" y="246"/>
                      </a:lnTo>
                      <a:lnTo>
                        <a:pt x="206" y="246"/>
                      </a:lnTo>
                      <a:lnTo>
                        <a:pt x="206" y="250"/>
                      </a:lnTo>
                      <a:lnTo>
                        <a:pt x="206" y="250"/>
                      </a:lnTo>
                      <a:lnTo>
                        <a:pt x="206" y="252"/>
                      </a:lnTo>
                      <a:lnTo>
                        <a:pt x="212" y="258"/>
                      </a:lnTo>
                      <a:lnTo>
                        <a:pt x="228" y="266"/>
                      </a:lnTo>
                      <a:lnTo>
                        <a:pt x="262" y="284"/>
                      </a:lnTo>
                      <a:lnTo>
                        <a:pt x="262" y="284"/>
                      </a:lnTo>
                      <a:lnTo>
                        <a:pt x="246" y="288"/>
                      </a:lnTo>
                      <a:lnTo>
                        <a:pt x="228" y="290"/>
                      </a:lnTo>
                      <a:lnTo>
                        <a:pt x="228" y="290"/>
                      </a:lnTo>
                      <a:lnTo>
                        <a:pt x="210" y="288"/>
                      </a:lnTo>
                      <a:lnTo>
                        <a:pt x="190" y="286"/>
                      </a:lnTo>
                      <a:lnTo>
                        <a:pt x="158" y="172"/>
                      </a:lnTo>
                      <a:lnTo>
                        <a:pt x="146" y="174"/>
                      </a:lnTo>
                      <a:lnTo>
                        <a:pt x="174" y="282"/>
                      </a:lnTo>
                      <a:lnTo>
                        <a:pt x="174" y="282"/>
                      </a:lnTo>
                      <a:lnTo>
                        <a:pt x="140" y="272"/>
                      </a:lnTo>
                      <a:lnTo>
                        <a:pt x="140" y="272"/>
                      </a:lnTo>
                      <a:lnTo>
                        <a:pt x="122" y="262"/>
                      </a:lnTo>
                      <a:lnTo>
                        <a:pt x="102" y="190"/>
                      </a:lnTo>
                      <a:lnTo>
                        <a:pt x="92" y="192"/>
                      </a:lnTo>
                      <a:lnTo>
                        <a:pt x="106" y="254"/>
                      </a:lnTo>
                      <a:lnTo>
                        <a:pt x="106" y="254"/>
                      </a:lnTo>
                      <a:lnTo>
                        <a:pt x="72" y="236"/>
                      </a:lnTo>
                      <a:lnTo>
                        <a:pt x="36" y="222"/>
                      </a:lnTo>
                      <a:lnTo>
                        <a:pt x="32" y="222"/>
                      </a:lnTo>
                      <a:lnTo>
                        <a:pt x="30" y="226"/>
                      </a:lnTo>
                      <a:lnTo>
                        <a:pt x="30" y="226"/>
                      </a:lnTo>
                      <a:lnTo>
                        <a:pt x="14" y="218"/>
                      </a:lnTo>
                      <a:lnTo>
                        <a:pt x="4" y="212"/>
                      </a:lnTo>
                      <a:lnTo>
                        <a:pt x="4" y="214"/>
                      </a:lnTo>
                      <a:lnTo>
                        <a:pt x="4" y="214"/>
                      </a:lnTo>
                      <a:lnTo>
                        <a:pt x="4" y="214"/>
                      </a:lnTo>
                      <a:lnTo>
                        <a:pt x="2" y="216"/>
                      </a:lnTo>
                      <a:lnTo>
                        <a:pt x="0" y="220"/>
                      </a:lnTo>
                      <a:lnTo>
                        <a:pt x="0" y="220"/>
                      </a:lnTo>
                      <a:lnTo>
                        <a:pt x="0" y="220"/>
                      </a:lnTo>
                      <a:lnTo>
                        <a:pt x="0" y="220"/>
                      </a:lnTo>
                      <a:lnTo>
                        <a:pt x="10" y="226"/>
                      </a:lnTo>
                      <a:lnTo>
                        <a:pt x="10" y="226"/>
                      </a:lnTo>
                      <a:lnTo>
                        <a:pt x="24" y="236"/>
                      </a:lnTo>
                      <a:lnTo>
                        <a:pt x="22" y="238"/>
                      </a:lnTo>
                      <a:lnTo>
                        <a:pt x="22" y="238"/>
                      </a:lnTo>
                      <a:lnTo>
                        <a:pt x="20" y="242"/>
                      </a:lnTo>
                      <a:lnTo>
                        <a:pt x="24" y="244"/>
                      </a:lnTo>
                      <a:lnTo>
                        <a:pt x="24" y="244"/>
                      </a:lnTo>
                      <a:lnTo>
                        <a:pt x="54" y="268"/>
                      </a:lnTo>
                      <a:lnTo>
                        <a:pt x="86" y="292"/>
                      </a:lnTo>
                      <a:lnTo>
                        <a:pt x="24" y="310"/>
                      </a:lnTo>
                      <a:lnTo>
                        <a:pt x="26" y="318"/>
                      </a:lnTo>
                      <a:lnTo>
                        <a:pt x="102" y="300"/>
                      </a:lnTo>
                      <a:lnTo>
                        <a:pt x="102" y="300"/>
                      </a:lnTo>
                      <a:lnTo>
                        <a:pt x="126" y="314"/>
                      </a:lnTo>
                      <a:lnTo>
                        <a:pt x="126" y="314"/>
                      </a:lnTo>
                      <a:lnTo>
                        <a:pt x="146" y="334"/>
                      </a:lnTo>
                      <a:lnTo>
                        <a:pt x="36" y="366"/>
                      </a:lnTo>
                      <a:lnTo>
                        <a:pt x="40" y="376"/>
                      </a:lnTo>
                      <a:lnTo>
                        <a:pt x="158" y="348"/>
                      </a:lnTo>
                      <a:lnTo>
                        <a:pt x="158" y="348"/>
                      </a:lnTo>
                      <a:lnTo>
                        <a:pt x="170" y="362"/>
                      </a:lnTo>
                      <a:lnTo>
                        <a:pt x="180" y="378"/>
                      </a:lnTo>
                      <a:lnTo>
                        <a:pt x="186" y="392"/>
                      </a:lnTo>
                      <a:lnTo>
                        <a:pt x="190" y="408"/>
                      </a:lnTo>
                      <a:lnTo>
                        <a:pt x="190" y="408"/>
                      </a:lnTo>
                      <a:lnTo>
                        <a:pt x="152" y="382"/>
                      </a:lnTo>
                      <a:lnTo>
                        <a:pt x="140" y="376"/>
                      </a:lnTo>
                      <a:lnTo>
                        <a:pt x="136" y="374"/>
                      </a:lnTo>
                      <a:lnTo>
                        <a:pt x="132" y="374"/>
                      </a:lnTo>
                      <a:lnTo>
                        <a:pt x="132" y="378"/>
                      </a:lnTo>
                      <a:lnTo>
                        <a:pt x="132" y="378"/>
                      </a:lnTo>
                      <a:lnTo>
                        <a:pt x="130" y="380"/>
                      </a:lnTo>
                      <a:lnTo>
                        <a:pt x="134" y="386"/>
                      </a:lnTo>
                      <a:lnTo>
                        <a:pt x="170" y="414"/>
                      </a:lnTo>
                      <a:lnTo>
                        <a:pt x="170" y="414"/>
                      </a:lnTo>
                      <a:lnTo>
                        <a:pt x="180" y="424"/>
                      </a:lnTo>
                      <a:lnTo>
                        <a:pt x="186" y="434"/>
                      </a:lnTo>
                      <a:lnTo>
                        <a:pt x="186" y="434"/>
                      </a:lnTo>
                      <a:lnTo>
                        <a:pt x="180" y="444"/>
                      </a:lnTo>
                      <a:lnTo>
                        <a:pt x="170" y="454"/>
                      </a:lnTo>
                      <a:lnTo>
                        <a:pt x="170" y="454"/>
                      </a:lnTo>
                      <a:lnTo>
                        <a:pt x="134" y="482"/>
                      </a:lnTo>
                      <a:lnTo>
                        <a:pt x="130" y="488"/>
                      </a:lnTo>
                      <a:lnTo>
                        <a:pt x="132" y="490"/>
                      </a:lnTo>
                      <a:lnTo>
                        <a:pt x="132" y="492"/>
                      </a:lnTo>
                      <a:lnTo>
                        <a:pt x="136" y="492"/>
                      </a:lnTo>
                      <a:lnTo>
                        <a:pt x="136" y="492"/>
                      </a:lnTo>
                      <a:lnTo>
                        <a:pt x="136" y="492"/>
                      </a:lnTo>
                      <a:lnTo>
                        <a:pt x="136" y="492"/>
                      </a:lnTo>
                      <a:lnTo>
                        <a:pt x="140" y="490"/>
                      </a:lnTo>
                      <a:lnTo>
                        <a:pt x="152" y="484"/>
                      </a:lnTo>
                      <a:lnTo>
                        <a:pt x="190" y="460"/>
                      </a:lnTo>
                      <a:lnTo>
                        <a:pt x="190" y="460"/>
                      </a:lnTo>
                      <a:lnTo>
                        <a:pt x="186" y="476"/>
                      </a:lnTo>
                      <a:lnTo>
                        <a:pt x="178" y="490"/>
                      </a:lnTo>
                      <a:lnTo>
                        <a:pt x="168" y="506"/>
                      </a:lnTo>
                      <a:lnTo>
                        <a:pt x="156" y="522"/>
                      </a:lnTo>
                      <a:lnTo>
                        <a:pt x="40" y="494"/>
                      </a:lnTo>
                      <a:lnTo>
                        <a:pt x="38" y="504"/>
                      </a:lnTo>
                      <a:lnTo>
                        <a:pt x="144" y="536"/>
                      </a:lnTo>
                      <a:lnTo>
                        <a:pt x="144" y="536"/>
                      </a:lnTo>
                      <a:lnTo>
                        <a:pt x="120" y="558"/>
                      </a:lnTo>
                      <a:lnTo>
                        <a:pt x="120" y="558"/>
                      </a:lnTo>
                      <a:lnTo>
                        <a:pt x="102" y="570"/>
                      </a:lnTo>
                      <a:lnTo>
                        <a:pt x="28" y="552"/>
                      </a:lnTo>
                      <a:lnTo>
                        <a:pt x="26" y="562"/>
                      </a:lnTo>
                      <a:lnTo>
                        <a:pt x="86" y="578"/>
                      </a:lnTo>
                      <a:lnTo>
                        <a:pt x="86" y="578"/>
                      </a:lnTo>
                      <a:lnTo>
                        <a:pt x="54" y="600"/>
                      </a:lnTo>
                      <a:lnTo>
                        <a:pt x="24" y="626"/>
                      </a:lnTo>
                      <a:lnTo>
                        <a:pt x="22" y="628"/>
                      </a:lnTo>
                      <a:lnTo>
                        <a:pt x="24" y="632"/>
                      </a:lnTo>
                      <a:lnTo>
                        <a:pt x="24" y="632"/>
                      </a:lnTo>
                      <a:lnTo>
                        <a:pt x="10" y="642"/>
                      </a:lnTo>
                      <a:lnTo>
                        <a:pt x="0" y="648"/>
                      </a:lnTo>
                      <a:lnTo>
                        <a:pt x="0" y="648"/>
                      </a:lnTo>
                      <a:lnTo>
                        <a:pt x="0" y="648"/>
                      </a:lnTo>
                      <a:lnTo>
                        <a:pt x="0" y="648"/>
                      </a:lnTo>
                      <a:lnTo>
                        <a:pt x="2" y="650"/>
                      </a:lnTo>
                      <a:lnTo>
                        <a:pt x="4" y="654"/>
                      </a:lnTo>
                      <a:lnTo>
                        <a:pt x="4" y="654"/>
                      </a:lnTo>
                      <a:lnTo>
                        <a:pt x="4" y="654"/>
                      </a:lnTo>
                      <a:lnTo>
                        <a:pt x="4" y="654"/>
                      </a:lnTo>
                      <a:lnTo>
                        <a:pt x="14" y="650"/>
                      </a:lnTo>
                      <a:lnTo>
                        <a:pt x="14" y="650"/>
                      </a:lnTo>
                      <a:lnTo>
                        <a:pt x="30" y="642"/>
                      </a:lnTo>
                      <a:lnTo>
                        <a:pt x="32" y="646"/>
                      </a:lnTo>
                      <a:lnTo>
                        <a:pt x="36" y="646"/>
                      </a:lnTo>
                      <a:lnTo>
                        <a:pt x="36" y="646"/>
                      </a:lnTo>
                      <a:lnTo>
                        <a:pt x="74" y="632"/>
                      </a:lnTo>
                      <a:lnTo>
                        <a:pt x="110" y="616"/>
                      </a:lnTo>
                      <a:lnTo>
                        <a:pt x="94" y="678"/>
                      </a:lnTo>
                      <a:lnTo>
                        <a:pt x="104" y="680"/>
                      </a:lnTo>
                      <a:lnTo>
                        <a:pt x="124" y="606"/>
                      </a:lnTo>
                      <a:lnTo>
                        <a:pt x="124" y="606"/>
                      </a:lnTo>
                      <a:lnTo>
                        <a:pt x="148" y="592"/>
                      </a:lnTo>
                      <a:lnTo>
                        <a:pt x="148" y="592"/>
                      </a:lnTo>
                      <a:lnTo>
                        <a:pt x="176" y="586"/>
                      </a:lnTo>
                      <a:lnTo>
                        <a:pt x="148" y="696"/>
                      </a:lnTo>
                      <a:lnTo>
                        <a:pt x="160" y="698"/>
                      </a:lnTo>
                      <a:lnTo>
                        <a:pt x="194" y="582"/>
                      </a:lnTo>
                      <a:lnTo>
                        <a:pt x="194" y="582"/>
                      </a:lnTo>
                      <a:lnTo>
                        <a:pt x="212" y="580"/>
                      </a:lnTo>
                      <a:lnTo>
                        <a:pt x="228" y="578"/>
                      </a:lnTo>
                      <a:lnTo>
                        <a:pt x="228" y="578"/>
                      </a:lnTo>
                      <a:lnTo>
                        <a:pt x="246" y="580"/>
                      </a:lnTo>
                      <a:lnTo>
                        <a:pt x="262" y="584"/>
                      </a:lnTo>
                      <a:lnTo>
                        <a:pt x="262" y="584"/>
                      </a:lnTo>
                      <a:lnTo>
                        <a:pt x="228" y="600"/>
                      </a:lnTo>
                      <a:lnTo>
                        <a:pt x="212" y="610"/>
                      </a:lnTo>
                      <a:lnTo>
                        <a:pt x="206" y="616"/>
                      </a:lnTo>
                      <a:lnTo>
                        <a:pt x="206" y="618"/>
                      </a:lnTo>
                      <a:lnTo>
                        <a:pt x="206" y="622"/>
                      </a:lnTo>
                      <a:lnTo>
                        <a:pt x="210" y="622"/>
                      </a:lnTo>
                      <a:lnTo>
                        <a:pt x="210" y="622"/>
                      </a:lnTo>
                      <a:lnTo>
                        <a:pt x="218" y="620"/>
                      </a:lnTo>
                      <a:lnTo>
                        <a:pt x="256" y="604"/>
                      </a:lnTo>
                      <a:lnTo>
                        <a:pt x="256" y="604"/>
                      </a:lnTo>
                      <a:lnTo>
                        <a:pt x="268" y="600"/>
                      </a:lnTo>
                      <a:lnTo>
                        <a:pt x="278" y="600"/>
                      </a:lnTo>
                      <a:lnTo>
                        <a:pt x="278" y="600"/>
                      </a:lnTo>
                      <a:lnTo>
                        <a:pt x="282" y="600"/>
                      </a:lnTo>
                      <a:lnTo>
                        <a:pt x="282" y="600"/>
                      </a:lnTo>
                      <a:lnTo>
                        <a:pt x="288" y="610"/>
                      </a:lnTo>
                      <a:lnTo>
                        <a:pt x="292" y="624"/>
                      </a:lnTo>
                      <a:lnTo>
                        <a:pt x="292" y="624"/>
                      </a:lnTo>
                      <a:lnTo>
                        <a:pt x="298" y="670"/>
                      </a:lnTo>
                      <a:lnTo>
                        <a:pt x="302" y="676"/>
                      </a:lnTo>
                      <a:lnTo>
                        <a:pt x="304" y="676"/>
                      </a:lnTo>
                      <a:lnTo>
                        <a:pt x="306" y="676"/>
                      </a:lnTo>
                      <a:lnTo>
                        <a:pt x="308" y="674"/>
                      </a:lnTo>
                      <a:lnTo>
                        <a:pt x="308" y="674"/>
                      </a:lnTo>
                      <a:lnTo>
                        <a:pt x="308" y="672"/>
                      </a:lnTo>
                      <a:lnTo>
                        <a:pt x="308" y="664"/>
                      </a:lnTo>
                      <a:lnTo>
                        <a:pt x="308" y="610"/>
                      </a:lnTo>
                      <a:lnTo>
                        <a:pt x="308" y="610"/>
                      </a:lnTo>
                      <a:lnTo>
                        <a:pt x="318" y="620"/>
                      </a:lnTo>
                      <a:lnTo>
                        <a:pt x="328" y="634"/>
                      </a:lnTo>
                      <a:lnTo>
                        <a:pt x="336" y="652"/>
                      </a:lnTo>
                      <a:lnTo>
                        <a:pt x="344" y="670"/>
                      </a:lnTo>
                      <a:lnTo>
                        <a:pt x="262" y="756"/>
                      </a:lnTo>
                      <a:lnTo>
                        <a:pt x="270" y="764"/>
                      </a:lnTo>
                      <a:lnTo>
                        <a:pt x="350" y="688"/>
                      </a:lnTo>
                      <a:lnTo>
                        <a:pt x="350" y="688"/>
                      </a:lnTo>
                      <a:lnTo>
                        <a:pt x="358" y="720"/>
                      </a:lnTo>
                      <a:lnTo>
                        <a:pt x="358" y="720"/>
                      </a:lnTo>
                      <a:lnTo>
                        <a:pt x="358" y="742"/>
                      </a:lnTo>
                      <a:lnTo>
                        <a:pt x="306" y="796"/>
                      </a:lnTo>
                      <a:lnTo>
                        <a:pt x="312" y="802"/>
                      </a:lnTo>
                      <a:lnTo>
                        <a:pt x="358" y="758"/>
                      </a:lnTo>
                      <a:lnTo>
                        <a:pt x="358" y="758"/>
                      </a:lnTo>
                      <a:lnTo>
                        <a:pt x="362" y="798"/>
                      </a:lnTo>
                      <a:lnTo>
                        <a:pt x="368" y="836"/>
                      </a:lnTo>
                      <a:lnTo>
                        <a:pt x="368" y="840"/>
                      </a:lnTo>
                      <a:lnTo>
                        <a:pt x="372" y="840"/>
                      </a:lnTo>
                      <a:lnTo>
                        <a:pt x="374" y="840"/>
                      </a:lnTo>
                      <a:lnTo>
                        <a:pt x="374" y="840"/>
                      </a:lnTo>
                      <a:lnTo>
                        <a:pt x="374" y="858"/>
                      </a:lnTo>
                      <a:lnTo>
                        <a:pt x="374" y="868"/>
                      </a:lnTo>
                      <a:lnTo>
                        <a:pt x="374" y="868"/>
                      </a:lnTo>
                      <a:lnTo>
                        <a:pt x="374" y="868"/>
                      </a:lnTo>
                      <a:lnTo>
                        <a:pt x="378" y="868"/>
                      </a:lnTo>
                      <a:lnTo>
                        <a:pt x="382" y="868"/>
                      </a:lnTo>
                      <a:lnTo>
                        <a:pt x="382" y="868"/>
                      </a:lnTo>
                      <a:lnTo>
                        <a:pt x="382" y="868"/>
                      </a:lnTo>
                      <a:lnTo>
                        <a:pt x="382" y="858"/>
                      </a:lnTo>
                      <a:lnTo>
                        <a:pt x="382" y="858"/>
                      </a:lnTo>
                      <a:lnTo>
                        <a:pt x="384" y="840"/>
                      </a:lnTo>
                      <a:lnTo>
                        <a:pt x="386" y="840"/>
                      </a:lnTo>
                      <a:lnTo>
                        <a:pt x="390" y="840"/>
                      </a:lnTo>
                      <a:lnTo>
                        <a:pt x="392" y="836"/>
                      </a:lnTo>
                      <a:lnTo>
                        <a:pt x="392" y="836"/>
                      </a:lnTo>
                      <a:lnTo>
                        <a:pt x="398" y="798"/>
                      </a:lnTo>
                      <a:lnTo>
                        <a:pt x="400" y="758"/>
                      </a:lnTo>
                      <a:lnTo>
                        <a:pt x="448" y="802"/>
                      </a:lnTo>
                      <a:lnTo>
                        <a:pt x="454" y="796"/>
                      </a:lnTo>
                      <a:lnTo>
                        <a:pt x="402" y="740"/>
                      </a:lnTo>
                      <a:lnTo>
                        <a:pt x="402" y="740"/>
                      </a:lnTo>
                      <a:lnTo>
                        <a:pt x="402" y="712"/>
                      </a:lnTo>
                      <a:lnTo>
                        <a:pt x="402" y="712"/>
                      </a:lnTo>
                      <a:lnTo>
                        <a:pt x="408" y="684"/>
                      </a:lnTo>
                      <a:lnTo>
                        <a:pt x="490" y="764"/>
                      </a:lnTo>
                      <a:lnTo>
                        <a:pt x="498" y="756"/>
                      </a:lnTo>
                      <a:lnTo>
                        <a:pt x="414" y="668"/>
                      </a:lnTo>
                      <a:lnTo>
                        <a:pt x="414" y="668"/>
                      </a:lnTo>
                      <a:lnTo>
                        <a:pt x="422" y="650"/>
                      </a:lnTo>
                      <a:lnTo>
                        <a:pt x="430" y="634"/>
                      </a:lnTo>
                      <a:lnTo>
                        <a:pt x="438" y="620"/>
                      </a:lnTo>
                      <a:lnTo>
                        <a:pt x="450" y="610"/>
                      </a:lnTo>
                      <a:lnTo>
                        <a:pt x="450" y="610"/>
                      </a:lnTo>
                      <a:lnTo>
                        <a:pt x="448" y="664"/>
                      </a:lnTo>
                      <a:lnTo>
                        <a:pt x="448" y="672"/>
                      </a:lnTo>
                      <a:lnTo>
                        <a:pt x="450" y="674"/>
                      </a:lnTo>
                      <a:lnTo>
                        <a:pt x="450" y="676"/>
                      </a:lnTo>
                      <a:lnTo>
                        <a:pt x="452" y="676"/>
                      </a:lnTo>
                      <a:lnTo>
                        <a:pt x="452" y="676"/>
                      </a:lnTo>
                      <a:lnTo>
                        <a:pt x="456" y="676"/>
                      </a:lnTo>
                      <a:lnTo>
                        <a:pt x="458" y="670"/>
                      </a:lnTo>
                      <a:lnTo>
                        <a:pt x="466" y="624"/>
                      </a:lnTo>
                      <a:lnTo>
                        <a:pt x="466" y="624"/>
                      </a:lnTo>
                      <a:lnTo>
                        <a:pt x="468" y="610"/>
                      </a:lnTo>
                      <a:lnTo>
                        <a:pt x="474" y="600"/>
                      </a:lnTo>
                      <a:lnTo>
                        <a:pt x="474" y="600"/>
                      </a:lnTo>
                      <a:lnTo>
                        <a:pt x="478" y="600"/>
                      </a:lnTo>
                      <a:lnTo>
                        <a:pt x="478" y="600"/>
                      </a:lnTo>
                      <a:lnTo>
                        <a:pt x="488" y="600"/>
                      </a:lnTo>
                      <a:lnTo>
                        <a:pt x="500" y="604"/>
                      </a:lnTo>
                      <a:lnTo>
                        <a:pt x="500" y="604"/>
                      </a:lnTo>
                      <a:lnTo>
                        <a:pt x="538" y="620"/>
                      </a:lnTo>
                      <a:lnTo>
                        <a:pt x="548" y="622"/>
                      </a:lnTo>
                      <a:lnTo>
                        <a:pt x="550" y="622"/>
                      </a:lnTo>
                      <a:lnTo>
                        <a:pt x="552" y="618"/>
                      </a:lnTo>
                      <a:lnTo>
                        <a:pt x="552" y="618"/>
                      </a:lnTo>
                      <a:lnTo>
                        <a:pt x="552" y="616"/>
                      </a:lnTo>
                      <a:lnTo>
                        <a:pt x="546" y="610"/>
                      </a:lnTo>
                      <a:lnTo>
                        <a:pt x="528" y="600"/>
                      </a:lnTo>
                      <a:lnTo>
                        <a:pt x="496" y="584"/>
                      </a:lnTo>
                      <a:lnTo>
                        <a:pt x="496" y="584"/>
                      </a:lnTo>
                      <a:lnTo>
                        <a:pt x="510" y="580"/>
                      </a:lnTo>
                      <a:lnTo>
                        <a:pt x="528" y="578"/>
                      </a:lnTo>
                      <a:lnTo>
                        <a:pt x="528" y="578"/>
                      </a:lnTo>
                      <a:lnTo>
                        <a:pt x="546" y="580"/>
                      </a:lnTo>
                      <a:lnTo>
                        <a:pt x="566" y="582"/>
                      </a:lnTo>
                      <a:lnTo>
                        <a:pt x="600" y="696"/>
                      </a:lnTo>
                      <a:lnTo>
                        <a:pt x="610" y="692"/>
                      </a:lnTo>
                      <a:lnTo>
                        <a:pt x="584" y="586"/>
                      </a:lnTo>
                      <a:lnTo>
                        <a:pt x="584" y="586"/>
                      </a:lnTo>
                      <a:lnTo>
                        <a:pt x="616" y="594"/>
                      </a:lnTo>
                      <a:lnTo>
                        <a:pt x="616" y="594"/>
                      </a:lnTo>
                      <a:lnTo>
                        <a:pt x="634" y="606"/>
                      </a:lnTo>
                      <a:lnTo>
                        <a:pt x="656" y="678"/>
                      </a:lnTo>
                      <a:lnTo>
                        <a:pt x="666" y="676"/>
                      </a:lnTo>
                      <a:lnTo>
                        <a:pt x="650" y="614"/>
                      </a:lnTo>
                      <a:lnTo>
                        <a:pt x="650" y="614"/>
                      </a:lnTo>
                      <a:lnTo>
                        <a:pt x="684" y="630"/>
                      </a:lnTo>
                      <a:lnTo>
                        <a:pt x="722" y="644"/>
                      </a:lnTo>
                      <a:lnTo>
                        <a:pt x="724" y="646"/>
                      </a:lnTo>
                      <a:lnTo>
                        <a:pt x="726" y="642"/>
                      </a:lnTo>
                      <a:lnTo>
                        <a:pt x="726" y="642"/>
                      </a:lnTo>
                      <a:lnTo>
                        <a:pt x="728" y="642"/>
                      </a:lnTo>
                      <a:lnTo>
                        <a:pt x="728" y="642"/>
                      </a:lnTo>
                      <a:lnTo>
                        <a:pt x="744" y="650"/>
                      </a:lnTo>
                      <a:lnTo>
                        <a:pt x="752" y="654"/>
                      </a:lnTo>
                      <a:lnTo>
                        <a:pt x="752" y="654"/>
                      </a:lnTo>
                      <a:lnTo>
                        <a:pt x="752" y="654"/>
                      </a:lnTo>
                      <a:lnTo>
                        <a:pt x="752" y="654"/>
                      </a:lnTo>
                      <a:lnTo>
                        <a:pt x="754" y="650"/>
                      </a:lnTo>
                      <a:lnTo>
                        <a:pt x="756" y="648"/>
                      </a:lnTo>
                      <a:lnTo>
                        <a:pt x="756" y="648"/>
                      </a:lnTo>
                      <a:lnTo>
                        <a:pt x="756" y="648"/>
                      </a:lnTo>
                      <a:lnTo>
                        <a:pt x="756" y="648"/>
                      </a:lnTo>
                      <a:lnTo>
                        <a:pt x="748" y="642"/>
                      </a:lnTo>
                      <a:close/>
                      <a:moveTo>
                        <a:pt x="418" y="434"/>
                      </a:moveTo>
                      <a:lnTo>
                        <a:pt x="418" y="434"/>
                      </a:lnTo>
                      <a:lnTo>
                        <a:pt x="446" y="414"/>
                      </a:lnTo>
                      <a:lnTo>
                        <a:pt x="474" y="396"/>
                      </a:lnTo>
                      <a:lnTo>
                        <a:pt x="528" y="434"/>
                      </a:lnTo>
                      <a:lnTo>
                        <a:pt x="474" y="472"/>
                      </a:lnTo>
                      <a:lnTo>
                        <a:pt x="474" y="472"/>
                      </a:lnTo>
                      <a:lnTo>
                        <a:pt x="446" y="454"/>
                      </a:lnTo>
                      <a:lnTo>
                        <a:pt x="418" y="434"/>
                      </a:lnTo>
                      <a:lnTo>
                        <a:pt x="418" y="434"/>
                      </a:lnTo>
                      <a:close/>
                      <a:moveTo>
                        <a:pt x="398" y="400"/>
                      </a:moveTo>
                      <a:lnTo>
                        <a:pt x="398" y="400"/>
                      </a:lnTo>
                      <a:lnTo>
                        <a:pt x="394" y="366"/>
                      </a:lnTo>
                      <a:lnTo>
                        <a:pt x="392" y="332"/>
                      </a:lnTo>
                      <a:lnTo>
                        <a:pt x="454" y="304"/>
                      </a:lnTo>
                      <a:lnTo>
                        <a:pt x="460" y="370"/>
                      </a:lnTo>
                      <a:lnTo>
                        <a:pt x="460" y="370"/>
                      </a:lnTo>
                      <a:lnTo>
                        <a:pt x="430" y="386"/>
                      </a:lnTo>
                      <a:lnTo>
                        <a:pt x="398" y="400"/>
                      </a:lnTo>
                      <a:lnTo>
                        <a:pt x="398" y="400"/>
                      </a:lnTo>
                      <a:close/>
                      <a:moveTo>
                        <a:pt x="358" y="400"/>
                      </a:moveTo>
                      <a:lnTo>
                        <a:pt x="358" y="400"/>
                      </a:lnTo>
                      <a:lnTo>
                        <a:pt x="328" y="386"/>
                      </a:lnTo>
                      <a:lnTo>
                        <a:pt x="298" y="370"/>
                      </a:lnTo>
                      <a:lnTo>
                        <a:pt x="304" y="304"/>
                      </a:lnTo>
                      <a:lnTo>
                        <a:pt x="364" y="332"/>
                      </a:lnTo>
                      <a:lnTo>
                        <a:pt x="364" y="332"/>
                      </a:lnTo>
                      <a:lnTo>
                        <a:pt x="362" y="366"/>
                      </a:lnTo>
                      <a:lnTo>
                        <a:pt x="358" y="400"/>
                      </a:lnTo>
                      <a:lnTo>
                        <a:pt x="358" y="400"/>
                      </a:lnTo>
                      <a:close/>
                      <a:moveTo>
                        <a:pt x="338" y="434"/>
                      </a:moveTo>
                      <a:lnTo>
                        <a:pt x="338" y="434"/>
                      </a:lnTo>
                      <a:lnTo>
                        <a:pt x="312" y="454"/>
                      </a:lnTo>
                      <a:lnTo>
                        <a:pt x="284" y="472"/>
                      </a:lnTo>
                      <a:lnTo>
                        <a:pt x="228" y="434"/>
                      </a:lnTo>
                      <a:lnTo>
                        <a:pt x="284" y="396"/>
                      </a:lnTo>
                      <a:lnTo>
                        <a:pt x="284" y="396"/>
                      </a:lnTo>
                      <a:lnTo>
                        <a:pt x="312" y="414"/>
                      </a:lnTo>
                      <a:lnTo>
                        <a:pt x="338" y="434"/>
                      </a:lnTo>
                      <a:lnTo>
                        <a:pt x="338" y="434"/>
                      </a:lnTo>
                      <a:close/>
                      <a:moveTo>
                        <a:pt x="358" y="468"/>
                      </a:moveTo>
                      <a:lnTo>
                        <a:pt x="358" y="468"/>
                      </a:lnTo>
                      <a:lnTo>
                        <a:pt x="362" y="502"/>
                      </a:lnTo>
                      <a:lnTo>
                        <a:pt x="364" y="536"/>
                      </a:lnTo>
                      <a:lnTo>
                        <a:pt x="304" y="564"/>
                      </a:lnTo>
                      <a:lnTo>
                        <a:pt x="298" y="496"/>
                      </a:lnTo>
                      <a:lnTo>
                        <a:pt x="298" y="496"/>
                      </a:lnTo>
                      <a:lnTo>
                        <a:pt x="328" y="482"/>
                      </a:lnTo>
                      <a:lnTo>
                        <a:pt x="358" y="468"/>
                      </a:lnTo>
                      <a:lnTo>
                        <a:pt x="358" y="468"/>
                      </a:lnTo>
                      <a:close/>
                      <a:moveTo>
                        <a:pt x="398" y="468"/>
                      </a:moveTo>
                      <a:lnTo>
                        <a:pt x="398" y="468"/>
                      </a:lnTo>
                      <a:lnTo>
                        <a:pt x="430" y="482"/>
                      </a:lnTo>
                      <a:lnTo>
                        <a:pt x="460" y="498"/>
                      </a:lnTo>
                      <a:lnTo>
                        <a:pt x="454" y="564"/>
                      </a:lnTo>
                      <a:lnTo>
                        <a:pt x="392" y="536"/>
                      </a:lnTo>
                      <a:lnTo>
                        <a:pt x="392" y="536"/>
                      </a:lnTo>
                      <a:lnTo>
                        <a:pt x="394" y="502"/>
                      </a:lnTo>
                      <a:lnTo>
                        <a:pt x="398" y="468"/>
                      </a:lnTo>
                      <a:lnTo>
                        <a:pt x="398" y="468"/>
                      </a:lnTo>
                      <a:close/>
                    </a:path>
                  </a:pathLst>
                </a:custGeom>
                <a:solidFill>
                  <a:srgbClr val="feffff">
                    <a:alpha val="3000"/>
                  </a:srgbClr>
                </a:solidFill>
                <a:ln w="0">
                  <a:solidFill>
                    <a:srgbClr val="feffff">
                      <a:alpha val="5000"/>
                    </a:srgbClr>
                  </a:solidFill>
                </a:ln>
                <a:effectLst>
                  <a:glow rad="101520">
                    <a:srgbClr val="fefefe">
                      <a:alpha val="6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5" name="Freeform 29"/>
                <p:cNvSpPr/>
                <p:nvPr/>
              </p:nvSpPr>
              <p:spPr>
                <a:xfrm rot="18879600">
                  <a:off x="8304480" y="978120"/>
                  <a:ext cx="641880" cy="728640"/>
                </a:xfrm>
                <a:custGeom>
                  <a:avLst/>
                  <a:gdLst>
                    <a:gd name="textAreaLeft" fmla="*/ 0 w 641880"/>
                    <a:gd name="textAreaRight" fmla="*/ 642240 w 641880"/>
                    <a:gd name="textAreaTop" fmla="*/ 0 h 728640"/>
                    <a:gd name="textAreaBottom" fmla="*/ 729000 h 728640"/>
                  </a:gdLst>
                  <a:ahLst/>
                  <a:rect l="textAreaLeft" t="textAreaTop" r="textAreaRight" b="textAreaBottom"/>
                  <a:pathLst>
                    <a:path w="740" h="840">
                      <a:moveTo>
                        <a:pt x="738" y="614"/>
                      </a:moveTo>
                      <a:lnTo>
                        <a:pt x="738" y="614"/>
                      </a:lnTo>
                      <a:lnTo>
                        <a:pt x="706" y="588"/>
                      </a:lnTo>
                      <a:lnTo>
                        <a:pt x="672" y="564"/>
                      </a:lnTo>
                      <a:lnTo>
                        <a:pt x="738" y="546"/>
                      </a:lnTo>
                      <a:lnTo>
                        <a:pt x="734" y="536"/>
                      </a:lnTo>
                      <a:lnTo>
                        <a:pt x="658" y="556"/>
                      </a:lnTo>
                      <a:lnTo>
                        <a:pt x="658" y="556"/>
                      </a:lnTo>
                      <a:lnTo>
                        <a:pt x="628" y="538"/>
                      </a:lnTo>
                      <a:lnTo>
                        <a:pt x="598" y="524"/>
                      </a:lnTo>
                      <a:lnTo>
                        <a:pt x="726" y="488"/>
                      </a:lnTo>
                      <a:lnTo>
                        <a:pt x="722" y="476"/>
                      </a:lnTo>
                      <a:lnTo>
                        <a:pt x="576" y="512"/>
                      </a:lnTo>
                      <a:lnTo>
                        <a:pt x="576" y="512"/>
                      </a:lnTo>
                      <a:lnTo>
                        <a:pt x="564" y="506"/>
                      </a:lnTo>
                      <a:lnTo>
                        <a:pt x="564" y="506"/>
                      </a:lnTo>
                      <a:lnTo>
                        <a:pt x="556" y="502"/>
                      </a:lnTo>
                      <a:lnTo>
                        <a:pt x="556" y="502"/>
                      </a:lnTo>
                      <a:lnTo>
                        <a:pt x="532" y="480"/>
                      </a:lnTo>
                      <a:lnTo>
                        <a:pt x="510" y="458"/>
                      </a:lnTo>
                      <a:lnTo>
                        <a:pt x="492" y="438"/>
                      </a:lnTo>
                      <a:lnTo>
                        <a:pt x="486" y="426"/>
                      </a:lnTo>
                      <a:lnTo>
                        <a:pt x="482" y="418"/>
                      </a:lnTo>
                      <a:lnTo>
                        <a:pt x="482" y="418"/>
                      </a:lnTo>
                      <a:lnTo>
                        <a:pt x="486" y="406"/>
                      </a:lnTo>
                      <a:lnTo>
                        <a:pt x="492" y="396"/>
                      </a:lnTo>
                      <a:lnTo>
                        <a:pt x="510" y="374"/>
                      </a:lnTo>
                      <a:lnTo>
                        <a:pt x="532" y="352"/>
                      </a:lnTo>
                      <a:lnTo>
                        <a:pt x="558" y="330"/>
                      </a:lnTo>
                      <a:lnTo>
                        <a:pt x="558" y="330"/>
                      </a:lnTo>
                      <a:lnTo>
                        <a:pt x="564" y="326"/>
                      </a:lnTo>
                      <a:lnTo>
                        <a:pt x="564" y="326"/>
                      </a:lnTo>
                      <a:lnTo>
                        <a:pt x="578" y="320"/>
                      </a:lnTo>
                      <a:lnTo>
                        <a:pt x="720" y="354"/>
                      </a:lnTo>
                      <a:lnTo>
                        <a:pt x="724" y="344"/>
                      </a:lnTo>
                      <a:lnTo>
                        <a:pt x="600" y="308"/>
                      </a:lnTo>
                      <a:lnTo>
                        <a:pt x="600" y="308"/>
                      </a:lnTo>
                      <a:lnTo>
                        <a:pt x="658" y="276"/>
                      </a:lnTo>
                      <a:lnTo>
                        <a:pt x="734" y="294"/>
                      </a:lnTo>
                      <a:lnTo>
                        <a:pt x="736" y="286"/>
                      </a:lnTo>
                      <a:lnTo>
                        <a:pt x="672" y="266"/>
                      </a:lnTo>
                      <a:lnTo>
                        <a:pt x="672" y="266"/>
                      </a:lnTo>
                      <a:lnTo>
                        <a:pt x="706" y="244"/>
                      </a:lnTo>
                      <a:lnTo>
                        <a:pt x="738" y="218"/>
                      </a:lnTo>
                      <a:lnTo>
                        <a:pt x="740" y="216"/>
                      </a:lnTo>
                      <a:lnTo>
                        <a:pt x="728" y="196"/>
                      </a:lnTo>
                      <a:lnTo>
                        <a:pt x="726" y="198"/>
                      </a:lnTo>
                      <a:lnTo>
                        <a:pt x="726" y="198"/>
                      </a:lnTo>
                      <a:lnTo>
                        <a:pt x="686" y="212"/>
                      </a:lnTo>
                      <a:lnTo>
                        <a:pt x="650" y="230"/>
                      </a:lnTo>
                      <a:lnTo>
                        <a:pt x="666" y="164"/>
                      </a:lnTo>
                      <a:lnTo>
                        <a:pt x="656" y="162"/>
                      </a:lnTo>
                      <a:lnTo>
                        <a:pt x="634" y="238"/>
                      </a:lnTo>
                      <a:lnTo>
                        <a:pt x="634" y="238"/>
                      </a:lnTo>
                      <a:lnTo>
                        <a:pt x="606" y="256"/>
                      </a:lnTo>
                      <a:lnTo>
                        <a:pt x="578" y="272"/>
                      </a:lnTo>
                      <a:lnTo>
                        <a:pt x="608" y="146"/>
                      </a:lnTo>
                      <a:lnTo>
                        <a:pt x="598" y="142"/>
                      </a:lnTo>
                      <a:lnTo>
                        <a:pt x="556" y="288"/>
                      </a:lnTo>
                      <a:lnTo>
                        <a:pt x="556" y="288"/>
                      </a:lnTo>
                      <a:lnTo>
                        <a:pt x="546" y="294"/>
                      </a:lnTo>
                      <a:lnTo>
                        <a:pt x="546" y="294"/>
                      </a:lnTo>
                      <a:lnTo>
                        <a:pt x="538" y="298"/>
                      </a:lnTo>
                      <a:lnTo>
                        <a:pt x="538" y="298"/>
                      </a:lnTo>
                      <a:lnTo>
                        <a:pt x="512" y="308"/>
                      </a:lnTo>
                      <a:lnTo>
                        <a:pt x="486" y="314"/>
                      </a:lnTo>
                      <a:lnTo>
                        <a:pt x="462" y="318"/>
                      </a:lnTo>
                      <a:lnTo>
                        <a:pt x="442" y="320"/>
                      </a:lnTo>
                      <a:lnTo>
                        <a:pt x="442" y="320"/>
                      </a:lnTo>
                      <a:lnTo>
                        <a:pt x="442" y="320"/>
                      </a:lnTo>
                      <a:lnTo>
                        <a:pt x="442" y="320"/>
                      </a:lnTo>
                      <a:lnTo>
                        <a:pt x="426" y="320"/>
                      </a:lnTo>
                      <a:lnTo>
                        <a:pt x="426" y="320"/>
                      </a:lnTo>
                      <a:lnTo>
                        <a:pt x="420" y="310"/>
                      </a:lnTo>
                      <a:lnTo>
                        <a:pt x="414" y="300"/>
                      </a:lnTo>
                      <a:lnTo>
                        <a:pt x="404" y="274"/>
                      </a:lnTo>
                      <a:lnTo>
                        <a:pt x="396" y="244"/>
                      </a:lnTo>
                      <a:lnTo>
                        <a:pt x="388" y="210"/>
                      </a:lnTo>
                      <a:lnTo>
                        <a:pt x="388" y="210"/>
                      </a:lnTo>
                      <a:lnTo>
                        <a:pt x="390" y="204"/>
                      </a:lnTo>
                      <a:lnTo>
                        <a:pt x="390" y="204"/>
                      </a:lnTo>
                      <a:lnTo>
                        <a:pt x="390" y="190"/>
                      </a:lnTo>
                      <a:lnTo>
                        <a:pt x="492" y="84"/>
                      </a:lnTo>
                      <a:lnTo>
                        <a:pt x="484" y="76"/>
                      </a:lnTo>
                      <a:lnTo>
                        <a:pt x="392" y="164"/>
                      </a:lnTo>
                      <a:lnTo>
                        <a:pt x="392" y="164"/>
                      </a:lnTo>
                      <a:lnTo>
                        <a:pt x="392" y="98"/>
                      </a:lnTo>
                      <a:lnTo>
                        <a:pt x="446" y="42"/>
                      </a:lnTo>
                      <a:lnTo>
                        <a:pt x="440" y="36"/>
                      </a:lnTo>
                      <a:lnTo>
                        <a:pt x="392" y="80"/>
                      </a:lnTo>
                      <a:lnTo>
                        <a:pt x="392" y="80"/>
                      </a:lnTo>
                      <a:lnTo>
                        <a:pt x="388" y="40"/>
                      </a:lnTo>
                      <a:lnTo>
                        <a:pt x="382" y="2"/>
                      </a:lnTo>
                      <a:lnTo>
                        <a:pt x="382" y="0"/>
                      </a:lnTo>
                      <a:lnTo>
                        <a:pt x="378" y="0"/>
                      </a:lnTo>
                      <a:lnTo>
                        <a:pt x="362" y="0"/>
                      </a:lnTo>
                      <a:lnTo>
                        <a:pt x="358" y="0"/>
                      </a:lnTo>
                      <a:lnTo>
                        <a:pt x="358" y="2"/>
                      </a:lnTo>
                      <a:lnTo>
                        <a:pt x="358" y="2"/>
                      </a:lnTo>
                      <a:lnTo>
                        <a:pt x="350" y="42"/>
                      </a:lnTo>
                      <a:lnTo>
                        <a:pt x="348" y="82"/>
                      </a:lnTo>
                      <a:lnTo>
                        <a:pt x="300" y="36"/>
                      </a:lnTo>
                      <a:lnTo>
                        <a:pt x="292" y="42"/>
                      </a:lnTo>
                      <a:lnTo>
                        <a:pt x="348" y="100"/>
                      </a:lnTo>
                      <a:lnTo>
                        <a:pt x="348" y="100"/>
                      </a:lnTo>
                      <a:lnTo>
                        <a:pt x="348" y="134"/>
                      </a:lnTo>
                      <a:lnTo>
                        <a:pt x="350" y="166"/>
                      </a:lnTo>
                      <a:lnTo>
                        <a:pt x="254" y="76"/>
                      </a:lnTo>
                      <a:lnTo>
                        <a:pt x="246" y="84"/>
                      </a:lnTo>
                      <a:lnTo>
                        <a:pt x="350" y="192"/>
                      </a:lnTo>
                      <a:lnTo>
                        <a:pt x="350" y="192"/>
                      </a:lnTo>
                      <a:lnTo>
                        <a:pt x="352" y="204"/>
                      </a:lnTo>
                      <a:lnTo>
                        <a:pt x="352" y="204"/>
                      </a:lnTo>
                      <a:lnTo>
                        <a:pt x="352" y="214"/>
                      </a:lnTo>
                      <a:lnTo>
                        <a:pt x="352" y="214"/>
                      </a:lnTo>
                      <a:lnTo>
                        <a:pt x="346" y="246"/>
                      </a:lnTo>
                      <a:lnTo>
                        <a:pt x="338" y="276"/>
                      </a:lnTo>
                      <a:lnTo>
                        <a:pt x="328" y="302"/>
                      </a:lnTo>
                      <a:lnTo>
                        <a:pt x="322" y="312"/>
                      </a:lnTo>
                      <a:lnTo>
                        <a:pt x="316" y="320"/>
                      </a:lnTo>
                      <a:lnTo>
                        <a:pt x="316" y="320"/>
                      </a:lnTo>
                      <a:lnTo>
                        <a:pt x="300" y="322"/>
                      </a:lnTo>
                      <a:lnTo>
                        <a:pt x="300" y="322"/>
                      </a:lnTo>
                      <a:lnTo>
                        <a:pt x="278" y="320"/>
                      </a:lnTo>
                      <a:lnTo>
                        <a:pt x="254" y="316"/>
                      </a:lnTo>
                      <a:lnTo>
                        <a:pt x="228" y="308"/>
                      </a:lnTo>
                      <a:lnTo>
                        <a:pt x="200" y="298"/>
                      </a:lnTo>
                      <a:lnTo>
                        <a:pt x="200" y="298"/>
                      </a:lnTo>
                      <a:lnTo>
                        <a:pt x="196" y="294"/>
                      </a:lnTo>
                      <a:lnTo>
                        <a:pt x="196" y="294"/>
                      </a:lnTo>
                      <a:lnTo>
                        <a:pt x="184" y="286"/>
                      </a:lnTo>
                      <a:lnTo>
                        <a:pt x="142" y="146"/>
                      </a:lnTo>
                      <a:lnTo>
                        <a:pt x="130" y="148"/>
                      </a:lnTo>
                      <a:lnTo>
                        <a:pt x="162" y="272"/>
                      </a:lnTo>
                      <a:lnTo>
                        <a:pt x="162" y="272"/>
                      </a:lnTo>
                      <a:lnTo>
                        <a:pt x="106" y="240"/>
                      </a:lnTo>
                      <a:lnTo>
                        <a:pt x="84" y="164"/>
                      </a:lnTo>
                      <a:lnTo>
                        <a:pt x="74" y="166"/>
                      </a:lnTo>
                      <a:lnTo>
                        <a:pt x="90" y="230"/>
                      </a:lnTo>
                      <a:lnTo>
                        <a:pt x="90" y="230"/>
                      </a:lnTo>
                      <a:lnTo>
                        <a:pt x="54" y="214"/>
                      </a:lnTo>
                      <a:lnTo>
                        <a:pt x="16" y="198"/>
                      </a:lnTo>
                      <a:lnTo>
                        <a:pt x="12" y="198"/>
                      </a:lnTo>
                      <a:lnTo>
                        <a:pt x="10" y="200"/>
                      </a:lnTo>
                      <a:lnTo>
                        <a:pt x="2" y="214"/>
                      </a:lnTo>
                      <a:lnTo>
                        <a:pt x="2" y="214"/>
                      </a:lnTo>
                      <a:lnTo>
                        <a:pt x="0" y="218"/>
                      </a:lnTo>
                      <a:lnTo>
                        <a:pt x="4" y="220"/>
                      </a:lnTo>
                      <a:lnTo>
                        <a:pt x="4" y="220"/>
                      </a:lnTo>
                      <a:lnTo>
                        <a:pt x="36" y="246"/>
                      </a:lnTo>
                      <a:lnTo>
                        <a:pt x="70" y="270"/>
                      </a:lnTo>
                      <a:lnTo>
                        <a:pt x="4" y="288"/>
                      </a:lnTo>
                      <a:lnTo>
                        <a:pt x="6" y="298"/>
                      </a:lnTo>
                      <a:lnTo>
                        <a:pt x="84" y="278"/>
                      </a:lnTo>
                      <a:lnTo>
                        <a:pt x="84" y="278"/>
                      </a:lnTo>
                      <a:lnTo>
                        <a:pt x="114" y="296"/>
                      </a:lnTo>
                      <a:lnTo>
                        <a:pt x="142" y="310"/>
                      </a:lnTo>
                      <a:lnTo>
                        <a:pt x="16" y="346"/>
                      </a:lnTo>
                      <a:lnTo>
                        <a:pt x="20" y="358"/>
                      </a:lnTo>
                      <a:lnTo>
                        <a:pt x="166" y="322"/>
                      </a:lnTo>
                      <a:lnTo>
                        <a:pt x="166" y="322"/>
                      </a:lnTo>
                      <a:lnTo>
                        <a:pt x="178" y="328"/>
                      </a:lnTo>
                      <a:lnTo>
                        <a:pt x="178" y="328"/>
                      </a:lnTo>
                      <a:lnTo>
                        <a:pt x="186" y="332"/>
                      </a:lnTo>
                      <a:lnTo>
                        <a:pt x="186" y="332"/>
                      </a:lnTo>
                      <a:lnTo>
                        <a:pt x="210" y="354"/>
                      </a:lnTo>
                      <a:lnTo>
                        <a:pt x="232" y="376"/>
                      </a:lnTo>
                      <a:lnTo>
                        <a:pt x="250" y="396"/>
                      </a:lnTo>
                      <a:lnTo>
                        <a:pt x="256" y="408"/>
                      </a:lnTo>
                      <a:lnTo>
                        <a:pt x="260" y="418"/>
                      </a:lnTo>
                      <a:lnTo>
                        <a:pt x="260" y="418"/>
                      </a:lnTo>
                      <a:lnTo>
                        <a:pt x="256" y="428"/>
                      </a:lnTo>
                      <a:lnTo>
                        <a:pt x="248" y="438"/>
                      </a:lnTo>
                      <a:lnTo>
                        <a:pt x="232" y="460"/>
                      </a:lnTo>
                      <a:lnTo>
                        <a:pt x="208" y="482"/>
                      </a:lnTo>
                      <a:lnTo>
                        <a:pt x="184" y="504"/>
                      </a:lnTo>
                      <a:lnTo>
                        <a:pt x="184" y="504"/>
                      </a:lnTo>
                      <a:lnTo>
                        <a:pt x="178" y="508"/>
                      </a:lnTo>
                      <a:lnTo>
                        <a:pt x="178" y="508"/>
                      </a:lnTo>
                      <a:lnTo>
                        <a:pt x="164" y="514"/>
                      </a:lnTo>
                      <a:lnTo>
                        <a:pt x="22" y="480"/>
                      </a:lnTo>
                      <a:lnTo>
                        <a:pt x="18" y="490"/>
                      </a:lnTo>
                      <a:lnTo>
                        <a:pt x="142" y="526"/>
                      </a:lnTo>
                      <a:lnTo>
                        <a:pt x="142" y="526"/>
                      </a:lnTo>
                      <a:lnTo>
                        <a:pt x="84" y="558"/>
                      </a:lnTo>
                      <a:lnTo>
                        <a:pt x="8" y="540"/>
                      </a:lnTo>
                      <a:lnTo>
                        <a:pt x="6" y="548"/>
                      </a:lnTo>
                      <a:lnTo>
                        <a:pt x="68" y="568"/>
                      </a:lnTo>
                      <a:lnTo>
                        <a:pt x="68" y="568"/>
                      </a:lnTo>
                      <a:lnTo>
                        <a:pt x="36" y="590"/>
                      </a:lnTo>
                      <a:lnTo>
                        <a:pt x="4" y="616"/>
                      </a:lnTo>
                      <a:lnTo>
                        <a:pt x="2" y="618"/>
                      </a:lnTo>
                      <a:lnTo>
                        <a:pt x="14" y="638"/>
                      </a:lnTo>
                      <a:lnTo>
                        <a:pt x="16" y="636"/>
                      </a:lnTo>
                      <a:lnTo>
                        <a:pt x="16" y="636"/>
                      </a:lnTo>
                      <a:lnTo>
                        <a:pt x="56" y="622"/>
                      </a:lnTo>
                      <a:lnTo>
                        <a:pt x="92" y="604"/>
                      </a:lnTo>
                      <a:lnTo>
                        <a:pt x="76" y="670"/>
                      </a:lnTo>
                      <a:lnTo>
                        <a:pt x="86" y="672"/>
                      </a:lnTo>
                      <a:lnTo>
                        <a:pt x="108" y="596"/>
                      </a:lnTo>
                      <a:lnTo>
                        <a:pt x="108" y="596"/>
                      </a:lnTo>
                      <a:lnTo>
                        <a:pt x="136" y="578"/>
                      </a:lnTo>
                      <a:lnTo>
                        <a:pt x="164" y="562"/>
                      </a:lnTo>
                      <a:lnTo>
                        <a:pt x="132" y="688"/>
                      </a:lnTo>
                      <a:lnTo>
                        <a:pt x="144" y="692"/>
                      </a:lnTo>
                      <a:lnTo>
                        <a:pt x="186" y="546"/>
                      </a:lnTo>
                      <a:lnTo>
                        <a:pt x="186" y="546"/>
                      </a:lnTo>
                      <a:lnTo>
                        <a:pt x="196" y="540"/>
                      </a:lnTo>
                      <a:lnTo>
                        <a:pt x="196" y="540"/>
                      </a:lnTo>
                      <a:lnTo>
                        <a:pt x="204" y="534"/>
                      </a:lnTo>
                      <a:lnTo>
                        <a:pt x="204" y="534"/>
                      </a:lnTo>
                      <a:lnTo>
                        <a:pt x="230" y="526"/>
                      </a:lnTo>
                      <a:lnTo>
                        <a:pt x="256" y="518"/>
                      </a:lnTo>
                      <a:lnTo>
                        <a:pt x="280" y="514"/>
                      </a:lnTo>
                      <a:lnTo>
                        <a:pt x="300" y="512"/>
                      </a:lnTo>
                      <a:lnTo>
                        <a:pt x="300" y="512"/>
                      </a:lnTo>
                      <a:lnTo>
                        <a:pt x="316" y="514"/>
                      </a:lnTo>
                      <a:lnTo>
                        <a:pt x="316" y="514"/>
                      </a:lnTo>
                      <a:lnTo>
                        <a:pt x="322" y="522"/>
                      </a:lnTo>
                      <a:lnTo>
                        <a:pt x="328" y="534"/>
                      </a:lnTo>
                      <a:lnTo>
                        <a:pt x="338" y="560"/>
                      </a:lnTo>
                      <a:lnTo>
                        <a:pt x="346" y="590"/>
                      </a:lnTo>
                      <a:lnTo>
                        <a:pt x="352" y="624"/>
                      </a:lnTo>
                      <a:lnTo>
                        <a:pt x="352" y="624"/>
                      </a:lnTo>
                      <a:lnTo>
                        <a:pt x="352" y="630"/>
                      </a:lnTo>
                      <a:lnTo>
                        <a:pt x="352" y="630"/>
                      </a:lnTo>
                      <a:lnTo>
                        <a:pt x="352" y="644"/>
                      </a:lnTo>
                      <a:lnTo>
                        <a:pt x="250" y="750"/>
                      </a:lnTo>
                      <a:lnTo>
                        <a:pt x="258" y="760"/>
                      </a:lnTo>
                      <a:lnTo>
                        <a:pt x="350" y="670"/>
                      </a:lnTo>
                      <a:lnTo>
                        <a:pt x="350" y="670"/>
                      </a:lnTo>
                      <a:lnTo>
                        <a:pt x="350" y="736"/>
                      </a:lnTo>
                      <a:lnTo>
                        <a:pt x="296" y="792"/>
                      </a:lnTo>
                      <a:lnTo>
                        <a:pt x="302" y="800"/>
                      </a:lnTo>
                      <a:lnTo>
                        <a:pt x="350" y="754"/>
                      </a:lnTo>
                      <a:lnTo>
                        <a:pt x="350" y="754"/>
                      </a:lnTo>
                      <a:lnTo>
                        <a:pt x="352" y="794"/>
                      </a:lnTo>
                      <a:lnTo>
                        <a:pt x="360" y="836"/>
                      </a:lnTo>
                      <a:lnTo>
                        <a:pt x="360" y="840"/>
                      </a:lnTo>
                      <a:lnTo>
                        <a:pt x="364" y="840"/>
                      </a:lnTo>
                      <a:lnTo>
                        <a:pt x="364" y="840"/>
                      </a:lnTo>
                      <a:lnTo>
                        <a:pt x="368" y="840"/>
                      </a:lnTo>
                      <a:lnTo>
                        <a:pt x="384" y="840"/>
                      </a:lnTo>
                      <a:lnTo>
                        <a:pt x="384" y="836"/>
                      </a:lnTo>
                      <a:lnTo>
                        <a:pt x="384" y="836"/>
                      </a:lnTo>
                      <a:lnTo>
                        <a:pt x="390" y="794"/>
                      </a:lnTo>
                      <a:lnTo>
                        <a:pt x="394" y="752"/>
                      </a:lnTo>
                      <a:lnTo>
                        <a:pt x="442" y="800"/>
                      </a:lnTo>
                      <a:lnTo>
                        <a:pt x="450" y="792"/>
                      </a:lnTo>
                      <a:lnTo>
                        <a:pt x="394" y="734"/>
                      </a:lnTo>
                      <a:lnTo>
                        <a:pt x="394" y="734"/>
                      </a:lnTo>
                      <a:lnTo>
                        <a:pt x="394" y="700"/>
                      </a:lnTo>
                      <a:lnTo>
                        <a:pt x="392" y="668"/>
                      </a:lnTo>
                      <a:lnTo>
                        <a:pt x="486" y="760"/>
                      </a:lnTo>
                      <a:lnTo>
                        <a:pt x="496" y="750"/>
                      </a:lnTo>
                      <a:lnTo>
                        <a:pt x="390" y="642"/>
                      </a:lnTo>
                      <a:lnTo>
                        <a:pt x="390" y="642"/>
                      </a:lnTo>
                      <a:lnTo>
                        <a:pt x="390" y="630"/>
                      </a:lnTo>
                      <a:lnTo>
                        <a:pt x="390" y="630"/>
                      </a:lnTo>
                      <a:lnTo>
                        <a:pt x="390" y="620"/>
                      </a:lnTo>
                      <a:lnTo>
                        <a:pt x="390" y="620"/>
                      </a:lnTo>
                      <a:lnTo>
                        <a:pt x="396" y="588"/>
                      </a:lnTo>
                      <a:lnTo>
                        <a:pt x="404" y="558"/>
                      </a:lnTo>
                      <a:lnTo>
                        <a:pt x="414" y="532"/>
                      </a:lnTo>
                      <a:lnTo>
                        <a:pt x="420" y="522"/>
                      </a:lnTo>
                      <a:lnTo>
                        <a:pt x="426" y="514"/>
                      </a:lnTo>
                      <a:lnTo>
                        <a:pt x="426" y="514"/>
                      </a:lnTo>
                      <a:lnTo>
                        <a:pt x="442" y="512"/>
                      </a:lnTo>
                      <a:lnTo>
                        <a:pt x="442" y="512"/>
                      </a:lnTo>
                      <a:lnTo>
                        <a:pt x="464" y="514"/>
                      </a:lnTo>
                      <a:lnTo>
                        <a:pt x="488" y="518"/>
                      </a:lnTo>
                      <a:lnTo>
                        <a:pt x="514" y="526"/>
                      </a:lnTo>
                      <a:lnTo>
                        <a:pt x="540" y="536"/>
                      </a:lnTo>
                      <a:lnTo>
                        <a:pt x="540" y="536"/>
                      </a:lnTo>
                      <a:lnTo>
                        <a:pt x="546" y="540"/>
                      </a:lnTo>
                      <a:lnTo>
                        <a:pt x="546" y="540"/>
                      </a:lnTo>
                      <a:lnTo>
                        <a:pt x="558" y="548"/>
                      </a:lnTo>
                      <a:lnTo>
                        <a:pt x="600" y="688"/>
                      </a:lnTo>
                      <a:lnTo>
                        <a:pt x="610" y="686"/>
                      </a:lnTo>
                      <a:lnTo>
                        <a:pt x="580" y="562"/>
                      </a:lnTo>
                      <a:lnTo>
                        <a:pt x="580" y="562"/>
                      </a:lnTo>
                      <a:lnTo>
                        <a:pt x="636" y="596"/>
                      </a:lnTo>
                      <a:lnTo>
                        <a:pt x="658" y="670"/>
                      </a:lnTo>
                      <a:lnTo>
                        <a:pt x="668" y="668"/>
                      </a:lnTo>
                      <a:lnTo>
                        <a:pt x="652" y="604"/>
                      </a:lnTo>
                      <a:lnTo>
                        <a:pt x="652" y="604"/>
                      </a:lnTo>
                      <a:lnTo>
                        <a:pt x="688" y="620"/>
                      </a:lnTo>
                      <a:lnTo>
                        <a:pt x="726" y="636"/>
                      </a:lnTo>
                      <a:lnTo>
                        <a:pt x="730" y="636"/>
                      </a:lnTo>
                      <a:lnTo>
                        <a:pt x="740" y="616"/>
                      </a:lnTo>
                      <a:lnTo>
                        <a:pt x="738" y="614"/>
                      </a:lnTo>
                      <a:close/>
                    </a:path>
                  </a:pathLst>
                </a:custGeom>
                <a:solidFill>
                  <a:srgbClr val="feffff">
                    <a:alpha val="2000"/>
                  </a:srgbClr>
                </a:solidFill>
                <a:ln w="0">
                  <a:noFill/>
                </a:ln>
                <a:effectLst>
                  <a:glow rad="101520">
                    <a:srgbClr val="fefefe">
                      <a:alpha val="4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6" name="Freeform 33"/>
                <p:cNvSpPr/>
                <p:nvPr/>
              </p:nvSpPr>
              <p:spPr>
                <a:xfrm rot="21141600">
                  <a:off x="7350120" y="4152240"/>
                  <a:ext cx="911160" cy="1032840"/>
                </a:xfrm>
                <a:custGeom>
                  <a:avLst/>
                  <a:gdLst>
                    <a:gd name="textAreaLeft" fmla="*/ 0 w 911160"/>
                    <a:gd name="textAreaRight" fmla="*/ 911520 w 911160"/>
                    <a:gd name="textAreaTop" fmla="*/ 0 h 1032840"/>
                    <a:gd name="textAreaBottom" fmla="*/ 1033200 h 1032840"/>
                  </a:gdLst>
                  <a:ahLst/>
                  <a:rect l="textAreaLeft" t="textAreaTop" r="textAreaRight" b="textAreaBottom"/>
                  <a:pathLst>
                    <a:path w="660" h="748">
                      <a:moveTo>
                        <a:pt x="660" y="554"/>
                      </a:moveTo>
                      <a:lnTo>
                        <a:pt x="658" y="556"/>
                      </a:lnTo>
                      <a:lnTo>
                        <a:pt x="658" y="556"/>
                      </a:lnTo>
                      <a:lnTo>
                        <a:pt x="652" y="568"/>
                      </a:lnTo>
                      <a:lnTo>
                        <a:pt x="650" y="572"/>
                      </a:lnTo>
                      <a:lnTo>
                        <a:pt x="646" y="570"/>
                      </a:lnTo>
                      <a:lnTo>
                        <a:pt x="646" y="570"/>
                      </a:lnTo>
                      <a:lnTo>
                        <a:pt x="614" y="558"/>
                      </a:lnTo>
                      <a:lnTo>
                        <a:pt x="580" y="542"/>
                      </a:lnTo>
                      <a:lnTo>
                        <a:pt x="594" y="598"/>
                      </a:lnTo>
                      <a:lnTo>
                        <a:pt x="586" y="602"/>
                      </a:lnTo>
                      <a:lnTo>
                        <a:pt x="566" y="534"/>
                      </a:lnTo>
                      <a:lnTo>
                        <a:pt x="566" y="534"/>
                      </a:lnTo>
                      <a:lnTo>
                        <a:pt x="518" y="506"/>
                      </a:lnTo>
                      <a:lnTo>
                        <a:pt x="544" y="614"/>
                      </a:lnTo>
                      <a:lnTo>
                        <a:pt x="534" y="618"/>
                      </a:lnTo>
                      <a:lnTo>
                        <a:pt x="496" y="492"/>
                      </a:lnTo>
                      <a:lnTo>
                        <a:pt x="496" y="492"/>
                      </a:lnTo>
                      <a:lnTo>
                        <a:pt x="486" y="486"/>
                      </a:lnTo>
                      <a:lnTo>
                        <a:pt x="486" y="486"/>
                      </a:lnTo>
                      <a:lnTo>
                        <a:pt x="430" y="450"/>
                      </a:lnTo>
                      <a:lnTo>
                        <a:pt x="400" y="432"/>
                      </a:lnTo>
                      <a:lnTo>
                        <a:pt x="370" y="418"/>
                      </a:lnTo>
                      <a:lnTo>
                        <a:pt x="370" y="418"/>
                      </a:lnTo>
                      <a:lnTo>
                        <a:pt x="394" y="452"/>
                      </a:lnTo>
                      <a:lnTo>
                        <a:pt x="394" y="452"/>
                      </a:lnTo>
                      <a:lnTo>
                        <a:pt x="404" y="468"/>
                      </a:lnTo>
                      <a:lnTo>
                        <a:pt x="404" y="468"/>
                      </a:lnTo>
                      <a:lnTo>
                        <a:pt x="422" y="496"/>
                      </a:lnTo>
                      <a:lnTo>
                        <a:pt x="438" y="522"/>
                      </a:lnTo>
                      <a:lnTo>
                        <a:pt x="450" y="548"/>
                      </a:lnTo>
                      <a:lnTo>
                        <a:pt x="462" y="574"/>
                      </a:lnTo>
                      <a:lnTo>
                        <a:pt x="462" y="578"/>
                      </a:lnTo>
                      <a:lnTo>
                        <a:pt x="448" y="586"/>
                      </a:lnTo>
                      <a:lnTo>
                        <a:pt x="446" y="582"/>
                      </a:lnTo>
                      <a:lnTo>
                        <a:pt x="446" y="582"/>
                      </a:lnTo>
                      <a:lnTo>
                        <a:pt x="428" y="558"/>
                      </a:lnTo>
                      <a:lnTo>
                        <a:pt x="412" y="534"/>
                      </a:lnTo>
                      <a:lnTo>
                        <a:pt x="396" y="508"/>
                      </a:lnTo>
                      <a:lnTo>
                        <a:pt x="382" y="482"/>
                      </a:lnTo>
                      <a:lnTo>
                        <a:pt x="382" y="482"/>
                      </a:lnTo>
                      <a:lnTo>
                        <a:pt x="372" y="462"/>
                      </a:lnTo>
                      <a:lnTo>
                        <a:pt x="372" y="462"/>
                      </a:lnTo>
                      <a:lnTo>
                        <a:pt x="360" y="438"/>
                      </a:lnTo>
                      <a:lnTo>
                        <a:pt x="346" y="414"/>
                      </a:lnTo>
                      <a:lnTo>
                        <a:pt x="346" y="414"/>
                      </a:lnTo>
                      <a:lnTo>
                        <a:pt x="344" y="452"/>
                      </a:lnTo>
                      <a:lnTo>
                        <a:pt x="342" y="490"/>
                      </a:lnTo>
                      <a:lnTo>
                        <a:pt x="344" y="526"/>
                      </a:lnTo>
                      <a:lnTo>
                        <a:pt x="346" y="564"/>
                      </a:lnTo>
                      <a:lnTo>
                        <a:pt x="346" y="564"/>
                      </a:lnTo>
                      <a:lnTo>
                        <a:pt x="348" y="574"/>
                      </a:lnTo>
                      <a:lnTo>
                        <a:pt x="440" y="672"/>
                      </a:lnTo>
                      <a:lnTo>
                        <a:pt x="432" y="680"/>
                      </a:lnTo>
                      <a:lnTo>
                        <a:pt x="348" y="598"/>
                      </a:lnTo>
                      <a:lnTo>
                        <a:pt x="348" y="598"/>
                      </a:lnTo>
                      <a:lnTo>
                        <a:pt x="350" y="656"/>
                      </a:lnTo>
                      <a:lnTo>
                        <a:pt x="400" y="708"/>
                      </a:lnTo>
                      <a:lnTo>
                        <a:pt x="394" y="716"/>
                      </a:lnTo>
                      <a:lnTo>
                        <a:pt x="350" y="674"/>
                      </a:lnTo>
                      <a:lnTo>
                        <a:pt x="350" y="674"/>
                      </a:lnTo>
                      <a:lnTo>
                        <a:pt x="348" y="710"/>
                      </a:lnTo>
                      <a:lnTo>
                        <a:pt x="342" y="746"/>
                      </a:lnTo>
                      <a:lnTo>
                        <a:pt x="340" y="748"/>
                      </a:lnTo>
                      <a:lnTo>
                        <a:pt x="336" y="748"/>
                      </a:lnTo>
                      <a:lnTo>
                        <a:pt x="322" y="748"/>
                      </a:lnTo>
                      <a:lnTo>
                        <a:pt x="320" y="748"/>
                      </a:lnTo>
                      <a:lnTo>
                        <a:pt x="318" y="746"/>
                      </a:lnTo>
                      <a:lnTo>
                        <a:pt x="318" y="746"/>
                      </a:lnTo>
                      <a:lnTo>
                        <a:pt x="314" y="710"/>
                      </a:lnTo>
                      <a:lnTo>
                        <a:pt x="310" y="674"/>
                      </a:lnTo>
                      <a:lnTo>
                        <a:pt x="268" y="714"/>
                      </a:lnTo>
                      <a:lnTo>
                        <a:pt x="262" y="708"/>
                      </a:lnTo>
                      <a:lnTo>
                        <a:pt x="310" y="658"/>
                      </a:lnTo>
                      <a:lnTo>
                        <a:pt x="310" y="658"/>
                      </a:lnTo>
                      <a:lnTo>
                        <a:pt x="310" y="600"/>
                      </a:lnTo>
                      <a:lnTo>
                        <a:pt x="230" y="680"/>
                      </a:lnTo>
                      <a:lnTo>
                        <a:pt x="222" y="672"/>
                      </a:lnTo>
                      <a:lnTo>
                        <a:pt x="312" y="576"/>
                      </a:lnTo>
                      <a:lnTo>
                        <a:pt x="312" y="576"/>
                      </a:lnTo>
                      <a:lnTo>
                        <a:pt x="312" y="564"/>
                      </a:lnTo>
                      <a:lnTo>
                        <a:pt x="312" y="564"/>
                      </a:lnTo>
                      <a:lnTo>
                        <a:pt x="316" y="496"/>
                      </a:lnTo>
                      <a:lnTo>
                        <a:pt x="316" y="460"/>
                      </a:lnTo>
                      <a:lnTo>
                        <a:pt x="314" y="426"/>
                      </a:lnTo>
                      <a:lnTo>
                        <a:pt x="314" y="426"/>
                      </a:lnTo>
                      <a:lnTo>
                        <a:pt x="294" y="464"/>
                      </a:lnTo>
                      <a:lnTo>
                        <a:pt x="294" y="464"/>
                      </a:lnTo>
                      <a:lnTo>
                        <a:pt x="284" y="482"/>
                      </a:lnTo>
                      <a:lnTo>
                        <a:pt x="284" y="482"/>
                      </a:lnTo>
                      <a:lnTo>
                        <a:pt x="270" y="510"/>
                      </a:lnTo>
                      <a:lnTo>
                        <a:pt x="256" y="538"/>
                      </a:lnTo>
                      <a:lnTo>
                        <a:pt x="240" y="562"/>
                      </a:lnTo>
                      <a:lnTo>
                        <a:pt x="222" y="584"/>
                      </a:lnTo>
                      <a:lnTo>
                        <a:pt x="220" y="588"/>
                      </a:lnTo>
                      <a:lnTo>
                        <a:pt x="206" y="580"/>
                      </a:lnTo>
                      <a:lnTo>
                        <a:pt x="208" y="576"/>
                      </a:lnTo>
                      <a:lnTo>
                        <a:pt x="208" y="576"/>
                      </a:lnTo>
                      <a:lnTo>
                        <a:pt x="220" y="548"/>
                      </a:lnTo>
                      <a:lnTo>
                        <a:pt x="232" y="520"/>
                      </a:lnTo>
                      <a:lnTo>
                        <a:pt x="248" y="494"/>
                      </a:lnTo>
                      <a:lnTo>
                        <a:pt x="262" y="470"/>
                      </a:lnTo>
                      <a:lnTo>
                        <a:pt x="262" y="470"/>
                      </a:lnTo>
                      <a:lnTo>
                        <a:pt x="276" y="450"/>
                      </a:lnTo>
                      <a:lnTo>
                        <a:pt x="276" y="450"/>
                      </a:lnTo>
                      <a:lnTo>
                        <a:pt x="288" y="430"/>
                      </a:lnTo>
                      <a:lnTo>
                        <a:pt x="300" y="410"/>
                      </a:lnTo>
                      <a:lnTo>
                        <a:pt x="300" y="410"/>
                      </a:lnTo>
                      <a:lnTo>
                        <a:pt x="268" y="426"/>
                      </a:lnTo>
                      <a:lnTo>
                        <a:pt x="236" y="444"/>
                      </a:lnTo>
                      <a:lnTo>
                        <a:pt x="174" y="482"/>
                      </a:lnTo>
                      <a:lnTo>
                        <a:pt x="174" y="482"/>
                      </a:lnTo>
                      <a:lnTo>
                        <a:pt x="166" y="488"/>
                      </a:lnTo>
                      <a:lnTo>
                        <a:pt x="128" y="618"/>
                      </a:lnTo>
                      <a:lnTo>
                        <a:pt x="118" y="614"/>
                      </a:lnTo>
                      <a:lnTo>
                        <a:pt x="146" y="502"/>
                      </a:lnTo>
                      <a:lnTo>
                        <a:pt x="146" y="502"/>
                      </a:lnTo>
                      <a:lnTo>
                        <a:pt x="96" y="532"/>
                      </a:lnTo>
                      <a:lnTo>
                        <a:pt x="76" y="602"/>
                      </a:lnTo>
                      <a:lnTo>
                        <a:pt x="66" y="598"/>
                      </a:lnTo>
                      <a:lnTo>
                        <a:pt x="82" y="540"/>
                      </a:lnTo>
                      <a:lnTo>
                        <a:pt x="82" y="540"/>
                      </a:lnTo>
                      <a:lnTo>
                        <a:pt x="48" y="556"/>
                      </a:lnTo>
                      <a:lnTo>
                        <a:pt x="14" y="568"/>
                      </a:lnTo>
                      <a:lnTo>
                        <a:pt x="12" y="570"/>
                      </a:lnTo>
                      <a:lnTo>
                        <a:pt x="10" y="566"/>
                      </a:lnTo>
                      <a:lnTo>
                        <a:pt x="10" y="566"/>
                      </a:lnTo>
                      <a:lnTo>
                        <a:pt x="6" y="562"/>
                      </a:lnTo>
                      <a:lnTo>
                        <a:pt x="0" y="552"/>
                      </a:lnTo>
                      <a:lnTo>
                        <a:pt x="4" y="550"/>
                      </a:lnTo>
                      <a:lnTo>
                        <a:pt x="4" y="550"/>
                      </a:lnTo>
                      <a:lnTo>
                        <a:pt x="30" y="526"/>
                      </a:lnTo>
                      <a:lnTo>
                        <a:pt x="60" y="506"/>
                      </a:lnTo>
                      <a:lnTo>
                        <a:pt x="4" y="490"/>
                      </a:lnTo>
                      <a:lnTo>
                        <a:pt x="8" y="482"/>
                      </a:lnTo>
                      <a:lnTo>
                        <a:pt x="74" y="498"/>
                      </a:lnTo>
                      <a:lnTo>
                        <a:pt x="74" y="498"/>
                      </a:lnTo>
                      <a:lnTo>
                        <a:pt x="124" y="470"/>
                      </a:lnTo>
                      <a:lnTo>
                        <a:pt x="16" y="438"/>
                      </a:lnTo>
                      <a:lnTo>
                        <a:pt x="18" y="428"/>
                      </a:lnTo>
                      <a:lnTo>
                        <a:pt x="146" y="460"/>
                      </a:lnTo>
                      <a:lnTo>
                        <a:pt x="146" y="460"/>
                      </a:lnTo>
                      <a:lnTo>
                        <a:pt x="158" y="454"/>
                      </a:lnTo>
                      <a:lnTo>
                        <a:pt x="158" y="454"/>
                      </a:lnTo>
                      <a:lnTo>
                        <a:pt x="220" y="420"/>
                      </a:lnTo>
                      <a:lnTo>
                        <a:pt x="250" y="402"/>
                      </a:lnTo>
                      <a:lnTo>
                        <a:pt x="280" y="382"/>
                      </a:lnTo>
                      <a:lnTo>
                        <a:pt x="280" y="382"/>
                      </a:lnTo>
                      <a:lnTo>
                        <a:pt x="278" y="382"/>
                      </a:lnTo>
                      <a:lnTo>
                        <a:pt x="278" y="382"/>
                      </a:lnTo>
                      <a:lnTo>
                        <a:pt x="256" y="382"/>
                      </a:lnTo>
                      <a:lnTo>
                        <a:pt x="234" y="384"/>
                      </a:lnTo>
                      <a:lnTo>
                        <a:pt x="234" y="384"/>
                      </a:lnTo>
                      <a:lnTo>
                        <a:pt x="214" y="386"/>
                      </a:lnTo>
                      <a:lnTo>
                        <a:pt x="214" y="386"/>
                      </a:lnTo>
                      <a:lnTo>
                        <a:pt x="182" y="388"/>
                      </a:lnTo>
                      <a:lnTo>
                        <a:pt x="152" y="388"/>
                      </a:lnTo>
                      <a:lnTo>
                        <a:pt x="122" y="386"/>
                      </a:lnTo>
                      <a:lnTo>
                        <a:pt x="94" y="382"/>
                      </a:lnTo>
                      <a:lnTo>
                        <a:pt x="90" y="382"/>
                      </a:lnTo>
                      <a:lnTo>
                        <a:pt x="90" y="366"/>
                      </a:lnTo>
                      <a:lnTo>
                        <a:pt x="94" y="366"/>
                      </a:lnTo>
                      <a:lnTo>
                        <a:pt x="94" y="366"/>
                      </a:lnTo>
                      <a:lnTo>
                        <a:pt x="124" y="362"/>
                      </a:lnTo>
                      <a:lnTo>
                        <a:pt x="154" y="360"/>
                      </a:lnTo>
                      <a:lnTo>
                        <a:pt x="184" y="360"/>
                      </a:lnTo>
                      <a:lnTo>
                        <a:pt x="212" y="360"/>
                      </a:lnTo>
                      <a:lnTo>
                        <a:pt x="212" y="360"/>
                      </a:lnTo>
                      <a:lnTo>
                        <a:pt x="236" y="362"/>
                      </a:lnTo>
                      <a:lnTo>
                        <a:pt x="236" y="362"/>
                      </a:lnTo>
                      <a:lnTo>
                        <a:pt x="274" y="364"/>
                      </a:lnTo>
                      <a:lnTo>
                        <a:pt x="274" y="364"/>
                      </a:lnTo>
                      <a:lnTo>
                        <a:pt x="282" y="362"/>
                      </a:lnTo>
                      <a:lnTo>
                        <a:pt x="282" y="362"/>
                      </a:lnTo>
                      <a:lnTo>
                        <a:pt x="252" y="342"/>
                      </a:lnTo>
                      <a:lnTo>
                        <a:pt x="222" y="326"/>
                      </a:lnTo>
                      <a:lnTo>
                        <a:pt x="158" y="294"/>
                      </a:lnTo>
                      <a:lnTo>
                        <a:pt x="158" y="294"/>
                      </a:lnTo>
                      <a:lnTo>
                        <a:pt x="150" y="288"/>
                      </a:lnTo>
                      <a:lnTo>
                        <a:pt x="18" y="320"/>
                      </a:lnTo>
                      <a:lnTo>
                        <a:pt x="16" y="310"/>
                      </a:lnTo>
                      <a:lnTo>
                        <a:pt x="128" y="278"/>
                      </a:lnTo>
                      <a:lnTo>
                        <a:pt x="128" y="278"/>
                      </a:lnTo>
                      <a:lnTo>
                        <a:pt x="76" y="250"/>
                      </a:lnTo>
                      <a:lnTo>
                        <a:pt x="8" y="268"/>
                      </a:lnTo>
                      <a:lnTo>
                        <a:pt x="4" y="258"/>
                      </a:lnTo>
                      <a:lnTo>
                        <a:pt x="62" y="242"/>
                      </a:lnTo>
                      <a:lnTo>
                        <a:pt x="62" y="242"/>
                      </a:lnTo>
                      <a:lnTo>
                        <a:pt x="32" y="220"/>
                      </a:lnTo>
                      <a:lnTo>
                        <a:pt x="4" y="198"/>
                      </a:lnTo>
                      <a:lnTo>
                        <a:pt x="2" y="196"/>
                      </a:lnTo>
                      <a:lnTo>
                        <a:pt x="4" y="192"/>
                      </a:lnTo>
                      <a:lnTo>
                        <a:pt x="4" y="192"/>
                      </a:lnTo>
                      <a:lnTo>
                        <a:pt x="8" y="182"/>
                      </a:lnTo>
                      <a:lnTo>
                        <a:pt x="12" y="178"/>
                      </a:lnTo>
                      <a:lnTo>
                        <a:pt x="16" y="178"/>
                      </a:lnTo>
                      <a:lnTo>
                        <a:pt x="16" y="178"/>
                      </a:lnTo>
                      <a:lnTo>
                        <a:pt x="48" y="190"/>
                      </a:lnTo>
                      <a:lnTo>
                        <a:pt x="80" y="206"/>
                      </a:lnTo>
                      <a:lnTo>
                        <a:pt x="66" y="150"/>
                      </a:lnTo>
                      <a:lnTo>
                        <a:pt x="76" y="148"/>
                      </a:lnTo>
                      <a:lnTo>
                        <a:pt x="96" y="214"/>
                      </a:lnTo>
                      <a:lnTo>
                        <a:pt x="96" y="214"/>
                      </a:lnTo>
                      <a:lnTo>
                        <a:pt x="144" y="244"/>
                      </a:lnTo>
                      <a:lnTo>
                        <a:pt x="118" y="134"/>
                      </a:lnTo>
                      <a:lnTo>
                        <a:pt x="128" y="130"/>
                      </a:lnTo>
                      <a:lnTo>
                        <a:pt x="164" y="256"/>
                      </a:lnTo>
                      <a:lnTo>
                        <a:pt x="164" y="256"/>
                      </a:lnTo>
                      <a:lnTo>
                        <a:pt x="176" y="264"/>
                      </a:lnTo>
                      <a:lnTo>
                        <a:pt x="176" y="264"/>
                      </a:lnTo>
                      <a:lnTo>
                        <a:pt x="236" y="302"/>
                      </a:lnTo>
                      <a:lnTo>
                        <a:pt x="268" y="320"/>
                      </a:lnTo>
                      <a:lnTo>
                        <a:pt x="300" y="334"/>
                      </a:lnTo>
                      <a:lnTo>
                        <a:pt x="300" y="334"/>
                      </a:lnTo>
                      <a:lnTo>
                        <a:pt x="286" y="314"/>
                      </a:lnTo>
                      <a:lnTo>
                        <a:pt x="272" y="292"/>
                      </a:lnTo>
                      <a:lnTo>
                        <a:pt x="272" y="292"/>
                      </a:lnTo>
                      <a:lnTo>
                        <a:pt x="260" y="276"/>
                      </a:lnTo>
                      <a:lnTo>
                        <a:pt x="260" y="276"/>
                      </a:lnTo>
                      <a:lnTo>
                        <a:pt x="244" y="248"/>
                      </a:lnTo>
                      <a:lnTo>
                        <a:pt x="228" y="222"/>
                      </a:lnTo>
                      <a:lnTo>
                        <a:pt x="214" y="196"/>
                      </a:lnTo>
                      <a:lnTo>
                        <a:pt x="204" y="170"/>
                      </a:lnTo>
                      <a:lnTo>
                        <a:pt x="202" y="168"/>
                      </a:lnTo>
                      <a:lnTo>
                        <a:pt x="216" y="158"/>
                      </a:lnTo>
                      <a:lnTo>
                        <a:pt x="218" y="162"/>
                      </a:lnTo>
                      <a:lnTo>
                        <a:pt x="218" y="162"/>
                      </a:lnTo>
                      <a:lnTo>
                        <a:pt x="238" y="186"/>
                      </a:lnTo>
                      <a:lnTo>
                        <a:pt x="254" y="210"/>
                      </a:lnTo>
                      <a:lnTo>
                        <a:pt x="270" y="236"/>
                      </a:lnTo>
                      <a:lnTo>
                        <a:pt x="282" y="262"/>
                      </a:lnTo>
                      <a:lnTo>
                        <a:pt x="282" y="262"/>
                      </a:lnTo>
                      <a:lnTo>
                        <a:pt x="294" y="282"/>
                      </a:lnTo>
                      <a:lnTo>
                        <a:pt x="294" y="282"/>
                      </a:lnTo>
                      <a:lnTo>
                        <a:pt x="304" y="304"/>
                      </a:lnTo>
                      <a:lnTo>
                        <a:pt x="316" y="326"/>
                      </a:lnTo>
                      <a:lnTo>
                        <a:pt x="316" y="326"/>
                      </a:lnTo>
                      <a:lnTo>
                        <a:pt x="318" y="290"/>
                      </a:lnTo>
                      <a:lnTo>
                        <a:pt x="318" y="254"/>
                      </a:lnTo>
                      <a:lnTo>
                        <a:pt x="316" y="184"/>
                      </a:lnTo>
                      <a:lnTo>
                        <a:pt x="316" y="184"/>
                      </a:lnTo>
                      <a:lnTo>
                        <a:pt x="314" y="174"/>
                      </a:lnTo>
                      <a:lnTo>
                        <a:pt x="222" y="76"/>
                      </a:lnTo>
                      <a:lnTo>
                        <a:pt x="230" y="70"/>
                      </a:lnTo>
                      <a:lnTo>
                        <a:pt x="312" y="150"/>
                      </a:lnTo>
                      <a:lnTo>
                        <a:pt x="312" y="150"/>
                      </a:lnTo>
                      <a:lnTo>
                        <a:pt x="312" y="92"/>
                      </a:lnTo>
                      <a:lnTo>
                        <a:pt x="262" y="40"/>
                      </a:lnTo>
                      <a:lnTo>
                        <a:pt x="268" y="34"/>
                      </a:lnTo>
                      <a:lnTo>
                        <a:pt x="312" y="74"/>
                      </a:lnTo>
                      <a:lnTo>
                        <a:pt x="312" y="74"/>
                      </a:lnTo>
                      <a:lnTo>
                        <a:pt x="314" y="38"/>
                      </a:lnTo>
                      <a:lnTo>
                        <a:pt x="320" y="2"/>
                      </a:lnTo>
                      <a:lnTo>
                        <a:pt x="322" y="0"/>
                      </a:lnTo>
                      <a:lnTo>
                        <a:pt x="324" y="0"/>
                      </a:lnTo>
                      <a:lnTo>
                        <a:pt x="340" y="0"/>
                      </a:lnTo>
                      <a:lnTo>
                        <a:pt x="342" y="0"/>
                      </a:lnTo>
                      <a:lnTo>
                        <a:pt x="342" y="2"/>
                      </a:lnTo>
                      <a:lnTo>
                        <a:pt x="342" y="2"/>
                      </a:lnTo>
                      <a:lnTo>
                        <a:pt x="348" y="38"/>
                      </a:lnTo>
                      <a:lnTo>
                        <a:pt x="352" y="74"/>
                      </a:lnTo>
                      <a:lnTo>
                        <a:pt x="394" y="34"/>
                      </a:lnTo>
                      <a:lnTo>
                        <a:pt x="400" y="40"/>
                      </a:lnTo>
                      <a:lnTo>
                        <a:pt x="352" y="90"/>
                      </a:lnTo>
                      <a:lnTo>
                        <a:pt x="352" y="90"/>
                      </a:lnTo>
                      <a:lnTo>
                        <a:pt x="352" y="148"/>
                      </a:lnTo>
                      <a:lnTo>
                        <a:pt x="432" y="70"/>
                      </a:lnTo>
                      <a:lnTo>
                        <a:pt x="440" y="76"/>
                      </a:lnTo>
                      <a:lnTo>
                        <a:pt x="350" y="172"/>
                      </a:lnTo>
                      <a:lnTo>
                        <a:pt x="350" y="172"/>
                      </a:lnTo>
                      <a:lnTo>
                        <a:pt x="350" y="184"/>
                      </a:lnTo>
                      <a:lnTo>
                        <a:pt x="350" y="184"/>
                      </a:lnTo>
                      <a:lnTo>
                        <a:pt x="346" y="254"/>
                      </a:lnTo>
                      <a:lnTo>
                        <a:pt x="346" y="288"/>
                      </a:lnTo>
                      <a:lnTo>
                        <a:pt x="348" y="324"/>
                      </a:lnTo>
                      <a:lnTo>
                        <a:pt x="348" y="324"/>
                      </a:lnTo>
                      <a:lnTo>
                        <a:pt x="360" y="302"/>
                      </a:lnTo>
                      <a:lnTo>
                        <a:pt x="372" y="280"/>
                      </a:lnTo>
                      <a:lnTo>
                        <a:pt x="372" y="280"/>
                      </a:lnTo>
                      <a:lnTo>
                        <a:pt x="380" y="262"/>
                      </a:lnTo>
                      <a:lnTo>
                        <a:pt x="380" y="262"/>
                      </a:lnTo>
                      <a:lnTo>
                        <a:pt x="394" y="234"/>
                      </a:lnTo>
                      <a:lnTo>
                        <a:pt x="410" y="206"/>
                      </a:lnTo>
                      <a:lnTo>
                        <a:pt x="426" y="182"/>
                      </a:lnTo>
                      <a:lnTo>
                        <a:pt x="444" y="160"/>
                      </a:lnTo>
                      <a:lnTo>
                        <a:pt x="446" y="156"/>
                      </a:lnTo>
                      <a:lnTo>
                        <a:pt x="460" y="164"/>
                      </a:lnTo>
                      <a:lnTo>
                        <a:pt x="458" y="168"/>
                      </a:lnTo>
                      <a:lnTo>
                        <a:pt x="458" y="168"/>
                      </a:lnTo>
                      <a:lnTo>
                        <a:pt x="446" y="196"/>
                      </a:lnTo>
                      <a:lnTo>
                        <a:pt x="432" y="224"/>
                      </a:lnTo>
                      <a:lnTo>
                        <a:pt x="418" y="250"/>
                      </a:lnTo>
                      <a:lnTo>
                        <a:pt x="402" y="274"/>
                      </a:lnTo>
                      <a:lnTo>
                        <a:pt x="402" y="274"/>
                      </a:lnTo>
                      <a:lnTo>
                        <a:pt x="390" y="294"/>
                      </a:lnTo>
                      <a:lnTo>
                        <a:pt x="390" y="294"/>
                      </a:lnTo>
                      <a:lnTo>
                        <a:pt x="376" y="316"/>
                      </a:lnTo>
                      <a:lnTo>
                        <a:pt x="364" y="338"/>
                      </a:lnTo>
                      <a:lnTo>
                        <a:pt x="364" y="338"/>
                      </a:lnTo>
                      <a:lnTo>
                        <a:pt x="396" y="322"/>
                      </a:lnTo>
                      <a:lnTo>
                        <a:pt x="428" y="304"/>
                      </a:lnTo>
                      <a:lnTo>
                        <a:pt x="488" y="266"/>
                      </a:lnTo>
                      <a:lnTo>
                        <a:pt x="488" y="266"/>
                      </a:lnTo>
                      <a:lnTo>
                        <a:pt x="496" y="260"/>
                      </a:lnTo>
                      <a:lnTo>
                        <a:pt x="534" y="130"/>
                      </a:lnTo>
                      <a:lnTo>
                        <a:pt x="544" y="134"/>
                      </a:lnTo>
                      <a:lnTo>
                        <a:pt x="516" y="246"/>
                      </a:lnTo>
                      <a:lnTo>
                        <a:pt x="516" y="246"/>
                      </a:lnTo>
                      <a:lnTo>
                        <a:pt x="566" y="216"/>
                      </a:lnTo>
                      <a:lnTo>
                        <a:pt x="586" y="148"/>
                      </a:lnTo>
                      <a:lnTo>
                        <a:pt x="594" y="150"/>
                      </a:lnTo>
                      <a:lnTo>
                        <a:pt x="580" y="208"/>
                      </a:lnTo>
                      <a:lnTo>
                        <a:pt x="580" y="208"/>
                      </a:lnTo>
                      <a:lnTo>
                        <a:pt x="614" y="192"/>
                      </a:lnTo>
                      <a:lnTo>
                        <a:pt x="648" y="180"/>
                      </a:lnTo>
                      <a:lnTo>
                        <a:pt x="650" y="178"/>
                      </a:lnTo>
                      <a:lnTo>
                        <a:pt x="652" y="182"/>
                      </a:lnTo>
                      <a:lnTo>
                        <a:pt x="652" y="182"/>
                      </a:lnTo>
                      <a:lnTo>
                        <a:pt x="658" y="192"/>
                      </a:lnTo>
                      <a:lnTo>
                        <a:pt x="660" y="196"/>
                      </a:lnTo>
                      <a:lnTo>
                        <a:pt x="658" y="198"/>
                      </a:lnTo>
                      <a:lnTo>
                        <a:pt x="658" y="198"/>
                      </a:lnTo>
                      <a:lnTo>
                        <a:pt x="630" y="222"/>
                      </a:lnTo>
                      <a:lnTo>
                        <a:pt x="602" y="242"/>
                      </a:lnTo>
                      <a:lnTo>
                        <a:pt x="658" y="258"/>
                      </a:lnTo>
                      <a:lnTo>
                        <a:pt x="654" y="268"/>
                      </a:lnTo>
                      <a:lnTo>
                        <a:pt x="588" y="250"/>
                      </a:lnTo>
                      <a:lnTo>
                        <a:pt x="588" y="250"/>
                      </a:lnTo>
                      <a:lnTo>
                        <a:pt x="538" y="278"/>
                      </a:lnTo>
                      <a:lnTo>
                        <a:pt x="646" y="310"/>
                      </a:lnTo>
                      <a:lnTo>
                        <a:pt x="644" y="320"/>
                      </a:lnTo>
                      <a:lnTo>
                        <a:pt x="516" y="290"/>
                      </a:lnTo>
                      <a:lnTo>
                        <a:pt x="516" y="290"/>
                      </a:lnTo>
                      <a:lnTo>
                        <a:pt x="504" y="296"/>
                      </a:lnTo>
                      <a:lnTo>
                        <a:pt x="504" y="296"/>
                      </a:lnTo>
                      <a:lnTo>
                        <a:pt x="444" y="326"/>
                      </a:lnTo>
                      <a:lnTo>
                        <a:pt x="416" y="344"/>
                      </a:lnTo>
                      <a:lnTo>
                        <a:pt x="386" y="362"/>
                      </a:lnTo>
                      <a:lnTo>
                        <a:pt x="386" y="362"/>
                      </a:lnTo>
                      <a:lnTo>
                        <a:pt x="388" y="362"/>
                      </a:lnTo>
                      <a:lnTo>
                        <a:pt x="388" y="362"/>
                      </a:lnTo>
                      <a:lnTo>
                        <a:pt x="410" y="362"/>
                      </a:lnTo>
                      <a:lnTo>
                        <a:pt x="432" y="360"/>
                      </a:lnTo>
                      <a:lnTo>
                        <a:pt x="432" y="360"/>
                      </a:lnTo>
                      <a:lnTo>
                        <a:pt x="452" y="358"/>
                      </a:lnTo>
                      <a:lnTo>
                        <a:pt x="452" y="358"/>
                      </a:lnTo>
                      <a:lnTo>
                        <a:pt x="484" y="356"/>
                      </a:lnTo>
                      <a:lnTo>
                        <a:pt x="514" y="356"/>
                      </a:lnTo>
                      <a:lnTo>
                        <a:pt x="544" y="358"/>
                      </a:lnTo>
                      <a:lnTo>
                        <a:pt x="572" y="362"/>
                      </a:lnTo>
                      <a:lnTo>
                        <a:pt x="576" y="362"/>
                      </a:lnTo>
                      <a:lnTo>
                        <a:pt x="576" y="378"/>
                      </a:lnTo>
                      <a:lnTo>
                        <a:pt x="572" y="378"/>
                      </a:lnTo>
                      <a:lnTo>
                        <a:pt x="572" y="378"/>
                      </a:lnTo>
                      <a:lnTo>
                        <a:pt x="530" y="384"/>
                      </a:lnTo>
                      <a:lnTo>
                        <a:pt x="488" y="384"/>
                      </a:lnTo>
                      <a:lnTo>
                        <a:pt x="488" y="384"/>
                      </a:lnTo>
                      <a:lnTo>
                        <a:pt x="488" y="384"/>
                      </a:lnTo>
                      <a:lnTo>
                        <a:pt x="488" y="384"/>
                      </a:lnTo>
                      <a:lnTo>
                        <a:pt x="452" y="384"/>
                      </a:lnTo>
                      <a:lnTo>
                        <a:pt x="452" y="384"/>
                      </a:lnTo>
                      <a:lnTo>
                        <a:pt x="430" y="382"/>
                      </a:lnTo>
                      <a:lnTo>
                        <a:pt x="430" y="382"/>
                      </a:lnTo>
                      <a:lnTo>
                        <a:pt x="392" y="382"/>
                      </a:lnTo>
                      <a:lnTo>
                        <a:pt x="392" y="382"/>
                      </a:lnTo>
                      <a:lnTo>
                        <a:pt x="374" y="382"/>
                      </a:lnTo>
                      <a:lnTo>
                        <a:pt x="374" y="382"/>
                      </a:lnTo>
                      <a:lnTo>
                        <a:pt x="406" y="402"/>
                      </a:lnTo>
                      <a:lnTo>
                        <a:pt x="438" y="422"/>
                      </a:lnTo>
                      <a:lnTo>
                        <a:pt x="470" y="440"/>
                      </a:lnTo>
                      <a:lnTo>
                        <a:pt x="502" y="456"/>
                      </a:lnTo>
                      <a:lnTo>
                        <a:pt x="502" y="456"/>
                      </a:lnTo>
                      <a:lnTo>
                        <a:pt x="512" y="460"/>
                      </a:lnTo>
                      <a:lnTo>
                        <a:pt x="644" y="428"/>
                      </a:lnTo>
                      <a:lnTo>
                        <a:pt x="646" y="438"/>
                      </a:lnTo>
                      <a:lnTo>
                        <a:pt x="534" y="470"/>
                      </a:lnTo>
                      <a:lnTo>
                        <a:pt x="534" y="470"/>
                      </a:lnTo>
                      <a:lnTo>
                        <a:pt x="586" y="498"/>
                      </a:lnTo>
                      <a:lnTo>
                        <a:pt x="654" y="482"/>
                      </a:lnTo>
                      <a:lnTo>
                        <a:pt x="658" y="490"/>
                      </a:lnTo>
                      <a:lnTo>
                        <a:pt x="600" y="508"/>
                      </a:lnTo>
                      <a:lnTo>
                        <a:pt x="600" y="508"/>
                      </a:lnTo>
                      <a:lnTo>
                        <a:pt x="630" y="528"/>
                      </a:lnTo>
                      <a:lnTo>
                        <a:pt x="658" y="550"/>
                      </a:lnTo>
                      <a:lnTo>
                        <a:pt x="660" y="554"/>
                      </a:lnTo>
                      <a:close/>
                    </a:path>
                  </a:pathLst>
                </a:custGeom>
                <a:solidFill>
                  <a:srgbClr val="feffff">
                    <a:alpha val="2000"/>
                  </a:srgbClr>
                </a:solidFill>
                <a:ln w="0">
                  <a:solidFill>
                    <a:srgbClr val="feffff">
                      <a:alpha val="5000"/>
                    </a:srgbClr>
                  </a:solidFill>
                </a:ln>
                <a:effectLst>
                  <a:glow rad="101520">
                    <a:srgbClr val="fefefe">
                      <a:alpha val="7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7" name="Freeform 37"/>
                <p:cNvSpPr/>
                <p:nvPr/>
              </p:nvSpPr>
              <p:spPr>
                <a:xfrm rot="1068600">
                  <a:off x="7584120" y="5390280"/>
                  <a:ext cx="1184760" cy="1348920"/>
                </a:xfrm>
                <a:custGeom>
                  <a:avLst/>
                  <a:gdLst>
                    <a:gd name="textAreaLeft" fmla="*/ 0 w 1184760"/>
                    <a:gd name="textAreaRight" fmla="*/ 1185120 w 1184760"/>
                    <a:gd name="textAreaTop" fmla="*/ 0 h 1348920"/>
                    <a:gd name="textAreaBottom" fmla="*/ 1349280 h 1348920"/>
                  </a:gdLst>
                  <a:ahLst/>
                  <a:rect l="textAreaLeft" t="textAreaTop" r="textAreaRight" b="textAreaBottom"/>
                  <a:pathLst>
                    <a:path w="822" h="936">
                      <a:moveTo>
                        <a:pt x="822" y="688"/>
                      </a:moveTo>
                      <a:lnTo>
                        <a:pt x="740" y="638"/>
                      </a:lnTo>
                      <a:lnTo>
                        <a:pt x="814" y="618"/>
                      </a:lnTo>
                      <a:lnTo>
                        <a:pt x="810" y="600"/>
                      </a:lnTo>
                      <a:lnTo>
                        <a:pt x="714" y="624"/>
                      </a:lnTo>
                      <a:lnTo>
                        <a:pt x="688" y="606"/>
                      </a:lnTo>
                      <a:lnTo>
                        <a:pt x="790" y="578"/>
                      </a:lnTo>
                      <a:lnTo>
                        <a:pt x="784" y="560"/>
                      </a:lnTo>
                      <a:lnTo>
                        <a:pt x="660" y="590"/>
                      </a:lnTo>
                      <a:lnTo>
                        <a:pt x="518" y="504"/>
                      </a:lnTo>
                      <a:lnTo>
                        <a:pt x="646" y="468"/>
                      </a:lnTo>
                      <a:lnTo>
                        <a:pt x="684" y="478"/>
                      </a:lnTo>
                      <a:lnTo>
                        <a:pt x="686" y="472"/>
                      </a:lnTo>
                      <a:lnTo>
                        <a:pt x="656" y="464"/>
                      </a:lnTo>
                      <a:lnTo>
                        <a:pt x="686" y="456"/>
                      </a:lnTo>
                      <a:lnTo>
                        <a:pt x="684" y="452"/>
                      </a:lnTo>
                      <a:lnTo>
                        <a:pt x="646" y="462"/>
                      </a:lnTo>
                      <a:lnTo>
                        <a:pt x="518" y="426"/>
                      </a:lnTo>
                      <a:lnTo>
                        <a:pt x="662" y="338"/>
                      </a:lnTo>
                      <a:lnTo>
                        <a:pt x="782" y="366"/>
                      </a:lnTo>
                      <a:lnTo>
                        <a:pt x="788" y="348"/>
                      </a:lnTo>
                      <a:lnTo>
                        <a:pt x="690" y="320"/>
                      </a:lnTo>
                      <a:lnTo>
                        <a:pt x="718" y="304"/>
                      </a:lnTo>
                      <a:lnTo>
                        <a:pt x="808" y="326"/>
                      </a:lnTo>
                      <a:lnTo>
                        <a:pt x="812" y="310"/>
                      </a:lnTo>
                      <a:lnTo>
                        <a:pt x="742" y="290"/>
                      </a:lnTo>
                      <a:lnTo>
                        <a:pt x="822" y="242"/>
                      </a:lnTo>
                      <a:lnTo>
                        <a:pt x="810" y="220"/>
                      </a:lnTo>
                      <a:lnTo>
                        <a:pt x="726" y="266"/>
                      </a:lnTo>
                      <a:lnTo>
                        <a:pt x="744" y="192"/>
                      </a:lnTo>
                      <a:lnTo>
                        <a:pt x="728" y="186"/>
                      </a:lnTo>
                      <a:lnTo>
                        <a:pt x="700" y="280"/>
                      </a:lnTo>
                      <a:lnTo>
                        <a:pt x="672" y="296"/>
                      </a:lnTo>
                      <a:lnTo>
                        <a:pt x="698" y="194"/>
                      </a:lnTo>
                      <a:lnTo>
                        <a:pt x="680" y="188"/>
                      </a:lnTo>
                      <a:lnTo>
                        <a:pt x="644" y="312"/>
                      </a:lnTo>
                      <a:lnTo>
                        <a:pt x="498" y="392"/>
                      </a:lnTo>
                      <a:lnTo>
                        <a:pt x="530" y="262"/>
                      </a:lnTo>
                      <a:lnTo>
                        <a:pt x="558" y="234"/>
                      </a:lnTo>
                      <a:lnTo>
                        <a:pt x="554" y="232"/>
                      </a:lnTo>
                      <a:lnTo>
                        <a:pt x="534" y="252"/>
                      </a:lnTo>
                      <a:lnTo>
                        <a:pt x="540" y="222"/>
                      </a:lnTo>
                      <a:lnTo>
                        <a:pt x="536" y="222"/>
                      </a:lnTo>
                      <a:lnTo>
                        <a:pt x="526" y="260"/>
                      </a:lnTo>
                      <a:lnTo>
                        <a:pt x="430" y="352"/>
                      </a:lnTo>
                      <a:lnTo>
                        <a:pt x="426" y="182"/>
                      </a:lnTo>
                      <a:lnTo>
                        <a:pt x="512" y="94"/>
                      </a:lnTo>
                      <a:lnTo>
                        <a:pt x="498" y="80"/>
                      </a:lnTo>
                      <a:lnTo>
                        <a:pt x="426" y="150"/>
                      </a:lnTo>
                      <a:lnTo>
                        <a:pt x="426" y="118"/>
                      </a:lnTo>
                      <a:lnTo>
                        <a:pt x="490" y="52"/>
                      </a:lnTo>
                      <a:lnTo>
                        <a:pt x="476" y="38"/>
                      </a:lnTo>
                      <a:lnTo>
                        <a:pt x="424" y="90"/>
                      </a:lnTo>
                      <a:lnTo>
                        <a:pt x="422" y="0"/>
                      </a:lnTo>
                      <a:lnTo>
                        <a:pt x="398" y="0"/>
                      </a:lnTo>
                      <a:lnTo>
                        <a:pt x="396" y="94"/>
                      </a:lnTo>
                      <a:lnTo>
                        <a:pt x="340" y="40"/>
                      </a:lnTo>
                      <a:lnTo>
                        <a:pt x="328" y="52"/>
                      </a:lnTo>
                      <a:lnTo>
                        <a:pt x="396" y="122"/>
                      </a:lnTo>
                      <a:lnTo>
                        <a:pt x="396" y="154"/>
                      </a:lnTo>
                      <a:lnTo>
                        <a:pt x="318" y="80"/>
                      </a:lnTo>
                      <a:lnTo>
                        <a:pt x="306" y="94"/>
                      </a:lnTo>
                      <a:lnTo>
                        <a:pt x="394" y="186"/>
                      </a:lnTo>
                      <a:lnTo>
                        <a:pt x="392" y="352"/>
                      </a:lnTo>
                      <a:lnTo>
                        <a:pt x="296" y="260"/>
                      </a:lnTo>
                      <a:lnTo>
                        <a:pt x="284" y="222"/>
                      </a:lnTo>
                      <a:lnTo>
                        <a:pt x="280" y="222"/>
                      </a:lnTo>
                      <a:lnTo>
                        <a:pt x="288" y="252"/>
                      </a:lnTo>
                      <a:lnTo>
                        <a:pt x="266" y="232"/>
                      </a:lnTo>
                      <a:lnTo>
                        <a:pt x="262" y="234"/>
                      </a:lnTo>
                      <a:lnTo>
                        <a:pt x="290" y="262"/>
                      </a:lnTo>
                      <a:lnTo>
                        <a:pt x="322" y="392"/>
                      </a:lnTo>
                      <a:lnTo>
                        <a:pt x="174" y="310"/>
                      </a:lnTo>
                      <a:lnTo>
                        <a:pt x="140" y="192"/>
                      </a:lnTo>
                      <a:lnTo>
                        <a:pt x="122" y="196"/>
                      </a:lnTo>
                      <a:lnTo>
                        <a:pt x="146" y="294"/>
                      </a:lnTo>
                      <a:lnTo>
                        <a:pt x="118" y="280"/>
                      </a:lnTo>
                      <a:lnTo>
                        <a:pt x="92" y="190"/>
                      </a:lnTo>
                      <a:lnTo>
                        <a:pt x="74" y="194"/>
                      </a:lnTo>
                      <a:lnTo>
                        <a:pt x="92" y="264"/>
                      </a:lnTo>
                      <a:lnTo>
                        <a:pt x="12" y="220"/>
                      </a:lnTo>
                      <a:lnTo>
                        <a:pt x="0" y="242"/>
                      </a:lnTo>
                      <a:lnTo>
                        <a:pt x="82" y="290"/>
                      </a:lnTo>
                      <a:lnTo>
                        <a:pt x="6" y="312"/>
                      </a:lnTo>
                      <a:lnTo>
                        <a:pt x="12" y="330"/>
                      </a:lnTo>
                      <a:lnTo>
                        <a:pt x="106" y="306"/>
                      </a:lnTo>
                      <a:lnTo>
                        <a:pt x="134" y="322"/>
                      </a:lnTo>
                      <a:lnTo>
                        <a:pt x="32" y="352"/>
                      </a:lnTo>
                      <a:lnTo>
                        <a:pt x="36" y="370"/>
                      </a:lnTo>
                      <a:lnTo>
                        <a:pt x="162" y="340"/>
                      </a:lnTo>
                      <a:lnTo>
                        <a:pt x="304" y="424"/>
                      </a:lnTo>
                      <a:lnTo>
                        <a:pt x="176" y="462"/>
                      </a:lnTo>
                      <a:lnTo>
                        <a:pt x="138" y="452"/>
                      </a:lnTo>
                      <a:lnTo>
                        <a:pt x="136" y="456"/>
                      </a:lnTo>
                      <a:lnTo>
                        <a:pt x="164" y="464"/>
                      </a:lnTo>
                      <a:lnTo>
                        <a:pt x="136" y="472"/>
                      </a:lnTo>
                      <a:lnTo>
                        <a:pt x="138" y="478"/>
                      </a:lnTo>
                      <a:lnTo>
                        <a:pt x="176" y="468"/>
                      </a:lnTo>
                      <a:lnTo>
                        <a:pt x="302" y="504"/>
                      </a:lnTo>
                      <a:lnTo>
                        <a:pt x="158" y="592"/>
                      </a:lnTo>
                      <a:lnTo>
                        <a:pt x="38" y="562"/>
                      </a:lnTo>
                      <a:lnTo>
                        <a:pt x="34" y="580"/>
                      </a:lnTo>
                      <a:lnTo>
                        <a:pt x="130" y="608"/>
                      </a:lnTo>
                      <a:lnTo>
                        <a:pt x="104" y="626"/>
                      </a:lnTo>
                      <a:lnTo>
                        <a:pt x="14" y="604"/>
                      </a:lnTo>
                      <a:lnTo>
                        <a:pt x="8" y="620"/>
                      </a:lnTo>
                      <a:lnTo>
                        <a:pt x="78" y="640"/>
                      </a:lnTo>
                      <a:lnTo>
                        <a:pt x="0" y="688"/>
                      </a:lnTo>
                      <a:lnTo>
                        <a:pt x="12" y="710"/>
                      </a:lnTo>
                      <a:lnTo>
                        <a:pt x="96" y="664"/>
                      </a:lnTo>
                      <a:lnTo>
                        <a:pt x="76" y="738"/>
                      </a:lnTo>
                      <a:lnTo>
                        <a:pt x="94" y="744"/>
                      </a:lnTo>
                      <a:lnTo>
                        <a:pt x="122" y="648"/>
                      </a:lnTo>
                      <a:lnTo>
                        <a:pt x="150" y="634"/>
                      </a:lnTo>
                      <a:lnTo>
                        <a:pt x="124" y="736"/>
                      </a:lnTo>
                      <a:lnTo>
                        <a:pt x="142" y="742"/>
                      </a:lnTo>
                      <a:lnTo>
                        <a:pt x="178" y="618"/>
                      </a:lnTo>
                      <a:lnTo>
                        <a:pt x="322" y="538"/>
                      </a:lnTo>
                      <a:lnTo>
                        <a:pt x="290" y="666"/>
                      </a:lnTo>
                      <a:lnTo>
                        <a:pt x="262" y="696"/>
                      </a:lnTo>
                      <a:lnTo>
                        <a:pt x="266" y="698"/>
                      </a:lnTo>
                      <a:lnTo>
                        <a:pt x="288" y="678"/>
                      </a:lnTo>
                      <a:lnTo>
                        <a:pt x="280" y="706"/>
                      </a:lnTo>
                      <a:lnTo>
                        <a:pt x="284" y="708"/>
                      </a:lnTo>
                      <a:lnTo>
                        <a:pt x="296" y="670"/>
                      </a:lnTo>
                      <a:lnTo>
                        <a:pt x="390" y="578"/>
                      </a:lnTo>
                      <a:lnTo>
                        <a:pt x="394" y="746"/>
                      </a:lnTo>
                      <a:lnTo>
                        <a:pt x="310" y="836"/>
                      </a:lnTo>
                      <a:lnTo>
                        <a:pt x="322" y="850"/>
                      </a:lnTo>
                      <a:lnTo>
                        <a:pt x="396" y="780"/>
                      </a:lnTo>
                      <a:lnTo>
                        <a:pt x="396" y="812"/>
                      </a:lnTo>
                      <a:lnTo>
                        <a:pt x="332" y="878"/>
                      </a:lnTo>
                      <a:lnTo>
                        <a:pt x="344" y="890"/>
                      </a:lnTo>
                      <a:lnTo>
                        <a:pt x="396" y="842"/>
                      </a:lnTo>
                      <a:lnTo>
                        <a:pt x="398" y="936"/>
                      </a:lnTo>
                      <a:lnTo>
                        <a:pt x="422" y="936"/>
                      </a:lnTo>
                      <a:lnTo>
                        <a:pt x="424" y="838"/>
                      </a:lnTo>
                      <a:lnTo>
                        <a:pt x="480" y="892"/>
                      </a:lnTo>
                      <a:lnTo>
                        <a:pt x="494" y="878"/>
                      </a:lnTo>
                      <a:lnTo>
                        <a:pt x="426" y="808"/>
                      </a:lnTo>
                      <a:lnTo>
                        <a:pt x="426" y="776"/>
                      </a:lnTo>
                      <a:lnTo>
                        <a:pt x="502" y="850"/>
                      </a:lnTo>
                      <a:lnTo>
                        <a:pt x="516" y="836"/>
                      </a:lnTo>
                      <a:lnTo>
                        <a:pt x="426" y="742"/>
                      </a:lnTo>
                      <a:lnTo>
                        <a:pt x="430" y="578"/>
                      </a:lnTo>
                      <a:lnTo>
                        <a:pt x="526" y="670"/>
                      </a:lnTo>
                      <a:lnTo>
                        <a:pt x="536" y="708"/>
                      </a:lnTo>
                      <a:lnTo>
                        <a:pt x="540" y="706"/>
                      </a:lnTo>
                      <a:lnTo>
                        <a:pt x="534" y="678"/>
                      </a:lnTo>
                      <a:lnTo>
                        <a:pt x="554" y="698"/>
                      </a:lnTo>
                      <a:lnTo>
                        <a:pt x="558" y="696"/>
                      </a:lnTo>
                      <a:lnTo>
                        <a:pt x="530" y="666"/>
                      </a:lnTo>
                      <a:lnTo>
                        <a:pt x="498" y="538"/>
                      </a:lnTo>
                      <a:lnTo>
                        <a:pt x="646" y="620"/>
                      </a:lnTo>
                      <a:lnTo>
                        <a:pt x="682" y="738"/>
                      </a:lnTo>
                      <a:lnTo>
                        <a:pt x="700" y="734"/>
                      </a:lnTo>
                      <a:lnTo>
                        <a:pt x="674" y="636"/>
                      </a:lnTo>
                      <a:lnTo>
                        <a:pt x="704" y="650"/>
                      </a:lnTo>
                      <a:lnTo>
                        <a:pt x="730" y="740"/>
                      </a:lnTo>
                      <a:lnTo>
                        <a:pt x="746" y="736"/>
                      </a:lnTo>
                      <a:lnTo>
                        <a:pt x="728" y="664"/>
                      </a:lnTo>
                      <a:lnTo>
                        <a:pt x="810" y="710"/>
                      </a:lnTo>
                      <a:lnTo>
                        <a:pt x="822" y="688"/>
                      </a:lnTo>
                      <a:close/>
                      <a:moveTo>
                        <a:pt x="306" y="494"/>
                      </a:moveTo>
                      <a:lnTo>
                        <a:pt x="188" y="464"/>
                      </a:lnTo>
                      <a:lnTo>
                        <a:pt x="306" y="436"/>
                      </a:lnTo>
                      <a:lnTo>
                        <a:pt x="306" y="436"/>
                      </a:lnTo>
                      <a:lnTo>
                        <a:pt x="302" y="450"/>
                      </a:lnTo>
                      <a:lnTo>
                        <a:pt x="302" y="464"/>
                      </a:lnTo>
                      <a:lnTo>
                        <a:pt x="302" y="464"/>
                      </a:lnTo>
                      <a:lnTo>
                        <a:pt x="302" y="480"/>
                      </a:lnTo>
                      <a:lnTo>
                        <a:pt x="306" y="494"/>
                      </a:lnTo>
                      <a:lnTo>
                        <a:pt x="306" y="494"/>
                      </a:lnTo>
                      <a:close/>
                      <a:moveTo>
                        <a:pt x="522" y="272"/>
                      </a:moveTo>
                      <a:lnTo>
                        <a:pt x="488" y="388"/>
                      </a:lnTo>
                      <a:lnTo>
                        <a:pt x="488" y="388"/>
                      </a:lnTo>
                      <a:lnTo>
                        <a:pt x="478" y="378"/>
                      </a:lnTo>
                      <a:lnTo>
                        <a:pt x="466" y="370"/>
                      </a:lnTo>
                      <a:lnTo>
                        <a:pt x="452" y="364"/>
                      </a:lnTo>
                      <a:lnTo>
                        <a:pt x="438" y="360"/>
                      </a:lnTo>
                      <a:lnTo>
                        <a:pt x="522" y="272"/>
                      </a:lnTo>
                      <a:close/>
                      <a:moveTo>
                        <a:pt x="300" y="272"/>
                      </a:moveTo>
                      <a:lnTo>
                        <a:pt x="382" y="360"/>
                      </a:lnTo>
                      <a:lnTo>
                        <a:pt x="382" y="360"/>
                      </a:lnTo>
                      <a:lnTo>
                        <a:pt x="368" y="364"/>
                      </a:lnTo>
                      <a:lnTo>
                        <a:pt x="356" y="370"/>
                      </a:lnTo>
                      <a:lnTo>
                        <a:pt x="344" y="378"/>
                      </a:lnTo>
                      <a:lnTo>
                        <a:pt x="334" y="388"/>
                      </a:lnTo>
                      <a:lnTo>
                        <a:pt x="300" y="272"/>
                      </a:lnTo>
                      <a:close/>
                      <a:moveTo>
                        <a:pt x="300" y="656"/>
                      </a:moveTo>
                      <a:lnTo>
                        <a:pt x="334" y="542"/>
                      </a:lnTo>
                      <a:lnTo>
                        <a:pt x="334" y="542"/>
                      </a:lnTo>
                      <a:lnTo>
                        <a:pt x="344" y="552"/>
                      </a:lnTo>
                      <a:lnTo>
                        <a:pt x="356" y="560"/>
                      </a:lnTo>
                      <a:lnTo>
                        <a:pt x="368" y="566"/>
                      </a:lnTo>
                      <a:lnTo>
                        <a:pt x="382" y="570"/>
                      </a:lnTo>
                      <a:lnTo>
                        <a:pt x="300" y="656"/>
                      </a:lnTo>
                      <a:close/>
                      <a:moveTo>
                        <a:pt x="410" y="542"/>
                      </a:moveTo>
                      <a:lnTo>
                        <a:pt x="410" y="542"/>
                      </a:lnTo>
                      <a:lnTo>
                        <a:pt x="396" y="540"/>
                      </a:lnTo>
                      <a:lnTo>
                        <a:pt x="380" y="536"/>
                      </a:lnTo>
                      <a:lnTo>
                        <a:pt x="368" y="528"/>
                      </a:lnTo>
                      <a:lnTo>
                        <a:pt x="356" y="520"/>
                      </a:lnTo>
                      <a:lnTo>
                        <a:pt x="346" y="508"/>
                      </a:lnTo>
                      <a:lnTo>
                        <a:pt x="340" y="494"/>
                      </a:lnTo>
                      <a:lnTo>
                        <a:pt x="336" y="480"/>
                      </a:lnTo>
                      <a:lnTo>
                        <a:pt x="334" y="464"/>
                      </a:lnTo>
                      <a:lnTo>
                        <a:pt x="334" y="464"/>
                      </a:lnTo>
                      <a:lnTo>
                        <a:pt x="336" y="450"/>
                      </a:lnTo>
                      <a:lnTo>
                        <a:pt x="340" y="434"/>
                      </a:lnTo>
                      <a:lnTo>
                        <a:pt x="346" y="422"/>
                      </a:lnTo>
                      <a:lnTo>
                        <a:pt x="356" y="410"/>
                      </a:lnTo>
                      <a:lnTo>
                        <a:pt x="368" y="400"/>
                      </a:lnTo>
                      <a:lnTo>
                        <a:pt x="380" y="394"/>
                      </a:lnTo>
                      <a:lnTo>
                        <a:pt x="396" y="390"/>
                      </a:lnTo>
                      <a:lnTo>
                        <a:pt x="410" y="388"/>
                      </a:lnTo>
                      <a:lnTo>
                        <a:pt x="410" y="388"/>
                      </a:lnTo>
                      <a:lnTo>
                        <a:pt x="426" y="390"/>
                      </a:lnTo>
                      <a:lnTo>
                        <a:pt x="440" y="394"/>
                      </a:lnTo>
                      <a:lnTo>
                        <a:pt x="454" y="400"/>
                      </a:lnTo>
                      <a:lnTo>
                        <a:pt x="466" y="410"/>
                      </a:lnTo>
                      <a:lnTo>
                        <a:pt x="474" y="422"/>
                      </a:lnTo>
                      <a:lnTo>
                        <a:pt x="482" y="434"/>
                      </a:lnTo>
                      <a:lnTo>
                        <a:pt x="486" y="450"/>
                      </a:lnTo>
                      <a:lnTo>
                        <a:pt x="488" y="464"/>
                      </a:lnTo>
                      <a:lnTo>
                        <a:pt x="488" y="464"/>
                      </a:lnTo>
                      <a:lnTo>
                        <a:pt x="486" y="480"/>
                      </a:lnTo>
                      <a:lnTo>
                        <a:pt x="482" y="494"/>
                      </a:lnTo>
                      <a:lnTo>
                        <a:pt x="474" y="508"/>
                      </a:lnTo>
                      <a:lnTo>
                        <a:pt x="466" y="520"/>
                      </a:lnTo>
                      <a:lnTo>
                        <a:pt x="454" y="528"/>
                      </a:lnTo>
                      <a:lnTo>
                        <a:pt x="440" y="536"/>
                      </a:lnTo>
                      <a:lnTo>
                        <a:pt x="426" y="540"/>
                      </a:lnTo>
                      <a:lnTo>
                        <a:pt x="410" y="542"/>
                      </a:lnTo>
                      <a:lnTo>
                        <a:pt x="410" y="542"/>
                      </a:lnTo>
                      <a:close/>
                      <a:moveTo>
                        <a:pt x="522" y="656"/>
                      </a:moveTo>
                      <a:lnTo>
                        <a:pt x="438" y="570"/>
                      </a:lnTo>
                      <a:lnTo>
                        <a:pt x="438" y="570"/>
                      </a:lnTo>
                      <a:lnTo>
                        <a:pt x="452" y="566"/>
                      </a:lnTo>
                      <a:lnTo>
                        <a:pt x="466" y="560"/>
                      </a:lnTo>
                      <a:lnTo>
                        <a:pt x="478" y="552"/>
                      </a:lnTo>
                      <a:lnTo>
                        <a:pt x="488" y="542"/>
                      </a:lnTo>
                      <a:lnTo>
                        <a:pt x="522" y="656"/>
                      </a:lnTo>
                      <a:close/>
                      <a:moveTo>
                        <a:pt x="516" y="436"/>
                      </a:moveTo>
                      <a:lnTo>
                        <a:pt x="632" y="464"/>
                      </a:lnTo>
                      <a:lnTo>
                        <a:pt x="516" y="494"/>
                      </a:lnTo>
                      <a:lnTo>
                        <a:pt x="516" y="494"/>
                      </a:lnTo>
                      <a:lnTo>
                        <a:pt x="520" y="480"/>
                      </a:lnTo>
                      <a:lnTo>
                        <a:pt x="520" y="464"/>
                      </a:lnTo>
                      <a:lnTo>
                        <a:pt x="520" y="464"/>
                      </a:lnTo>
                      <a:lnTo>
                        <a:pt x="520" y="450"/>
                      </a:lnTo>
                      <a:lnTo>
                        <a:pt x="516" y="436"/>
                      </a:lnTo>
                      <a:lnTo>
                        <a:pt x="516" y="436"/>
                      </a:lnTo>
                      <a:close/>
                    </a:path>
                  </a:pathLst>
                </a:custGeom>
                <a:solidFill>
                  <a:srgbClr val="feffff">
                    <a:alpha val="2000"/>
                  </a:srgbClr>
                </a:solidFill>
                <a:ln w="0">
                  <a:noFill/>
                </a:ln>
                <a:effectLst>
                  <a:glow rad="101520">
                    <a:srgbClr val="fefefe">
                      <a:alpha val="8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8" name="Freeform 29"/>
                <p:cNvSpPr/>
                <p:nvPr/>
              </p:nvSpPr>
              <p:spPr>
                <a:xfrm rot="18879600">
                  <a:off x="6967440" y="1936440"/>
                  <a:ext cx="641880" cy="728640"/>
                </a:xfrm>
                <a:custGeom>
                  <a:avLst/>
                  <a:gdLst>
                    <a:gd name="textAreaLeft" fmla="*/ 0 w 641880"/>
                    <a:gd name="textAreaRight" fmla="*/ 642240 w 641880"/>
                    <a:gd name="textAreaTop" fmla="*/ 0 h 728640"/>
                    <a:gd name="textAreaBottom" fmla="*/ 729000 h 728640"/>
                  </a:gdLst>
                  <a:ahLst/>
                  <a:rect l="textAreaLeft" t="textAreaTop" r="textAreaRight" b="textAreaBottom"/>
                  <a:pathLst>
                    <a:path w="740" h="840">
                      <a:moveTo>
                        <a:pt x="738" y="614"/>
                      </a:moveTo>
                      <a:lnTo>
                        <a:pt x="738" y="614"/>
                      </a:lnTo>
                      <a:lnTo>
                        <a:pt x="706" y="588"/>
                      </a:lnTo>
                      <a:lnTo>
                        <a:pt x="672" y="564"/>
                      </a:lnTo>
                      <a:lnTo>
                        <a:pt x="738" y="546"/>
                      </a:lnTo>
                      <a:lnTo>
                        <a:pt x="734" y="536"/>
                      </a:lnTo>
                      <a:lnTo>
                        <a:pt x="658" y="556"/>
                      </a:lnTo>
                      <a:lnTo>
                        <a:pt x="658" y="556"/>
                      </a:lnTo>
                      <a:lnTo>
                        <a:pt x="628" y="538"/>
                      </a:lnTo>
                      <a:lnTo>
                        <a:pt x="598" y="524"/>
                      </a:lnTo>
                      <a:lnTo>
                        <a:pt x="726" y="488"/>
                      </a:lnTo>
                      <a:lnTo>
                        <a:pt x="722" y="476"/>
                      </a:lnTo>
                      <a:lnTo>
                        <a:pt x="576" y="512"/>
                      </a:lnTo>
                      <a:lnTo>
                        <a:pt x="576" y="512"/>
                      </a:lnTo>
                      <a:lnTo>
                        <a:pt x="564" y="506"/>
                      </a:lnTo>
                      <a:lnTo>
                        <a:pt x="564" y="506"/>
                      </a:lnTo>
                      <a:lnTo>
                        <a:pt x="556" y="502"/>
                      </a:lnTo>
                      <a:lnTo>
                        <a:pt x="556" y="502"/>
                      </a:lnTo>
                      <a:lnTo>
                        <a:pt x="532" y="480"/>
                      </a:lnTo>
                      <a:lnTo>
                        <a:pt x="510" y="458"/>
                      </a:lnTo>
                      <a:lnTo>
                        <a:pt x="492" y="438"/>
                      </a:lnTo>
                      <a:lnTo>
                        <a:pt x="486" y="426"/>
                      </a:lnTo>
                      <a:lnTo>
                        <a:pt x="482" y="418"/>
                      </a:lnTo>
                      <a:lnTo>
                        <a:pt x="482" y="418"/>
                      </a:lnTo>
                      <a:lnTo>
                        <a:pt x="486" y="406"/>
                      </a:lnTo>
                      <a:lnTo>
                        <a:pt x="492" y="396"/>
                      </a:lnTo>
                      <a:lnTo>
                        <a:pt x="510" y="374"/>
                      </a:lnTo>
                      <a:lnTo>
                        <a:pt x="532" y="352"/>
                      </a:lnTo>
                      <a:lnTo>
                        <a:pt x="558" y="330"/>
                      </a:lnTo>
                      <a:lnTo>
                        <a:pt x="558" y="330"/>
                      </a:lnTo>
                      <a:lnTo>
                        <a:pt x="564" y="326"/>
                      </a:lnTo>
                      <a:lnTo>
                        <a:pt x="564" y="326"/>
                      </a:lnTo>
                      <a:lnTo>
                        <a:pt x="578" y="320"/>
                      </a:lnTo>
                      <a:lnTo>
                        <a:pt x="720" y="354"/>
                      </a:lnTo>
                      <a:lnTo>
                        <a:pt x="724" y="344"/>
                      </a:lnTo>
                      <a:lnTo>
                        <a:pt x="600" y="308"/>
                      </a:lnTo>
                      <a:lnTo>
                        <a:pt x="600" y="308"/>
                      </a:lnTo>
                      <a:lnTo>
                        <a:pt x="658" y="276"/>
                      </a:lnTo>
                      <a:lnTo>
                        <a:pt x="734" y="294"/>
                      </a:lnTo>
                      <a:lnTo>
                        <a:pt x="736" y="286"/>
                      </a:lnTo>
                      <a:lnTo>
                        <a:pt x="672" y="266"/>
                      </a:lnTo>
                      <a:lnTo>
                        <a:pt x="672" y="266"/>
                      </a:lnTo>
                      <a:lnTo>
                        <a:pt x="706" y="244"/>
                      </a:lnTo>
                      <a:lnTo>
                        <a:pt x="738" y="218"/>
                      </a:lnTo>
                      <a:lnTo>
                        <a:pt x="740" y="216"/>
                      </a:lnTo>
                      <a:lnTo>
                        <a:pt x="728" y="196"/>
                      </a:lnTo>
                      <a:lnTo>
                        <a:pt x="726" y="198"/>
                      </a:lnTo>
                      <a:lnTo>
                        <a:pt x="726" y="198"/>
                      </a:lnTo>
                      <a:lnTo>
                        <a:pt x="686" y="212"/>
                      </a:lnTo>
                      <a:lnTo>
                        <a:pt x="650" y="230"/>
                      </a:lnTo>
                      <a:lnTo>
                        <a:pt x="666" y="164"/>
                      </a:lnTo>
                      <a:lnTo>
                        <a:pt x="656" y="162"/>
                      </a:lnTo>
                      <a:lnTo>
                        <a:pt x="634" y="238"/>
                      </a:lnTo>
                      <a:lnTo>
                        <a:pt x="634" y="238"/>
                      </a:lnTo>
                      <a:lnTo>
                        <a:pt x="606" y="256"/>
                      </a:lnTo>
                      <a:lnTo>
                        <a:pt x="578" y="272"/>
                      </a:lnTo>
                      <a:lnTo>
                        <a:pt x="608" y="146"/>
                      </a:lnTo>
                      <a:lnTo>
                        <a:pt x="598" y="142"/>
                      </a:lnTo>
                      <a:lnTo>
                        <a:pt x="556" y="288"/>
                      </a:lnTo>
                      <a:lnTo>
                        <a:pt x="556" y="288"/>
                      </a:lnTo>
                      <a:lnTo>
                        <a:pt x="546" y="294"/>
                      </a:lnTo>
                      <a:lnTo>
                        <a:pt x="546" y="294"/>
                      </a:lnTo>
                      <a:lnTo>
                        <a:pt x="538" y="298"/>
                      </a:lnTo>
                      <a:lnTo>
                        <a:pt x="538" y="298"/>
                      </a:lnTo>
                      <a:lnTo>
                        <a:pt x="512" y="308"/>
                      </a:lnTo>
                      <a:lnTo>
                        <a:pt x="486" y="314"/>
                      </a:lnTo>
                      <a:lnTo>
                        <a:pt x="462" y="318"/>
                      </a:lnTo>
                      <a:lnTo>
                        <a:pt x="442" y="320"/>
                      </a:lnTo>
                      <a:lnTo>
                        <a:pt x="442" y="320"/>
                      </a:lnTo>
                      <a:lnTo>
                        <a:pt x="442" y="320"/>
                      </a:lnTo>
                      <a:lnTo>
                        <a:pt x="442" y="320"/>
                      </a:lnTo>
                      <a:lnTo>
                        <a:pt x="426" y="320"/>
                      </a:lnTo>
                      <a:lnTo>
                        <a:pt x="426" y="320"/>
                      </a:lnTo>
                      <a:lnTo>
                        <a:pt x="420" y="310"/>
                      </a:lnTo>
                      <a:lnTo>
                        <a:pt x="414" y="300"/>
                      </a:lnTo>
                      <a:lnTo>
                        <a:pt x="404" y="274"/>
                      </a:lnTo>
                      <a:lnTo>
                        <a:pt x="396" y="244"/>
                      </a:lnTo>
                      <a:lnTo>
                        <a:pt x="388" y="210"/>
                      </a:lnTo>
                      <a:lnTo>
                        <a:pt x="388" y="210"/>
                      </a:lnTo>
                      <a:lnTo>
                        <a:pt x="390" y="204"/>
                      </a:lnTo>
                      <a:lnTo>
                        <a:pt x="390" y="204"/>
                      </a:lnTo>
                      <a:lnTo>
                        <a:pt x="390" y="190"/>
                      </a:lnTo>
                      <a:lnTo>
                        <a:pt x="492" y="84"/>
                      </a:lnTo>
                      <a:lnTo>
                        <a:pt x="484" y="76"/>
                      </a:lnTo>
                      <a:lnTo>
                        <a:pt x="392" y="164"/>
                      </a:lnTo>
                      <a:lnTo>
                        <a:pt x="392" y="164"/>
                      </a:lnTo>
                      <a:lnTo>
                        <a:pt x="392" y="98"/>
                      </a:lnTo>
                      <a:lnTo>
                        <a:pt x="446" y="42"/>
                      </a:lnTo>
                      <a:lnTo>
                        <a:pt x="440" y="36"/>
                      </a:lnTo>
                      <a:lnTo>
                        <a:pt x="392" y="80"/>
                      </a:lnTo>
                      <a:lnTo>
                        <a:pt x="392" y="80"/>
                      </a:lnTo>
                      <a:lnTo>
                        <a:pt x="388" y="40"/>
                      </a:lnTo>
                      <a:lnTo>
                        <a:pt x="382" y="2"/>
                      </a:lnTo>
                      <a:lnTo>
                        <a:pt x="382" y="0"/>
                      </a:lnTo>
                      <a:lnTo>
                        <a:pt x="378" y="0"/>
                      </a:lnTo>
                      <a:lnTo>
                        <a:pt x="362" y="0"/>
                      </a:lnTo>
                      <a:lnTo>
                        <a:pt x="358" y="0"/>
                      </a:lnTo>
                      <a:lnTo>
                        <a:pt x="358" y="2"/>
                      </a:lnTo>
                      <a:lnTo>
                        <a:pt x="358" y="2"/>
                      </a:lnTo>
                      <a:lnTo>
                        <a:pt x="350" y="42"/>
                      </a:lnTo>
                      <a:lnTo>
                        <a:pt x="348" y="82"/>
                      </a:lnTo>
                      <a:lnTo>
                        <a:pt x="300" y="36"/>
                      </a:lnTo>
                      <a:lnTo>
                        <a:pt x="292" y="42"/>
                      </a:lnTo>
                      <a:lnTo>
                        <a:pt x="348" y="100"/>
                      </a:lnTo>
                      <a:lnTo>
                        <a:pt x="348" y="100"/>
                      </a:lnTo>
                      <a:lnTo>
                        <a:pt x="348" y="134"/>
                      </a:lnTo>
                      <a:lnTo>
                        <a:pt x="350" y="166"/>
                      </a:lnTo>
                      <a:lnTo>
                        <a:pt x="254" y="76"/>
                      </a:lnTo>
                      <a:lnTo>
                        <a:pt x="246" y="84"/>
                      </a:lnTo>
                      <a:lnTo>
                        <a:pt x="350" y="192"/>
                      </a:lnTo>
                      <a:lnTo>
                        <a:pt x="350" y="192"/>
                      </a:lnTo>
                      <a:lnTo>
                        <a:pt x="352" y="204"/>
                      </a:lnTo>
                      <a:lnTo>
                        <a:pt x="352" y="204"/>
                      </a:lnTo>
                      <a:lnTo>
                        <a:pt x="352" y="214"/>
                      </a:lnTo>
                      <a:lnTo>
                        <a:pt x="352" y="214"/>
                      </a:lnTo>
                      <a:lnTo>
                        <a:pt x="346" y="246"/>
                      </a:lnTo>
                      <a:lnTo>
                        <a:pt x="338" y="276"/>
                      </a:lnTo>
                      <a:lnTo>
                        <a:pt x="328" y="302"/>
                      </a:lnTo>
                      <a:lnTo>
                        <a:pt x="322" y="312"/>
                      </a:lnTo>
                      <a:lnTo>
                        <a:pt x="316" y="320"/>
                      </a:lnTo>
                      <a:lnTo>
                        <a:pt x="316" y="320"/>
                      </a:lnTo>
                      <a:lnTo>
                        <a:pt x="300" y="322"/>
                      </a:lnTo>
                      <a:lnTo>
                        <a:pt x="300" y="322"/>
                      </a:lnTo>
                      <a:lnTo>
                        <a:pt x="278" y="320"/>
                      </a:lnTo>
                      <a:lnTo>
                        <a:pt x="254" y="316"/>
                      </a:lnTo>
                      <a:lnTo>
                        <a:pt x="228" y="308"/>
                      </a:lnTo>
                      <a:lnTo>
                        <a:pt x="200" y="298"/>
                      </a:lnTo>
                      <a:lnTo>
                        <a:pt x="200" y="298"/>
                      </a:lnTo>
                      <a:lnTo>
                        <a:pt x="196" y="294"/>
                      </a:lnTo>
                      <a:lnTo>
                        <a:pt x="196" y="294"/>
                      </a:lnTo>
                      <a:lnTo>
                        <a:pt x="184" y="286"/>
                      </a:lnTo>
                      <a:lnTo>
                        <a:pt x="142" y="146"/>
                      </a:lnTo>
                      <a:lnTo>
                        <a:pt x="130" y="148"/>
                      </a:lnTo>
                      <a:lnTo>
                        <a:pt x="162" y="272"/>
                      </a:lnTo>
                      <a:lnTo>
                        <a:pt x="162" y="272"/>
                      </a:lnTo>
                      <a:lnTo>
                        <a:pt x="106" y="240"/>
                      </a:lnTo>
                      <a:lnTo>
                        <a:pt x="84" y="164"/>
                      </a:lnTo>
                      <a:lnTo>
                        <a:pt x="74" y="166"/>
                      </a:lnTo>
                      <a:lnTo>
                        <a:pt x="90" y="230"/>
                      </a:lnTo>
                      <a:lnTo>
                        <a:pt x="90" y="230"/>
                      </a:lnTo>
                      <a:lnTo>
                        <a:pt x="54" y="214"/>
                      </a:lnTo>
                      <a:lnTo>
                        <a:pt x="16" y="198"/>
                      </a:lnTo>
                      <a:lnTo>
                        <a:pt x="12" y="198"/>
                      </a:lnTo>
                      <a:lnTo>
                        <a:pt x="10" y="200"/>
                      </a:lnTo>
                      <a:lnTo>
                        <a:pt x="2" y="214"/>
                      </a:lnTo>
                      <a:lnTo>
                        <a:pt x="2" y="214"/>
                      </a:lnTo>
                      <a:lnTo>
                        <a:pt x="0" y="218"/>
                      </a:lnTo>
                      <a:lnTo>
                        <a:pt x="4" y="220"/>
                      </a:lnTo>
                      <a:lnTo>
                        <a:pt x="4" y="220"/>
                      </a:lnTo>
                      <a:lnTo>
                        <a:pt x="36" y="246"/>
                      </a:lnTo>
                      <a:lnTo>
                        <a:pt x="70" y="270"/>
                      </a:lnTo>
                      <a:lnTo>
                        <a:pt x="4" y="288"/>
                      </a:lnTo>
                      <a:lnTo>
                        <a:pt x="6" y="298"/>
                      </a:lnTo>
                      <a:lnTo>
                        <a:pt x="84" y="278"/>
                      </a:lnTo>
                      <a:lnTo>
                        <a:pt x="84" y="278"/>
                      </a:lnTo>
                      <a:lnTo>
                        <a:pt x="114" y="296"/>
                      </a:lnTo>
                      <a:lnTo>
                        <a:pt x="142" y="310"/>
                      </a:lnTo>
                      <a:lnTo>
                        <a:pt x="16" y="346"/>
                      </a:lnTo>
                      <a:lnTo>
                        <a:pt x="20" y="358"/>
                      </a:lnTo>
                      <a:lnTo>
                        <a:pt x="166" y="322"/>
                      </a:lnTo>
                      <a:lnTo>
                        <a:pt x="166" y="322"/>
                      </a:lnTo>
                      <a:lnTo>
                        <a:pt x="178" y="328"/>
                      </a:lnTo>
                      <a:lnTo>
                        <a:pt x="178" y="328"/>
                      </a:lnTo>
                      <a:lnTo>
                        <a:pt x="186" y="332"/>
                      </a:lnTo>
                      <a:lnTo>
                        <a:pt x="186" y="332"/>
                      </a:lnTo>
                      <a:lnTo>
                        <a:pt x="210" y="354"/>
                      </a:lnTo>
                      <a:lnTo>
                        <a:pt x="232" y="376"/>
                      </a:lnTo>
                      <a:lnTo>
                        <a:pt x="250" y="396"/>
                      </a:lnTo>
                      <a:lnTo>
                        <a:pt x="256" y="408"/>
                      </a:lnTo>
                      <a:lnTo>
                        <a:pt x="260" y="418"/>
                      </a:lnTo>
                      <a:lnTo>
                        <a:pt x="260" y="418"/>
                      </a:lnTo>
                      <a:lnTo>
                        <a:pt x="256" y="428"/>
                      </a:lnTo>
                      <a:lnTo>
                        <a:pt x="248" y="438"/>
                      </a:lnTo>
                      <a:lnTo>
                        <a:pt x="232" y="460"/>
                      </a:lnTo>
                      <a:lnTo>
                        <a:pt x="208" y="482"/>
                      </a:lnTo>
                      <a:lnTo>
                        <a:pt x="184" y="504"/>
                      </a:lnTo>
                      <a:lnTo>
                        <a:pt x="184" y="504"/>
                      </a:lnTo>
                      <a:lnTo>
                        <a:pt x="178" y="508"/>
                      </a:lnTo>
                      <a:lnTo>
                        <a:pt x="178" y="508"/>
                      </a:lnTo>
                      <a:lnTo>
                        <a:pt x="164" y="514"/>
                      </a:lnTo>
                      <a:lnTo>
                        <a:pt x="22" y="480"/>
                      </a:lnTo>
                      <a:lnTo>
                        <a:pt x="18" y="490"/>
                      </a:lnTo>
                      <a:lnTo>
                        <a:pt x="142" y="526"/>
                      </a:lnTo>
                      <a:lnTo>
                        <a:pt x="142" y="526"/>
                      </a:lnTo>
                      <a:lnTo>
                        <a:pt x="84" y="558"/>
                      </a:lnTo>
                      <a:lnTo>
                        <a:pt x="8" y="540"/>
                      </a:lnTo>
                      <a:lnTo>
                        <a:pt x="6" y="548"/>
                      </a:lnTo>
                      <a:lnTo>
                        <a:pt x="68" y="568"/>
                      </a:lnTo>
                      <a:lnTo>
                        <a:pt x="68" y="568"/>
                      </a:lnTo>
                      <a:lnTo>
                        <a:pt x="36" y="590"/>
                      </a:lnTo>
                      <a:lnTo>
                        <a:pt x="4" y="616"/>
                      </a:lnTo>
                      <a:lnTo>
                        <a:pt x="2" y="618"/>
                      </a:lnTo>
                      <a:lnTo>
                        <a:pt x="14" y="638"/>
                      </a:lnTo>
                      <a:lnTo>
                        <a:pt x="16" y="636"/>
                      </a:lnTo>
                      <a:lnTo>
                        <a:pt x="16" y="636"/>
                      </a:lnTo>
                      <a:lnTo>
                        <a:pt x="56" y="622"/>
                      </a:lnTo>
                      <a:lnTo>
                        <a:pt x="92" y="604"/>
                      </a:lnTo>
                      <a:lnTo>
                        <a:pt x="76" y="670"/>
                      </a:lnTo>
                      <a:lnTo>
                        <a:pt x="86" y="672"/>
                      </a:lnTo>
                      <a:lnTo>
                        <a:pt x="108" y="596"/>
                      </a:lnTo>
                      <a:lnTo>
                        <a:pt x="108" y="596"/>
                      </a:lnTo>
                      <a:lnTo>
                        <a:pt x="136" y="578"/>
                      </a:lnTo>
                      <a:lnTo>
                        <a:pt x="164" y="562"/>
                      </a:lnTo>
                      <a:lnTo>
                        <a:pt x="132" y="688"/>
                      </a:lnTo>
                      <a:lnTo>
                        <a:pt x="144" y="692"/>
                      </a:lnTo>
                      <a:lnTo>
                        <a:pt x="186" y="546"/>
                      </a:lnTo>
                      <a:lnTo>
                        <a:pt x="186" y="546"/>
                      </a:lnTo>
                      <a:lnTo>
                        <a:pt x="196" y="540"/>
                      </a:lnTo>
                      <a:lnTo>
                        <a:pt x="196" y="540"/>
                      </a:lnTo>
                      <a:lnTo>
                        <a:pt x="204" y="534"/>
                      </a:lnTo>
                      <a:lnTo>
                        <a:pt x="204" y="534"/>
                      </a:lnTo>
                      <a:lnTo>
                        <a:pt x="230" y="526"/>
                      </a:lnTo>
                      <a:lnTo>
                        <a:pt x="256" y="518"/>
                      </a:lnTo>
                      <a:lnTo>
                        <a:pt x="280" y="514"/>
                      </a:lnTo>
                      <a:lnTo>
                        <a:pt x="300" y="512"/>
                      </a:lnTo>
                      <a:lnTo>
                        <a:pt x="300" y="512"/>
                      </a:lnTo>
                      <a:lnTo>
                        <a:pt x="316" y="514"/>
                      </a:lnTo>
                      <a:lnTo>
                        <a:pt x="316" y="514"/>
                      </a:lnTo>
                      <a:lnTo>
                        <a:pt x="322" y="522"/>
                      </a:lnTo>
                      <a:lnTo>
                        <a:pt x="328" y="534"/>
                      </a:lnTo>
                      <a:lnTo>
                        <a:pt x="338" y="560"/>
                      </a:lnTo>
                      <a:lnTo>
                        <a:pt x="346" y="590"/>
                      </a:lnTo>
                      <a:lnTo>
                        <a:pt x="352" y="624"/>
                      </a:lnTo>
                      <a:lnTo>
                        <a:pt x="352" y="624"/>
                      </a:lnTo>
                      <a:lnTo>
                        <a:pt x="352" y="630"/>
                      </a:lnTo>
                      <a:lnTo>
                        <a:pt x="352" y="630"/>
                      </a:lnTo>
                      <a:lnTo>
                        <a:pt x="352" y="644"/>
                      </a:lnTo>
                      <a:lnTo>
                        <a:pt x="250" y="750"/>
                      </a:lnTo>
                      <a:lnTo>
                        <a:pt x="258" y="760"/>
                      </a:lnTo>
                      <a:lnTo>
                        <a:pt x="350" y="670"/>
                      </a:lnTo>
                      <a:lnTo>
                        <a:pt x="350" y="670"/>
                      </a:lnTo>
                      <a:lnTo>
                        <a:pt x="350" y="736"/>
                      </a:lnTo>
                      <a:lnTo>
                        <a:pt x="296" y="792"/>
                      </a:lnTo>
                      <a:lnTo>
                        <a:pt x="302" y="800"/>
                      </a:lnTo>
                      <a:lnTo>
                        <a:pt x="350" y="754"/>
                      </a:lnTo>
                      <a:lnTo>
                        <a:pt x="350" y="754"/>
                      </a:lnTo>
                      <a:lnTo>
                        <a:pt x="352" y="794"/>
                      </a:lnTo>
                      <a:lnTo>
                        <a:pt x="360" y="836"/>
                      </a:lnTo>
                      <a:lnTo>
                        <a:pt x="360" y="840"/>
                      </a:lnTo>
                      <a:lnTo>
                        <a:pt x="364" y="840"/>
                      </a:lnTo>
                      <a:lnTo>
                        <a:pt x="364" y="840"/>
                      </a:lnTo>
                      <a:lnTo>
                        <a:pt x="368" y="840"/>
                      </a:lnTo>
                      <a:lnTo>
                        <a:pt x="384" y="840"/>
                      </a:lnTo>
                      <a:lnTo>
                        <a:pt x="384" y="836"/>
                      </a:lnTo>
                      <a:lnTo>
                        <a:pt x="384" y="836"/>
                      </a:lnTo>
                      <a:lnTo>
                        <a:pt x="390" y="794"/>
                      </a:lnTo>
                      <a:lnTo>
                        <a:pt x="394" y="752"/>
                      </a:lnTo>
                      <a:lnTo>
                        <a:pt x="442" y="800"/>
                      </a:lnTo>
                      <a:lnTo>
                        <a:pt x="450" y="792"/>
                      </a:lnTo>
                      <a:lnTo>
                        <a:pt x="394" y="734"/>
                      </a:lnTo>
                      <a:lnTo>
                        <a:pt x="394" y="734"/>
                      </a:lnTo>
                      <a:lnTo>
                        <a:pt x="394" y="700"/>
                      </a:lnTo>
                      <a:lnTo>
                        <a:pt x="392" y="668"/>
                      </a:lnTo>
                      <a:lnTo>
                        <a:pt x="486" y="760"/>
                      </a:lnTo>
                      <a:lnTo>
                        <a:pt x="496" y="750"/>
                      </a:lnTo>
                      <a:lnTo>
                        <a:pt x="390" y="642"/>
                      </a:lnTo>
                      <a:lnTo>
                        <a:pt x="390" y="642"/>
                      </a:lnTo>
                      <a:lnTo>
                        <a:pt x="390" y="630"/>
                      </a:lnTo>
                      <a:lnTo>
                        <a:pt x="390" y="630"/>
                      </a:lnTo>
                      <a:lnTo>
                        <a:pt x="390" y="620"/>
                      </a:lnTo>
                      <a:lnTo>
                        <a:pt x="390" y="620"/>
                      </a:lnTo>
                      <a:lnTo>
                        <a:pt x="396" y="588"/>
                      </a:lnTo>
                      <a:lnTo>
                        <a:pt x="404" y="558"/>
                      </a:lnTo>
                      <a:lnTo>
                        <a:pt x="414" y="532"/>
                      </a:lnTo>
                      <a:lnTo>
                        <a:pt x="420" y="522"/>
                      </a:lnTo>
                      <a:lnTo>
                        <a:pt x="426" y="514"/>
                      </a:lnTo>
                      <a:lnTo>
                        <a:pt x="426" y="514"/>
                      </a:lnTo>
                      <a:lnTo>
                        <a:pt x="442" y="512"/>
                      </a:lnTo>
                      <a:lnTo>
                        <a:pt x="442" y="512"/>
                      </a:lnTo>
                      <a:lnTo>
                        <a:pt x="464" y="514"/>
                      </a:lnTo>
                      <a:lnTo>
                        <a:pt x="488" y="518"/>
                      </a:lnTo>
                      <a:lnTo>
                        <a:pt x="514" y="526"/>
                      </a:lnTo>
                      <a:lnTo>
                        <a:pt x="540" y="536"/>
                      </a:lnTo>
                      <a:lnTo>
                        <a:pt x="540" y="536"/>
                      </a:lnTo>
                      <a:lnTo>
                        <a:pt x="546" y="540"/>
                      </a:lnTo>
                      <a:lnTo>
                        <a:pt x="546" y="540"/>
                      </a:lnTo>
                      <a:lnTo>
                        <a:pt x="558" y="548"/>
                      </a:lnTo>
                      <a:lnTo>
                        <a:pt x="600" y="688"/>
                      </a:lnTo>
                      <a:lnTo>
                        <a:pt x="610" y="686"/>
                      </a:lnTo>
                      <a:lnTo>
                        <a:pt x="580" y="562"/>
                      </a:lnTo>
                      <a:lnTo>
                        <a:pt x="580" y="562"/>
                      </a:lnTo>
                      <a:lnTo>
                        <a:pt x="636" y="596"/>
                      </a:lnTo>
                      <a:lnTo>
                        <a:pt x="658" y="670"/>
                      </a:lnTo>
                      <a:lnTo>
                        <a:pt x="668" y="668"/>
                      </a:lnTo>
                      <a:lnTo>
                        <a:pt x="652" y="604"/>
                      </a:lnTo>
                      <a:lnTo>
                        <a:pt x="652" y="604"/>
                      </a:lnTo>
                      <a:lnTo>
                        <a:pt x="688" y="620"/>
                      </a:lnTo>
                      <a:lnTo>
                        <a:pt x="726" y="636"/>
                      </a:lnTo>
                      <a:lnTo>
                        <a:pt x="730" y="636"/>
                      </a:lnTo>
                      <a:lnTo>
                        <a:pt x="740" y="616"/>
                      </a:lnTo>
                      <a:lnTo>
                        <a:pt x="738" y="614"/>
                      </a:lnTo>
                      <a:close/>
                    </a:path>
                  </a:pathLst>
                </a:custGeom>
                <a:solidFill>
                  <a:srgbClr val="feffff">
                    <a:alpha val="2000"/>
                  </a:srgbClr>
                </a:solidFill>
                <a:ln w="0">
                  <a:noFill/>
                </a:ln>
                <a:effectLst>
                  <a:glow rad="101520">
                    <a:srgbClr val="fefefe">
                      <a:alpha val="4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grpSp>
            <p:nvGrpSpPr>
              <p:cNvPr id="9" name="Group 50"/>
              <p:cNvGrpSpPr/>
              <p:nvPr/>
            </p:nvGrpSpPr>
            <p:grpSpPr>
              <a:xfrm>
                <a:off x="7484760" y="360"/>
                <a:ext cx="1742400" cy="5389560"/>
                <a:chOff x="7484760" y="360"/>
                <a:chExt cx="1742400" cy="5389560"/>
              </a:xfrm>
            </p:grpSpPr>
            <p:sp>
              <p:nvSpPr>
                <p:cNvPr id="10" name="Freeform 45"/>
                <p:cNvSpPr/>
                <p:nvPr/>
              </p:nvSpPr>
              <p:spPr>
                <a:xfrm rot="20600400">
                  <a:off x="7869960" y="4209120"/>
                  <a:ext cx="943200" cy="1068120"/>
                </a:xfrm>
                <a:custGeom>
                  <a:avLst/>
                  <a:gdLst>
                    <a:gd name="textAreaLeft" fmla="*/ 0 w 943200"/>
                    <a:gd name="textAreaRight" fmla="*/ 943560 w 943200"/>
                    <a:gd name="textAreaTop" fmla="*/ 0 h 1068120"/>
                    <a:gd name="textAreaBottom" fmla="*/ 1068480 h 1068120"/>
                  </a:gdLst>
                  <a:ahLst/>
                  <a:rect l="textAreaLeft" t="textAreaTop" r="textAreaRight" b="textAreaBottom"/>
                  <a:pathLst>
                    <a:path w="756" h="856">
                      <a:moveTo>
                        <a:pt x="716" y="480"/>
                      </a:moveTo>
                      <a:lnTo>
                        <a:pt x="714" y="468"/>
                      </a:lnTo>
                      <a:lnTo>
                        <a:pt x="554" y="508"/>
                      </a:lnTo>
                      <a:lnTo>
                        <a:pt x="478" y="460"/>
                      </a:lnTo>
                      <a:lnTo>
                        <a:pt x="478" y="460"/>
                      </a:lnTo>
                      <a:lnTo>
                        <a:pt x="482" y="444"/>
                      </a:lnTo>
                      <a:lnTo>
                        <a:pt x="482" y="430"/>
                      </a:lnTo>
                      <a:lnTo>
                        <a:pt x="482" y="430"/>
                      </a:lnTo>
                      <a:lnTo>
                        <a:pt x="482" y="416"/>
                      </a:lnTo>
                      <a:lnTo>
                        <a:pt x="480" y="404"/>
                      </a:lnTo>
                      <a:lnTo>
                        <a:pt x="558" y="352"/>
                      </a:lnTo>
                      <a:lnTo>
                        <a:pt x="714" y="390"/>
                      </a:lnTo>
                      <a:lnTo>
                        <a:pt x="716" y="380"/>
                      </a:lnTo>
                      <a:lnTo>
                        <a:pt x="580" y="340"/>
                      </a:lnTo>
                      <a:lnTo>
                        <a:pt x="754" y="228"/>
                      </a:lnTo>
                      <a:lnTo>
                        <a:pt x="756" y="226"/>
                      </a:lnTo>
                      <a:lnTo>
                        <a:pt x="754" y="222"/>
                      </a:lnTo>
                      <a:lnTo>
                        <a:pt x="754" y="222"/>
                      </a:lnTo>
                      <a:lnTo>
                        <a:pt x="750" y="214"/>
                      </a:lnTo>
                      <a:lnTo>
                        <a:pt x="744" y="204"/>
                      </a:lnTo>
                      <a:lnTo>
                        <a:pt x="556" y="304"/>
                      </a:lnTo>
                      <a:lnTo>
                        <a:pt x="590" y="160"/>
                      </a:lnTo>
                      <a:lnTo>
                        <a:pt x="580" y="158"/>
                      </a:lnTo>
                      <a:lnTo>
                        <a:pt x="534" y="316"/>
                      </a:lnTo>
                      <a:lnTo>
                        <a:pt x="454" y="358"/>
                      </a:lnTo>
                      <a:lnTo>
                        <a:pt x="454" y="358"/>
                      </a:lnTo>
                      <a:lnTo>
                        <a:pt x="444" y="348"/>
                      </a:lnTo>
                      <a:lnTo>
                        <a:pt x="432" y="342"/>
                      </a:lnTo>
                      <a:lnTo>
                        <a:pt x="420" y="336"/>
                      </a:lnTo>
                      <a:lnTo>
                        <a:pt x="406" y="330"/>
                      </a:lnTo>
                      <a:lnTo>
                        <a:pt x="402" y="234"/>
                      </a:lnTo>
                      <a:lnTo>
                        <a:pt x="512" y="120"/>
                      </a:lnTo>
                      <a:lnTo>
                        <a:pt x="504" y="110"/>
                      </a:lnTo>
                      <a:lnTo>
                        <a:pt x="400" y="210"/>
                      </a:lnTo>
                      <a:lnTo>
                        <a:pt x="392" y="0"/>
                      </a:lnTo>
                      <a:lnTo>
                        <a:pt x="388" y="0"/>
                      </a:lnTo>
                      <a:lnTo>
                        <a:pt x="372" y="0"/>
                      </a:lnTo>
                      <a:lnTo>
                        <a:pt x="366" y="0"/>
                      </a:lnTo>
                      <a:lnTo>
                        <a:pt x="358" y="214"/>
                      </a:lnTo>
                      <a:lnTo>
                        <a:pt x="252" y="110"/>
                      </a:lnTo>
                      <a:lnTo>
                        <a:pt x="244" y="120"/>
                      </a:lnTo>
                      <a:lnTo>
                        <a:pt x="358" y="238"/>
                      </a:lnTo>
                      <a:lnTo>
                        <a:pt x="354" y="330"/>
                      </a:lnTo>
                      <a:lnTo>
                        <a:pt x="354" y="330"/>
                      </a:lnTo>
                      <a:lnTo>
                        <a:pt x="340" y="334"/>
                      </a:lnTo>
                      <a:lnTo>
                        <a:pt x="330" y="340"/>
                      </a:lnTo>
                      <a:lnTo>
                        <a:pt x="318" y="348"/>
                      </a:lnTo>
                      <a:lnTo>
                        <a:pt x="308" y="356"/>
                      </a:lnTo>
                      <a:lnTo>
                        <a:pt x="222" y="312"/>
                      </a:lnTo>
                      <a:lnTo>
                        <a:pt x="176" y="158"/>
                      </a:lnTo>
                      <a:lnTo>
                        <a:pt x="166" y="160"/>
                      </a:lnTo>
                      <a:lnTo>
                        <a:pt x="200" y="300"/>
                      </a:lnTo>
                      <a:lnTo>
                        <a:pt x="16" y="204"/>
                      </a:lnTo>
                      <a:lnTo>
                        <a:pt x="12" y="204"/>
                      </a:lnTo>
                      <a:lnTo>
                        <a:pt x="10" y="206"/>
                      </a:lnTo>
                      <a:lnTo>
                        <a:pt x="2" y="220"/>
                      </a:lnTo>
                      <a:lnTo>
                        <a:pt x="2" y="220"/>
                      </a:lnTo>
                      <a:lnTo>
                        <a:pt x="0" y="224"/>
                      </a:lnTo>
                      <a:lnTo>
                        <a:pt x="180" y="338"/>
                      </a:lnTo>
                      <a:lnTo>
                        <a:pt x="38" y="380"/>
                      </a:lnTo>
                      <a:lnTo>
                        <a:pt x="42" y="390"/>
                      </a:lnTo>
                      <a:lnTo>
                        <a:pt x="202" y="352"/>
                      </a:lnTo>
                      <a:lnTo>
                        <a:pt x="282" y="402"/>
                      </a:lnTo>
                      <a:lnTo>
                        <a:pt x="282" y="402"/>
                      </a:lnTo>
                      <a:lnTo>
                        <a:pt x="278" y="416"/>
                      </a:lnTo>
                      <a:lnTo>
                        <a:pt x="278" y="430"/>
                      </a:lnTo>
                      <a:lnTo>
                        <a:pt x="278" y="430"/>
                      </a:lnTo>
                      <a:lnTo>
                        <a:pt x="278" y="442"/>
                      </a:lnTo>
                      <a:lnTo>
                        <a:pt x="280" y="452"/>
                      </a:lnTo>
                      <a:lnTo>
                        <a:pt x="198" y="506"/>
                      </a:lnTo>
                      <a:lnTo>
                        <a:pt x="42" y="468"/>
                      </a:lnTo>
                      <a:lnTo>
                        <a:pt x="38" y="480"/>
                      </a:lnTo>
                      <a:lnTo>
                        <a:pt x="176" y="520"/>
                      </a:lnTo>
                      <a:lnTo>
                        <a:pt x="0" y="632"/>
                      </a:lnTo>
                      <a:lnTo>
                        <a:pt x="2" y="636"/>
                      </a:lnTo>
                      <a:lnTo>
                        <a:pt x="2" y="636"/>
                      </a:lnTo>
                      <a:lnTo>
                        <a:pt x="2" y="638"/>
                      </a:lnTo>
                      <a:lnTo>
                        <a:pt x="12" y="654"/>
                      </a:lnTo>
                      <a:lnTo>
                        <a:pt x="200" y="554"/>
                      </a:lnTo>
                      <a:lnTo>
                        <a:pt x="166" y="698"/>
                      </a:lnTo>
                      <a:lnTo>
                        <a:pt x="176" y="702"/>
                      </a:lnTo>
                      <a:lnTo>
                        <a:pt x="222" y="542"/>
                      </a:lnTo>
                      <a:lnTo>
                        <a:pt x="306" y="500"/>
                      </a:lnTo>
                      <a:lnTo>
                        <a:pt x="306" y="500"/>
                      </a:lnTo>
                      <a:lnTo>
                        <a:pt x="316" y="508"/>
                      </a:lnTo>
                      <a:lnTo>
                        <a:pt x="326" y="516"/>
                      </a:lnTo>
                      <a:lnTo>
                        <a:pt x="338" y="522"/>
                      </a:lnTo>
                      <a:lnTo>
                        <a:pt x="350" y="528"/>
                      </a:lnTo>
                      <a:lnTo>
                        <a:pt x="354" y="624"/>
                      </a:lnTo>
                      <a:lnTo>
                        <a:pt x="244" y="740"/>
                      </a:lnTo>
                      <a:lnTo>
                        <a:pt x="252" y="748"/>
                      </a:lnTo>
                      <a:lnTo>
                        <a:pt x="356" y="648"/>
                      </a:lnTo>
                      <a:lnTo>
                        <a:pt x="364" y="856"/>
                      </a:lnTo>
                      <a:lnTo>
                        <a:pt x="368" y="856"/>
                      </a:lnTo>
                      <a:lnTo>
                        <a:pt x="384" y="856"/>
                      </a:lnTo>
                      <a:lnTo>
                        <a:pt x="390" y="856"/>
                      </a:lnTo>
                      <a:lnTo>
                        <a:pt x="398" y="644"/>
                      </a:lnTo>
                      <a:lnTo>
                        <a:pt x="504" y="748"/>
                      </a:lnTo>
                      <a:lnTo>
                        <a:pt x="512" y="740"/>
                      </a:lnTo>
                      <a:lnTo>
                        <a:pt x="398" y="620"/>
                      </a:lnTo>
                      <a:lnTo>
                        <a:pt x="402" y="530"/>
                      </a:lnTo>
                      <a:lnTo>
                        <a:pt x="402" y="530"/>
                      </a:lnTo>
                      <a:lnTo>
                        <a:pt x="416" y="526"/>
                      </a:lnTo>
                      <a:lnTo>
                        <a:pt x="428" y="520"/>
                      </a:lnTo>
                      <a:lnTo>
                        <a:pt x="440" y="512"/>
                      </a:lnTo>
                      <a:lnTo>
                        <a:pt x="450" y="504"/>
                      </a:lnTo>
                      <a:lnTo>
                        <a:pt x="534" y="548"/>
                      </a:lnTo>
                      <a:lnTo>
                        <a:pt x="580" y="702"/>
                      </a:lnTo>
                      <a:lnTo>
                        <a:pt x="590" y="698"/>
                      </a:lnTo>
                      <a:lnTo>
                        <a:pt x="556" y="558"/>
                      </a:lnTo>
                      <a:lnTo>
                        <a:pt x="744" y="656"/>
                      </a:lnTo>
                      <a:lnTo>
                        <a:pt x="746" y="652"/>
                      </a:lnTo>
                      <a:lnTo>
                        <a:pt x="746" y="652"/>
                      </a:lnTo>
                      <a:lnTo>
                        <a:pt x="748" y="646"/>
                      </a:lnTo>
                      <a:lnTo>
                        <a:pt x="756" y="634"/>
                      </a:lnTo>
                      <a:lnTo>
                        <a:pt x="574" y="520"/>
                      </a:lnTo>
                      <a:lnTo>
                        <a:pt x="716" y="480"/>
                      </a:lnTo>
                      <a:close/>
                      <a:moveTo>
                        <a:pt x="380" y="500"/>
                      </a:moveTo>
                      <a:lnTo>
                        <a:pt x="380" y="500"/>
                      </a:lnTo>
                      <a:lnTo>
                        <a:pt x="366" y="498"/>
                      </a:lnTo>
                      <a:lnTo>
                        <a:pt x="352" y="494"/>
                      </a:lnTo>
                      <a:lnTo>
                        <a:pt x="340" y="488"/>
                      </a:lnTo>
                      <a:lnTo>
                        <a:pt x="330" y="480"/>
                      </a:lnTo>
                      <a:lnTo>
                        <a:pt x="322" y="468"/>
                      </a:lnTo>
                      <a:lnTo>
                        <a:pt x="316" y="456"/>
                      </a:lnTo>
                      <a:lnTo>
                        <a:pt x="312" y="444"/>
                      </a:lnTo>
                      <a:lnTo>
                        <a:pt x="310" y="430"/>
                      </a:lnTo>
                      <a:lnTo>
                        <a:pt x="310" y="430"/>
                      </a:lnTo>
                      <a:lnTo>
                        <a:pt x="312" y="416"/>
                      </a:lnTo>
                      <a:lnTo>
                        <a:pt x="316" y="402"/>
                      </a:lnTo>
                      <a:lnTo>
                        <a:pt x="322" y="390"/>
                      </a:lnTo>
                      <a:lnTo>
                        <a:pt x="330" y="380"/>
                      </a:lnTo>
                      <a:lnTo>
                        <a:pt x="340" y="372"/>
                      </a:lnTo>
                      <a:lnTo>
                        <a:pt x="352" y="364"/>
                      </a:lnTo>
                      <a:lnTo>
                        <a:pt x="366" y="360"/>
                      </a:lnTo>
                      <a:lnTo>
                        <a:pt x="380" y="358"/>
                      </a:lnTo>
                      <a:lnTo>
                        <a:pt x="380" y="358"/>
                      </a:lnTo>
                      <a:lnTo>
                        <a:pt x="394" y="360"/>
                      </a:lnTo>
                      <a:lnTo>
                        <a:pt x="408" y="364"/>
                      </a:lnTo>
                      <a:lnTo>
                        <a:pt x="420" y="372"/>
                      </a:lnTo>
                      <a:lnTo>
                        <a:pt x="430" y="380"/>
                      </a:lnTo>
                      <a:lnTo>
                        <a:pt x="438" y="390"/>
                      </a:lnTo>
                      <a:lnTo>
                        <a:pt x="444" y="402"/>
                      </a:lnTo>
                      <a:lnTo>
                        <a:pt x="448" y="416"/>
                      </a:lnTo>
                      <a:lnTo>
                        <a:pt x="450" y="430"/>
                      </a:lnTo>
                      <a:lnTo>
                        <a:pt x="450" y="430"/>
                      </a:lnTo>
                      <a:lnTo>
                        <a:pt x="448" y="444"/>
                      </a:lnTo>
                      <a:lnTo>
                        <a:pt x="444" y="456"/>
                      </a:lnTo>
                      <a:lnTo>
                        <a:pt x="438" y="468"/>
                      </a:lnTo>
                      <a:lnTo>
                        <a:pt x="430" y="480"/>
                      </a:lnTo>
                      <a:lnTo>
                        <a:pt x="420" y="488"/>
                      </a:lnTo>
                      <a:lnTo>
                        <a:pt x="408" y="494"/>
                      </a:lnTo>
                      <a:lnTo>
                        <a:pt x="394" y="498"/>
                      </a:lnTo>
                      <a:lnTo>
                        <a:pt x="380" y="500"/>
                      </a:lnTo>
                      <a:lnTo>
                        <a:pt x="380" y="500"/>
                      </a:lnTo>
                      <a:close/>
                    </a:path>
                  </a:pathLst>
                </a:custGeom>
                <a:solidFill>
                  <a:srgbClr val="feffff">
                    <a:alpha val="6000"/>
                  </a:srgbClr>
                </a:solidFill>
                <a:ln w="0">
                  <a:solidFill>
                    <a:srgbClr val="feffff">
                      <a:alpha val="4000"/>
                    </a:srgbClr>
                  </a:solidFill>
                </a:ln>
                <a:effectLst>
                  <a:glow rad="76320">
                    <a:srgbClr val="feffff">
                      <a:alpha val="8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1" name="Freeform 49"/>
                <p:cNvSpPr/>
                <p:nvPr/>
              </p:nvSpPr>
              <p:spPr>
                <a:xfrm rot="19359000">
                  <a:off x="7692840" y="1112400"/>
                  <a:ext cx="853200" cy="974880"/>
                </a:xfrm>
                <a:custGeom>
                  <a:avLst/>
                  <a:gdLst>
                    <a:gd name="textAreaLeft" fmla="*/ 0 w 853200"/>
                    <a:gd name="textAreaRight" fmla="*/ 853560 w 853200"/>
                    <a:gd name="textAreaTop" fmla="*/ 0 h 974880"/>
                    <a:gd name="textAreaBottom" fmla="*/ 975240 h 974880"/>
                  </a:gdLst>
                  <a:ahLst/>
                  <a:rect l="textAreaLeft" t="textAreaTop" r="textAreaRight" b="textAreaBottom"/>
                  <a:pathLst>
                    <a:path w="728" h="832">
                      <a:moveTo>
                        <a:pt x="650" y="564"/>
                      </a:moveTo>
                      <a:lnTo>
                        <a:pt x="724" y="542"/>
                      </a:lnTo>
                      <a:lnTo>
                        <a:pt x="722" y="534"/>
                      </a:lnTo>
                      <a:lnTo>
                        <a:pt x="636" y="554"/>
                      </a:lnTo>
                      <a:lnTo>
                        <a:pt x="584" y="522"/>
                      </a:lnTo>
                      <a:lnTo>
                        <a:pt x="712" y="486"/>
                      </a:lnTo>
                      <a:lnTo>
                        <a:pt x="708" y="474"/>
                      </a:lnTo>
                      <a:lnTo>
                        <a:pt x="564" y="510"/>
                      </a:lnTo>
                      <a:lnTo>
                        <a:pt x="442" y="434"/>
                      </a:lnTo>
                      <a:lnTo>
                        <a:pt x="442" y="434"/>
                      </a:lnTo>
                      <a:lnTo>
                        <a:pt x="444" y="422"/>
                      </a:lnTo>
                      <a:lnTo>
                        <a:pt x="446" y="410"/>
                      </a:lnTo>
                      <a:lnTo>
                        <a:pt x="446" y="410"/>
                      </a:lnTo>
                      <a:lnTo>
                        <a:pt x="444" y="398"/>
                      </a:lnTo>
                      <a:lnTo>
                        <a:pt x="568" y="320"/>
                      </a:lnTo>
                      <a:lnTo>
                        <a:pt x="708" y="354"/>
                      </a:lnTo>
                      <a:lnTo>
                        <a:pt x="712" y="344"/>
                      </a:lnTo>
                      <a:lnTo>
                        <a:pt x="588" y="308"/>
                      </a:lnTo>
                      <a:lnTo>
                        <a:pt x="638" y="276"/>
                      </a:lnTo>
                      <a:lnTo>
                        <a:pt x="722" y="296"/>
                      </a:lnTo>
                      <a:lnTo>
                        <a:pt x="724" y="286"/>
                      </a:lnTo>
                      <a:lnTo>
                        <a:pt x="654" y="266"/>
                      </a:lnTo>
                      <a:lnTo>
                        <a:pt x="726" y="220"/>
                      </a:lnTo>
                      <a:lnTo>
                        <a:pt x="728" y="218"/>
                      </a:lnTo>
                      <a:lnTo>
                        <a:pt x="726" y="216"/>
                      </a:lnTo>
                      <a:lnTo>
                        <a:pt x="720" y="202"/>
                      </a:lnTo>
                      <a:lnTo>
                        <a:pt x="720" y="202"/>
                      </a:lnTo>
                      <a:lnTo>
                        <a:pt x="716" y="198"/>
                      </a:lnTo>
                      <a:lnTo>
                        <a:pt x="636" y="240"/>
                      </a:lnTo>
                      <a:lnTo>
                        <a:pt x="656" y="166"/>
                      </a:lnTo>
                      <a:lnTo>
                        <a:pt x="646" y="164"/>
                      </a:lnTo>
                      <a:lnTo>
                        <a:pt x="620" y="250"/>
                      </a:lnTo>
                      <a:lnTo>
                        <a:pt x="568" y="278"/>
                      </a:lnTo>
                      <a:lnTo>
                        <a:pt x="600" y="148"/>
                      </a:lnTo>
                      <a:lnTo>
                        <a:pt x="588" y="146"/>
                      </a:lnTo>
                      <a:lnTo>
                        <a:pt x="546" y="290"/>
                      </a:lnTo>
                      <a:lnTo>
                        <a:pt x="424" y="356"/>
                      </a:lnTo>
                      <a:lnTo>
                        <a:pt x="424" y="356"/>
                      </a:lnTo>
                      <a:lnTo>
                        <a:pt x="416" y="348"/>
                      </a:lnTo>
                      <a:lnTo>
                        <a:pt x="408" y="342"/>
                      </a:lnTo>
                      <a:lnTo>
                        <a:pt x="398" y="338"/>
                      </a:lnTo>
                      <a:lnTo>
                        <a:pt x="390" y="334"/>
                      </a:lnTo>
                      <a:lnTo>
                        <a:pt x="384" y="192"/>
                      </a:lnTo>
                      <a:lnTo>
                        <a:pt x="484" y="86"/>
                      </a:lnTo>
                      <a:lnTo>
                        <a:pt x="476" y="78"/>
                      </a:lnTo>
                      <a:lnTo>
                        <a:pt x="384" y="168"/>
                      </a:lnTo>
                      <a:lnTo>
                        <a:pt x="380" y="108"/>
                      </a:lnTo>
                      <a:lnTo>
                        <a:pt x="440" y="46"/>
                      </a:lnTo>
                      <a:lnTo>
                        <a:pt x="432" y="38"/>
                      </a:lnTo>
                      <a:lnTo>
                        <a:pt x="380" y="88"/>
                      </a:lnTo>
                      <a:lnTo>
                        <a:pt x="376" y="0"/>
                      </a:lnTo>
                      <a:lnTo>
                        <a:pt x="374" y="0"/>
                      </a:lnTo>
                      <a:lnTo>
                        <a:pt x="358" y="0"/>
                      </a:lnTo>
                      <a:lnTo>
                        <a:pt x="352" y="0"/>
                      </a:lnTo>
                      <a:lnTo>
                        <a:pt x="350" y="90"/>
                      </a:lnTo>
                      <a:lnTo>
                        <a:pt x="296" y="38"/>
                      </a:lnTo>
                      <a:lnTo>
                        <a:pt x="288" y="46"/>
                      </a:lnTo>
                      <a:lnTo>
                        <a:pt x="350" y="110"/>
                      </a:lnTo>
                      <a:lnTo>
                        <a:pt x="348" y="170"/>
                      </a:lnTo>
                      <a:lnTo>
                        <a:pt x="252" y="78"/>
                      </a:lnTo>
                      <a:lnTo>
                        <a:pt x="244" y="86"/>
                      </a:lnTo>
                      <a:lnTo>
                        <a:pt x="346" y="194"/>
                      </a:lnTo>
                      <a:lnTo>
                        <a:pt x="342" y="334"/>
                      </a:lnTo>
                      <a:lnTo>
                        <a:pt x="342" y="334"/>
                      </a:lnTo>
                      <a:lnTo>
                        <a:pt x="324" y="342"/>
                      </a:lnTo>
                      <a:lnTo>
                        <a:pt x="310" y="354"/>
                      </a:lnTo>
                      <a:lnTo>
                        <a:pt x="180" y="286"/>
                      </a:lnTo>
                      <a:lnTo>
                        <a:pt x="140" y="146"/>
                      </a:lnTo>
                      <a:lnTo>
                        <a:pt x="128" y="148"/>
                      </a:lnTo>
                      <a:lnTo>
                        <a:pt x="160" y="274"/>
                      </a:lnTo>
                      <a:lnTo>
                        <a:pt x="106" y="246"/>
                      </a:lnTo>
                      <a:lnTo>
                        <a:pt x="82" y="164"/>
                      </a:lnTo>
                      <a:lnTo>
                        <a:pt x="72" y="166"/>
                      </a:lnTo>
                      <a:lnTo>
                        <a:pt x="90" y="238"/>
                      </a:lnTo>
                      <a:lnTo>
                        <a:pt x="16" y="198"/>
                      </a:lnTo>
                      <a:lnTo>
                        <a:pt x="12" y="196"/>
                      </a:lnTo>
                      <a:lnTo>
                        <a:pt x="0" y="218"/>
                      </a:lnTo>
                      <a:lnTo>
                        <a:pt x="78" y="266"/>
                      </a:lnTo>
                      <a:lnTo>
                        <a:pt x="4" y="286"/>
                      </a:lnTo>
                      <a:lnTo>
                        <a:pt x="6" y="296"/>
                      </a:lnTo>
                      <a:lnTo>
                        <a:pt x="92" y="274"/>
                      </a:lnTo>
                      <a:lnTo>
                        <a:pt x="144" y="306"/>
                      </a:lnTo>
                      <a:lnTo>
                        <a:pt x="16" y="344"/>
                      </a:lnTo>
                      <a:lnTo>
                        <a:pt x="20" y="354"/>
                      </a:lnTo>
                      <a:lnTo>
                        <a:pt x="164" y="320"/>
                      </a:lnTo>
                      <a:lnTo>
                        <a:pt x="288" y="396"/>
                      </a:lnTo>
                      <a:lnTo>
                        <a:pt x="288" y="396"/>
                      </a:lnTo>
                      <a:lnTo>
                        <a:pt x="286" y="410"/>
                      </a:lnTo>
                      <a:lnTo>
                        <a:pt x="286" y="410"/>
                      </a:lnTo>
                      <a:lnTo>
                        <a:pt x="288" y="428"/>
                      </a:lnTo>
                      <a:lnTo>
                        <a:pt x="160" y="508"/>
                      </a:lnTo>
                      <a:lnTo>
                        <a:pt x="20" y="474"/>
                      </a:lnTo>
                      <a:lnTo>
                        <a:pt x="16" y="486"/>
                      </a:lnTo>
                      <a:lnTo>
                        <a:pt x="140" y="522"/>
                      </a:lnTo>
                      <a:lnTo>
                        <a:pt x="90" y="554"/>
                      </a:lnTo>
                      <a:lnTo>
                        <a:pt x="6" y="534"/>
                      </a:lnTo>
                      <a:lnTo>
                        <a:pt x="4" y="542"/>
                      </a:lnTo>
                      <a:lnTo>
                        <a:pt x="74" y="564"/>
                      </a:lnTo>
                      <a:lnTo>
                        <a:pt x="2" y="608"/>
                      </a:lnTo>
                      <a:lnTo>
                        <a:pt x="0" y="610"/>
                      </a:lnTo>
                      <a:lnTo>
                        <a:pt x="2" y="614"/>
                      </a:lnTo>
                      <a:lnTo>
                        <a:pt x="2" y="614"/>
                      </a:lnTo>
                      <a:lnTo>
                        <a:pt x="6" y="622"/>
                      </a:lnTo>
                      <a:lnTo>
                        <a:pt x="12" y="630"/>
                      </a:lnTo>
                      <a:lnTo>
                        <a:pt x="92" y="588"/>
                      </a:lnTo>
                      <a:lnTo>
                        <a:pt x="72" y="662"/>
                      </a:lnTo>
                      <a:lnTo>
                        <a:pt x="82" y="664"/>
                      </a:lnTo>
                      <a:lnTo>
                        <a:pt x="108" y="580"/>
                      </a:lnTo>
                      <a:lnTo>
                        <a:pt x="160" y="550"/>
                      </a:lnTo>
                      <a:lnTo>
                        <a:pt x="128" y="680"/>
                      </a:lnTo>
                      <a:lnTo>
                        <a:pt x="140" y="684"/>
                      </a:lnTo>
                      <a:lnTo>
                        <a:pt x="182" y="540"/>
                      </a:lnTo>
                      <a:lnTo>
                        <a:pt x="312" y="470"/>
                      </a:lnTo>
                      <a:lnTo>
                        <a:pt x="312" y="470"/>
                      </a:lnTo>
                      <a:lnTo>
                        <a:pt x="324" y="478"/>
                      </a:lnTo>
                      <a:lnTo>
                        <a:pt x="338" y="486"/>
                      </a:lnTo>
                      <a:lnTo>
                        <a:pt x="344" y="638"/>
                      </a:lnTo>
                      <a:lnTo>
                        <a:pt x="244" y="744"/>
                      </a:lnTo>
                      <a:lnTo>
                        <a:pt x="252" y="752"/>
                      </a:lnTo>
                      <a:lnTo>
                        <a:pt x="344" y="662"/>
                      </a:lnTo>
                      <a:lnTo>
                        <a:pt x="348" y="722"/>
                      </a:lnTo>
                      <a:lnTo>
                        <a:pt x="288" y="784"/>
                      </a:lnTo>
                      <a:lnTo>
                        <a:pt x="296" y="790"/>
                      </a:lnTo>
                      <a:lnTo>
                        <a:pt x="348" y="742"/>
                      </a:lnTo>
                      <a:lnTo>
                        <a:pt x="352" y="832"/>
                      </a:lnTo>
                      <a:lnTo>
                        <a:pt x="354" y="832"/>
                      </a:lnTo>
                      <a:lnTo>
                        <a:pt x="370" y="832"/>
                      </a:lnTo>
                      <a:lnTo>
                        <a:pt x="370" y="832"/>
                      </a:lnTo>
                      <a:lnTo>
                        <a:pt x="376" y="832"/>
                      </a:lnTo>
                      <a:lnTo>
                        <a:pt x="378" y="740"/>
                      </a:lnTo>
                      <a:lnTo>
                        <a:pt x="432" y="792"/>
                      </a:lnTo>
                      <a:lnTo>
                        <a:pt x="440" y="784"/>
                      </a:lnTo>
                      <a:lnTo>
                        <a:pt x="378" y="720"/>
                      </a:lnTo>
                      <a:lnTo>
                        <a:pt x="380" y="658"/>
                      </a:lnTo>
                      <a:lnTo>
                        <a:pt x="476" y="752"/>
                      </a:lnTo>
                      <a:lnTo>
                        <a:pt x="484" y="744"/>
                      </a:lnTo>
                      <a:lnTo>
                        <a:pt x="382" y="636"/>
                      </a:lnTo>
                      <a:lnTo>
                        <a:pt x="386" y="488"/>
                      </a:lnTo>
                      <a:lnTo>
                        <a:pt x="386" y="488"/>
                      </a:lnTo>
                      <a:lnTo>
                        <a:pt x="402" y="482"/>
                      </a:lnTo>
                      <a:lnTo>
                        <a:pt x="416" y="474"/>
                      </a:lnTo>
                      <a:lnTo>
                        <a:pt x="548" y="544"/>
                      </a:lnTo>
                      <a:lnTo>
                        <a:pt x="588" y="684"/>
                      </a:lnTo>
                      <a:lnTo>
                        <a:pt x="600" y="680"/>
                      </a:lnTo>
                      <a:lnTo>
                        <a:pt x="568" y="554"/>
                      </a:lnTo>
                      <a:lnTo>
                        <a:pt x="622" y="582"/>
                      </a:lnTo>
                      <a:lnTo>
                        <a:pt x="646" y="664"/>
                      </a:lnTo>
                      <a:lnTo>
                        <a:pt x="656" y="662"/>
                      </a:lnTo>
                      <a:lnTo>
                        <a:pt x="638" y="592"/>
                      </a:lnTo>
                      <a:lnTo>
                        <a:pt x="712" y="630"/>
                      </a:lnTo>
                      <a:lnTo>
                        <a:pt x="716" y="632"/>
                      </a:lnTo>
                      <a:lnTo>
                        <a:pt x="718" y="630"/>
                      </a:lnTo>
                      <a:lnTo>
                        <a:pt x="718" y="630"/>
                      </a:lnTo>
                      <a:lnTo>
                        <a:pt x="726" y="616"/>
                      </a:lnTo>
                      <a:lnTo>
                        <a:pt x="726" y="616"/>
                      </a:lnTo>
                      <a:lnTo>
                        <a:pt x="728" y="612"/>
                      </a:lnTo>
                      <a:lnTo>
                        <a:pt x="650" y="564"/>
                      </a:lnTo>
                      <a:close/>
                    </a:path>
                  </a:pathLst>
                </a:custGeom>
                <a:solidFill>
                  <a:srgbClr val="feffff">
                    <a:alpha val="3000"/>
                  </a:srgbClr>
                </a:solidFill>
                <a:ln w="0">
                  <a:solidFill>
                    <a:srgbClr val="feffff">
                      <a:alpha val="8000"/>
                    </a:srgbClr>
                  </a:solidFill>
                </a:ln>
                <a:effectLst>
                  <a:glow rad="114480">
                    <a:srgbClr val="feffff">
                      <a:alpha val="7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2" name="Freeform 53"/>
                <p:cNvSpPr/>
                <p:nvPr/>
              </p:nvSpPr>
              <p:spPr>
                <a:xfrm rot="19930200">
                  <a:off x="8344800" y="122400"/>
                  <a:ext cx="729720" cy="833040"/>
                </a:xfrm>
                <a:custGeom>
                  <a:avLst/>
                  <a:gdLst>
                    <a:gd name="textAreaLeft" fmla="*/ 0 w 729720"/>
                    <a:gd name="textAreaRight" fmla="*/ 730080 w 729720"/>
                    <a:gd name="textAreaTop" fmla="*/ 0 h 833040"/>
                    <a:gd name="textAreaBottom" fmla="*/ 833400 h 83304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3000"/>
                  </a:srgbClr>
                </a:solidFill>
                <a:ln w="0">
                  <a:solidFill>
                    <a:srgbClr val="feffff">
                      <a:alpha val="4000"/>
                    </a:srgbClr>
                  </a:solidFill>
                </a:ln>
                <a:effectLst>
                  <a:glow rad="76320">
                    <a:srgbClr val="feffff">
                      <a:alpha val="6000"/>
                    </a:srgbClr>
                  </a:glow>
                  <a:softEdge rad="12600"/>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3" name="Freeform 53"/>
                <p:cNvSpPr/>
                <p:nvPr/>
              </p:nvSpPr>
              <p:spPr>
                <a:xfrm rot="1160400">
                  <a:off x="8324640" y="3308400"/>
                  <a:ext cx="491400" cy="560880"/>
                </a:xfrm>
                <a:custGeom>
                  <a:avLst/>
                  <a:gdLst>
                    <a:gd name="textAreaLeft" fmla="*/ 0 w 491400"/>
                    <a:gd name="textAreaRight" fmla="*/ 491760 w 491400"/>
                    <a:gd name="textAreaTop" fmla="*/ 0 h 560880"/>
                    <a:gd name="textAreaBottom" fmla="*/ 561240 h 56088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76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4" name="Freeform 53"/>
                <p:cNvSpPr/>
                <p:nvPr/>
              </p:nvSpPr>
              <p:spPr>
                <a:xfrm rot="20991000">
                  <a:off x="8713080" y="888120"/>
                  <a:ext cx="384120" cy="438480"/>
                </a:xfrm>
                <a:custGeom>
                  <a:avLst/>
                  <a:gdLst>
                    <a:gd name="textAreaLeft" fmla="*/ 0 w 384120"/>
                    <a:gd name="textAreaRight" fmla="*/ 384480 w 384120"/>
                    <a:gd name="textAreaTop" fmla="*/ 0 h 438480"/>
                    <a:gd name="textAreaBottom" fmla="*/ 438840 h 43848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76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grpSp>
          <p:grpSp>
            <p:nvGrpSpPr>
              <p:cNvPr id="15" name="Group 56"/>
              <p:cNvGrpSpPr/>
              <p:nvPr/>
            </p:nvGrpSpPr>
            <p:grpSpPr>
              <a:xfrm>
                <a:off x="7445880" y="56880"/>
                <a:ext cx="1664640" cy="6111720"/>
                <a:chOff x="7445880" y="56880"/>
                <a:chExt cx="1664640" cy="6111720"/>
              </a:xfrm>
            </p:grpSpPr>
            <p:sp>
              <p:nvSpPr>
                <p:cNvPr id="16" name="Freeform 69"/>
                <p:cNvSpPr/>
                <p:nvPr/>
              </p:nvSpPr>
              <p:spPr>
                <a:xfrm rot="474600">
                  <a:off x="8001720" y="4921560"/>
                  <a:ext cx="1032120" cy="1181520"/>
                </a:xfrm>
                <a:custGeom>
                  <a:avLst/>
                  <a:gdLst>
                    <a:gd name="textAreaLeft" fmla="*/ 0 w 1032120"/>
                    <a:gd name="textAreaRight" fmla="*/ 1032480 w 1032120"/>
                    <a:gd name="textAreaTop" fmla="*/ 0 h 1181520"/>
                    <a:gd name="textAreaBottom" fmla="*/ 1181880 h 11815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7" name="Freeform 73"/>
                <p:cNvSpPr/>
                <p:nvPr/>
              </p:nvSpPr>
              <p:spPr>
                <a:xfrm rot="20414400">
                  <a:off x="7563960" y="154800"/>
                  <a:ext cx="722520" cy="824760"/>
                </a:xfrm>
                <a:custGeom>
                  <a:avLst/>
                  <a:gdLst>
                    <a:gd name="textAreaLeft" fmla="*/ 0 w 722520"/>
                    <a:gd name="textAreaRight" fmla="*/ 722880 w 722520"/>
                    <a:gd name="textAreaTop" fmla="*/ 0 h 824760"/>
                    <a:gd name="textAreaBottom" fmla="*/ 825120 h 82476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14" y="512"/>
                      </a:lnTo>
                      <a:lnTo>
                        <a:pt x="520" y="490"/>
                      </a:lnTo>
                      <a:lnTo>
                        <a:pt x="522" y="478"/>
                      </a:lnTo>
                      <a:lnTo>
                        <a:pt x="522" y="46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10" y="424"/>
                      </a:lnTo>
                      <a:lnTo>
                        <a:pt x="304" y="446"/>
                      </a:lnTo>
                      <a:lnTo>
                        <a:pt x="302" y="468"/>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4" y="468"/>
                      </a:lnTo>
                      <a:lnTo>
                        <a:pt x="336" y="452"/>
                      </a:lnTo>
                      <a:lnTo>
                        <a:pt x="340" y="436"/>
                      </a:lnTo>
                      <a:lnTo>
                        <a:pt x="348" y="424"/>
                      </a:lnTo>
                      <a:lnTo>
                        <a:pt x="358" y="412"/>
                      </a:lnTo>
                      <a:lnTo>
                        <a:pt x="368" y="402"/>
                      </a:lnTo>
                      <a:lnTo>
                        <a:pt x="382" y="394"/>
                      </a:lnTo>
                      <a:lnTo>
                        <a:pt x="396" y="390"/>
                      </a:lnTo>
                      <a:lnTo>
                        <a:pt x="412" y="388"/>
                      </a:lnTo>
                      <a:lnTo>
                        <a:pt x="412" y="388"/>
                      </a:lnTo>
                      <a:lnTo>
                        <a:pt x="428" y="390"/>
                      </a:lnTo>
                      <a:lnTo>
                        <a:pt x="442" y="394"/>
                      </a:lnTo>
                      <a:lnTo>
                        <a:pt x="456" y="402"/>
                      </a:lnTo>
                      <a:lnTo>
                        <a:pt x="468" y="412"/>
                      </a:lnTo>
                      <a:lnTo>
                        <a:pt x="478" y="424"/>
                      </a:lnTo>
                      <a:lnTo>
                        <a:pt x="484" y="436"/>
                      </a:lnTo>
                      <a:lnTo>
                        <a:pt x="490" y="452"/>
                      </a:lnTo>
                      <a:lnTo>
                        <a:pt x="490" y="468"/>
                      </a:lnTo>
                      <a:lnTo>
                        <a:pt x="490" y="468"/>
                      </a:lnTo>
                      <a:lnTo>
                        <a:pt x="490" y="482"/>
                      </a:lnTo>
                      <a:lnTo>
                        <a:pt x="484" y="498"/>
                      </a:lnTo>
                      <a:lnTo>
                        <a:pt x="478" y="510"/>
                      </a:lnTo>
                      <a:lnTo>
                        <a:pt x="468" y="522"/>
                      </a:lnTo>
                      <a:lnTo>
                        <a:pt x="456" y="532"/>
                      </a:lnTo>
                      <a:lnTo>
                        <a:pt x="442" y="540"/>
                      </a:lnTo>
                      <a:lnTo>
                        <a:pt x="428" y="544"/>
                      </a:lnTo>
                      <a:lnTo>
                        <a:pt x="412" y="546"/>
                      </a:lnTo>
                      <a:lnTo>
                        <a:pt x="412" y="546"/>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8" name="Freeform 77"/>
                <p:cNvSpPr/>
                <p:nvPr/>
              </p:nvSpPr>
              <p:spPr>
                <a:xfrm rot="20957400">
                  <a:off x="7868880" y="3830400"/>
                  <a:ext cx="639360" cy="729000"/>
                </a:xfrm>
                <a:custGeom>
                  <a:avLst/>
                  <a:gdLst>
                    <a:gd name="textAreaLeft" fmla="*/ 0 w 639360"/>
                    <a:gd name="textAreaRight" fmla="*/ 639720 w 639360"/>
                    <a:gd name="textAreaTop" fmla="*/ 0 h 729000"/>
                    <a:gd name="textAreaBottom" fmla="*/ 729360 h 72900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0">
                  <a:solidFill>
                    <a:srgbClr val="feffff">
                      <a:alpha val="26000"/>
                    </a:srgbClr>
                  </a:solid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9" name="Freeform 81"/>
                <p:cNvSpPr/>
                <p:nvPr/>
              </p:nvSpPr>
              <p:spPr>
                <a:xfrm rot="924000">
                  <a:off x="8027280" y="1798920"/>
                  <a:ext cx="766080" cy="868680"/>
                </a:xfrm>
                <a:custGeom>
                  <a:avLst/>
                  <a:gdLst>
                    <a:gd name="textAreaLeft" fmla="*/ 0 w 766080"/>
                    <a:gd name="textAreaRight" fmla="*/ 766440 w 766080"/>
                    <a:gd name="textAreaTop" fmla="*/ 0 h 868680"/>
                    <a:gd name="textAreaBottom" fmla="*/ 869040 h 86868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0" y="374"/>
                      </a:lnTo>
                      <a:lnTo>
                        <a:pt x="402" y="35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36"/>
                      </a:lnTo>
                      <a:lnTo>
                        <a:pt x="228" y="354"/>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54"/>
                      </a:lnTo>
                      <a:lnTo>
                        <a:pt x="260" y="342"/>
                      </a:lnTo>
                      <a:lnTo>
                        <a:pt x="264" y="332"/>
                      </a:lnTo>
                      <a:lnTo>
                        <a:pt x="268" y="322"/>
                      </a:lnTo>
                      <a:lnTo>
                        <a:pt x="276" y="314"/>
                      </a:lnTo>
                      <a:lnTo>
                        <a:pt x="284" y="308"/>
                      </a:lnTo>
                      <a:lnTo>
                        <a:pt x="294" y="302"/>
                      </a:lnTo>
                      <a:lnTo>
                        <a:pt x="304" y="300"/>
                      </a:lnTo>
                      <a:lnTo>
                        <a:pt x="314" y="298"/>
                      </a:lnTo>
                      <a:lnTo>
                        <a:pt x="314" y="298"/>
                      </a:lnTo>
                      <a:lnTo>
                        <a:pt x="326" y="300"/>
                      </a:lnTo>
                      <a:lnTo>
                        <a:pt x="336" y="302"/>
                      </a:lnTo>
                      <a:lnTo>
                        <a:pt x="346" y="308"/>
                      </a:lnTo>
                      <a:lnTo>
                        <a:pt x="354" y="314"/>
                      </a:lnTo>
                      <a:lnTo>
                        <a:pt x="362" y="322"/>
                      </a:lnTo>
                      <a:lnTo>
                        <a:pt x="366" y="332"/>
                      </a:lnTo>
                      <a:lnTo>
                        <a:pt x="370" y="342"/>
                      </a:lnTo>
                      <a:lnTo>
                        <a:pt x="370" y="354"/>
                      </a:lnTo>
                      <a:lnTo>
                        <a:pt x="370" y="354"/>
                      </a:lnTo>
                      <a:lnTo>
                        <a:pt x="370" y="364"/>
                      </a:lnTo>
                      <a:lnTo>
                        <a:pt x="366" y="376"/>
                      </a:lnTo>
                      <a:lnTo>
                        <a:pt x="362" y="384"/>
                      </a:lnTo>
                      <a:lnTo>
                        <a:pt x="354" y="394"/>
                      </a:lnTo>
                      <a:lnTo>
                        <a:pt x="346" y="400"/>
                      </a:lnTo>
                      <a:lnTo>
                        <a:pt x="336" y="406"/>
                      </a:lnTo>
                      <a:lnTo>
                        <a:pt x="326" y="408"/>
                      </a:lnTo>
                      <a:lnTo>
                        <a:pt x="314" y="410"/>
                      </a:lnTo>
                      <a:lnTo>
                        <a:pt x="314" y="410"/>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grpSp>
        <p:sp>
          <p:nvSpPr>
            <p:cNvPr id="20" name="Freeform 8"/>
            <p:cNvSpPr/>
            <p:nvPr/>
          </p:nvSpPr>
          <p:spPr>
            <a:xfrm>
              <a:off x="8267760" y="2855880"/>
              <a:ext cx="865440" cy="1172160"/>
            </a:xfrm>
            <a:custGeom>
              <a:avLst/>
              <a:gdLst>
                <a:gd name="textAreaLeft" fmla="*/ 0 w 865440"/>
                <a:gd name="textAreaRight" fmla="*/ 865800 w 865440"/>
                <a:gd name="textAreaTop" fmla="*/ 0 h 1172160"/>
                <a:gd name="textAreaBottom" fmla="*/ 1172520 h 1172160"/>
              </a:gdLst>
              <a:ahLst/>
              <a:rect l="textAreaLeft" t="textAreaTop" r="textAreaRight" b="textAreaBottom"/>
              <a:pathLst>
                <a:path w="672" h="910">
                  <a:moveTo>
                    <a:pt x="672" y="672"/>
                  </a:moveTo>
                  <a:lnTo>
                    <a:pt x="670" y="672"/>
                  </a:lnTo>
                  <a:lnTo>
                    <a:pt x="562" y="532"/>
                  </a:lnTo>
                  <a:lnTo>
                    <a:pt x="562" y="532"/>
                  </a:lnTo>
                  <a:lnTo>
                    <a:pt x="572" y="520"/>
                  </a:lnTo>
                  <a:lnTo>
                    <a:pt x="582" y="506"/>
                  </a:lnTo>
                  <a:lnTo>
                    <a:pt x="624" y="522"/>
                  </a:lnTo>
                  <a:lnTo>
                    <a:pt x="624" y="522"/>
                  </a:lnTo>
                  <a:lnTo>
                    <a:pt x="630" y="522"/>
                  </a:lnTo>
                  <a:lnTo>
                    <a:pt x="636" y="520"/>
                  </a:lnTo>
                  <a:lnTo>
                    <a:pt x="636" y="520"/>
                  </a:lnTo>
                  <a:lnTo>
                    <a:pt x="640" y="514"/>
                  </a:lnTo>
                  <a:lnTo>
                    <a:pt x="640" y="514"/>
                  </a:lnTo>
                  <a:lnTo>
                    <a:pt x="640" y="510"/>
                  </a:lnTo>
                  <a:lnTo>
                    <a:pt x="640" y="504"/>
                  </a:lnTo>
                  <a:lnTo>
                    <a:pt x="636" y="502"/>
                  </a:lnTo>
                  <a:lnTo>
                    <a:pt x="632" y="498"/>
                  </a:lnTo>
                  <a:lnTo>
                    <a:pt x="590" y="482"/>
                  </a:lnTo>
                  <a:lnTo>
                    <a:pt x="590" y="482"/>
                  </a:lnTo>
                  <a:lnTo>
                    <a:pt x="594" y="460"/>
                  </a:lnTo>
                  <a:lnTo>
                    <a:pt x="672" y="446"/>
                  </a:lnTo>
                  <a:lnTo>
                    <a:pt x="672" y="410"/>
                  </a:lnTo>
                  <a:lnTo>
                    <a:pt x="588" y="422"/>
                  </a:lnTo>
                  <a:lnTo>
                    <a:pt x="588" y="422"/>
                  </a:lnTo>
                  <a:lnTo>
                    <a:pt x="582" y="406"/>
                  </a:lnTo>
                  <a:lnTo>
                    <a:pt x="576" y="392"/>
                  </a:lnTo>
                  <a:lnTo>
                    <a:pt x="610" y="364"/>
                  </a:lnTo>
                  <a:lnTo>
                    <a:pt x="610" y="364"/>
                  </a:lnTo>
                  <a:lnTo>
                    <a:pt x="614" y="360"/>
                  </a:lnTo>
                  <a:lnTo>
                    <a:pt x="614" y="356"/>
                  </a:lnTo>
                  <a:lnTo>
                    <a:pt x="614" y="356"/>
                  </a:lnTo>
                  <a:lnTo>
                    <a:pt x="614" y="352"/>
                  </a:lnTo>
                  <a:lnTo>
                    <a:pt x="612" y="348"/>
                  </a:lnTo>
                  <a:lnTo>
                    <a:pt x="612" y="348"/>
                  </a:lnTo>
                  <a:lnTo>
                    <a:pt x="608" y="344"/>
                  </a:lnTo>
                  <a:lnTo>
                    <a:pt x="604" y="342"/>
                  </a:lnTo>
                  <a:lnTo>
                    <a:pt x="600" y="344"/>
                  </a:lnTo>
                  <a:lnTo>
                    <a:pt x="594" y="346"/>
                  </a:lnTo>
                  <a:lnTo>
                    <a:pt x="560" y="374"/>
                  </a:lnTo>
                  <a:lnTo>
                    <a:pt x="560" y="374"/>
                  </a:lnTo>
                  <a:lnTo>
                    <a:pt x="550" y="366"/>
                  </a:lnTo>
                  <a:lnTo>
                    <a:pt x="540" y="358"/>
                  </a:lnTo>
                  <a:lnTo>
                    <a:pt x="602" y="190"/>
                  </a:lnTo>
                  <a:lnTo>
                    <a:pt x="672" y="156"/>
                  </a:lnTo>
                  <a:lnTo>
                    <a:pt x="672" y="134"/>
                  </a:lnTo>
                  <a:lnTo>
                    <a:pt x="612" y="160"/>
                  </a:lnTo>
                  <a:lnTo>
                    <a:pt x="624" y="128"/>
                  </a:lnTo>
                  <a:lnTo>
                    <a:pt x="672" y="104"/>
                  </a:lnTo>
                  <a:lnTo>
                    <a:pt x="672" y="84"/>
                  </a:lnTo>
                  <a:lnTo>
                    <a:pt x="634" y="100"/>
                  </a:lnTo>
                  <a:lnTo>
                    <a:pt x="666" y="10"/>
                  </a:lnTo>
                  <a:lnTo>
                    <a:pt x="644" y="0"/>
                  </a:lnTo>
                  <a:lnTo>
                    <a:pt x="606" y="92"/>
                  </a:lnTo>
                  <a:lnTo>
                    <a:pt x="572" y="18"/>
                  </a:lnTo>
                  <a:lnTo>
                    <a:pt x="556" y="26"/>
                  </a:lnTo>
                  <a:lnTo>
                    <a:pt x="596" y="120"/>
                  </a:lnTo>
                  <a:lnTo>
                    <a:pt x="582" y="152"/>
                  </a:lnTo>
                  <a:lnTo>
                    <a:pt x="536" y="52"/>
                  </a:lnTo>
                  <a:lnTo>
                    <a:pt x="518" y="58"/>
                  </a:lnTo>
                  <a:lnTo>
                    <a:pt x="570" y="182"/>
                  </a:lnTo>
                  <a:lnTo>
                    <a:pt x="504" y="344"/>
                  </a:lnTo>
                  <a:lnTo>
                    <a:pt x="504" y="344"/>
                  </a:lnTo>
                  <a:lnTo>
                    <a:pt x="490" y="342"/>
                  </a:lnTo>
                  <a:lnTo>
                    <a:pt x="476" y="342"/>
                  </a:lnTo>
                  <a:lnTo>
                    <a:pt x="468" y="298"/>
                  </a:lnTo>
                  <a:lnTo>
                    <a:pt x="468" y="298"/>
                  </a:lnTo>
                  <a:lnTo>
                    <a:pt x="468" y="296"/>
                  </a:lnTo>
                  <a:lnTo>
                    <a:pt x="468" y="296"/>
                  </a:lnTo>
                  <a:lnTo>
                    <a:pt x="468" y="294"/>
                  </a:lnTo>
                  <a:lnTo>
                    <a:pt x="468" y="294"/>
                  </a:lnTo>
                  <a:lnTo>
                    <a:pt x="468" y="294"/>
                  </a:lnTo>
                  <a:lnTo>
                    <a:pt x="468" y="294"/>
                  </a:lnTo>
                  <a:lnTo>
                    <a:pt x="470" y="290"/>
                  </a:lnTo>
                  <a:lnTo>
                    <a:pt x="470" y="290"/>
                  </a:lnTo>
                  <a:lnTo>
                    <a:pt x="468" y="290"/>
                  </a:lnTo>
                  <a:lnTo>
                    <a:pt x="468" y="290"/>
                  </a:lnTo>
                  <a:lnTo>
                    <a:pt x="464" y="288"/>
                  </a:lnTo>
                  <a:lnTo>
                    <a:pt x="464" y="288"/>
                  </a:lnTo>
                  <a:lnTo>
                    <a:pt x="464" y="288"/>
                  </a:lnTo>
                  <a:lnTo>
                    <a:pt x="464" y="288"/>
                  </a:lnTo>
                  <a:lnTo>
                    <a:pt x="458" y="286"/>
                  </a:lnTo>
                  <a:lnTo>
                    <a:pt x="458" y="286"/>
                  </a:lnTo>
                  <a:lnTo>
                    <a:pt x="460" y="288"/>
                  </a:lnTo>
                  <a:lnTo>
                    <a:pt x="460" y="288"/>
                  </a:lnTo>
                  <a:lnTo>
                    <a:pt x="456" y="288"/>
                  </a:lnTo>
                  <a:lnTo>
                    <a:pt x="454" y="288"/>
                  </a:lnTo>
                  <a:lnTo>
                    <a:pt x="454" y="288"/>
                  </a:lnTo>
                  <a:lnTo>
                    <a:pt x="450" y="288"/>
                  </a:lnTo>
                  <a:lnTo>
                    <a:pt x="446" y="290"/>
                  </a:lnTo>
                  <a:lnTo>
                    <a:pt x="444" y="298"/>
                  </a:lnTo>
                  <a:lnTo>
                    <a:pt x="444" y="298"/>
                  </a:lnTo>
                  <a:lnTo>
                    <a:pt x="444" y="300"/>
                  </a:lnTo>
                  <a:lnTo>
                    <a:pt x="444" y="300"/>
                  </a:lnTo>
                  <a:lnTo>
                    <a:pt x="444" y="302"/>
                  </a:lnTo>
                  <a:lnTo>
                    <a:pt x="450" y="346"/>
                  </a:lnTo>
                  <a:lnTo>
                    <a:pt x="450" y="346"/>
                  </a:lnTo>
                  <a:lnTo>
                    <a:pt x="438" y="350"/>
                  </a:lnTo>
                  <a:lnTo>
                    <a:pt x="426" y="356"/>
                  </a:lnTo>
                  <a:lnTo>
                    <a:pt x="310" y="216"/>
                  </a:lnTo>
                  <a:lnTo>
                    <a:pt x="320" y="90"/>
                  </a:lnTo>
                  <a:lnTo>
                    <a:pt x="302" y="88"/>
                  </a:lnTo>
                  <a:lnTo>
                    <a:pt x="288" y="192"/>
                  </a:lnTo>
                  <a:lnTo>
                    <a:pt x="266" y="166"/>
                  </a:lnTo>
                  <a:lnTo>
                    <a:pt x="276" y="70"/>
                  </a:lnTo>
                  <a:lnTo>
                    <a:pt x="258" y="68"/>
                  </a:lnTo>
                  <a:lnTo>
                    <a:pt x="248" y="144"/>
                  </a:lnTo>
                  <a:lnTo>
                    <a:pt x="188" y="72"/>
                  </a:lnTo>
                  <a:lnTo>
                    <a:pt x="168" y="88"/>
                  </a:lnTo>
                  <a:lnTo>
                    <a:pt x="228" y="164"/>
                  </a:lnTo>
                  <a:lnTo>
                    <a:pt x="148" y="158"/>
                  </a:lnTo>
                  <a:lnTo>
                    <a:pt x="146" y="174"/>
                  </a:lnTo>
                  <a:lnTo>
                    <a:pt x="246" y="188"/>
                  </a:lnTo>
                  <a:lnTo>
                    <a:pt x="268" y="214"/>
                  </a:lnTo>
                  <a:lnTo>
                    <a:pt x="156" y="204"/>
                  </a:lnTo>
                  <a:lnTo>
                    <a:pt x="154" y="222"/>
                  </a:lnTo>
                  <a:lnTo>
                    <a:pt x="288" y="240"/>
                  </a:lnTo>
                  <a:lnTo>
                    <a:pt x="396" y="380"/>
                  </a:lnTo>
                  <a:lnTo>
                    <a:pt x="396" y="380"/>
                  </a:lnTo>
                  <a:lnTo>
                    <a:pt x="388" y="392"/>
                  </a:lnTo>
                  <a:lnTo>
                    <a:pt x="380" y="404"/>
                  </a:lnTo>
                  <a:lnTo>
                    <a:pt x="338" y="386"/>
                  </a:lnTo>
                  <a:lnTo>
                    <a:pt x="338" y="386"/>
                  </a:lnTo>
                  <a:lnTo>
                    <a:pt x="334" y="386"/>
                  </a:lnTo>
                  <a:lnTo>
                    <a:pt x="328" y="388"/>
                  </a:lnTo>
                  <a:lnTo>
                    <a:pt x="326" y="390"/>
                  </a:lnTo>
                  <a:lnTo>
                    <a:pt x="322" y="394"/>
                  </a:lnTo>
                  <a:lnTo>
                    <a:pt x="322" y="394"/>
                  </a:lnTo>
                  <a:lnTo>
                    <a:pt x="322" y="398"/>
                  </a:lnTo>
                  <a:lnTo>
                    <a:pt x="322" y="404"/>
                  </a:lnTo>
                  <a:lnTo>
                    <a:pt x="326" y="408"/>
                  </a:lnTo>
                  <a:lnTo>
                    <a:pt x="330" y="410"/>
                  </a:lnTo>
                  <a:lnTo>
                    <a:pt x="372" y="426"/>
                  </a:lnTo>
                  <a:lnTo>
                    <a:pt x="372" y="426"/>
                  </a:lnTo>
                  <a:lnTo>
                    <a:pt x="370" y="438"/>
                  </a:lnTo>
                  <a:lnTo>
                    <a:pt x="368" y="450"/>
                  </a:lnTo>
                  <a:lnTo>
                    <a:pt x="188" y="482"/>
                  </a:lnTo>
                  <a:lnTo>
                    <a:pt x="82" y="410"/>
                  </a:lnTo>
                  <a:lnTo>
                    <a:pt x="72" y="424"/>
                  </a:lnTo>
                  <a:lnTo>
                    <a:pt x="156" y="488"/>
                  </a:lnTo>
                  <a:lnTo>
                    <a:pt x="122" y="494"/>
                  </a:lnTo>
                  <a:lnTo>
                    <a:pt x="44" y="440"/>
                  </a:lnTo>
                  <a:lnTo>
                    <a:pt x="32" y="454"/>
                  </a:lnTo>
                  <a:lnTo>
                    <a:pt x="92" y="500"/>
                  </a:lnTo>
                  <a:lnTo>
                    <a:pt x="0" y="516"/>
                  </a:lnTo>
                  <a:lnTo>
                    <a:pt x="0" y="528"/>
                  </a:lnTo>
                  <a:lnTo>
                    <a:pt x="2" y="540"/>
                  </a:lnTo>
                  <a:lnTo>
                    <a:pt x="100" y="528"/>
                  </a:lnTo>
                  <a:lnTo>
                    <a:pt x="54" y="594"/>
                  </a:lnTo>
                  <a:lnTo>
                    <a:pt x="68" y="604"/>
                  </a:lnTo>
                  <a:lnTo>
                    <a:pt x="130" y="524"/>
                  </a:lnTo>
                  <a:lnTo>
                    <a:pt x="164" y="518"/>
                  </a:lnTo>
                  <a:lnTo>
                    <a:pt x="100" y="610"/>
                  </a:lnTo>
                  <a:lnTo>
                    <a:pt x="116" y="620"/>
                  </a:lnTo>
                  <a:lnTo>
                    <a:pt x="196" y="514"/>
                  </a:lnTo>
                  <a:lnTo>
                    <a:pt x="374" y="490"/>
                  </a:lnTo>
                  <a:lnTo>
                    <a:pt x="374" y="490"/>
                  </a:lnTo>
                  <a:lnTo>
                    <a:pt x="380" y="502"/>
                  </a:lnTo>
                  <a:lnTo>
                    <a:pt x="386" y="516"/>
                  </a:lnTo>
                  <a:lnTo>
                    <a:pt x="352" y="544"/>
                  </a:lnTo>
                  <a:lnTo>
                    <a:pt x="352" y="544"/>
                  </a:lnTo>
                  <a:lnTo>
                    <a:pt x="348" y="548"/>
                  </a:lnTo>
                  <a:lnTo>
                    <a:pt x="346" y="552"/>
                  </a:lnTo>
                  <a:lnTo>
                    <a:pt x="348" y="558"/>
                  </a:lnTo>
                  <a:lnTo>
                    <a:pt x="350" y="562"/>
                  </a:lnTo>
                  <a:lnTo>
                    <a:pt x="350" y="562"/>
                  </a:lnTo>
                  <a:lnTo>
                    <a:pt x="354" y="564"/>
                  </a:lnTo>
                  <a:lnTo>
                    <a:pt x="358" y="566"/>
                  </a:lnTo>
                  <a:lnTo>
                    <a:pt x="362" y="566"/>
                  </a:lnTo>
                  <a:lnTo>
                    <a:pt x="366" y="564"/>
                  </a:lnTo>
                  <a:lnTo>
                    <a:pt x="402" y="534"/>
                  </a:lnTo>
                  <a:lnTo>
                    <a:pt x="402" y="534"/>
                  </a:lnTo>
                  <a:lnTo>
                    <a:pt x="420" y="548"/>
                  </a:lnTo>
                  <a:lnTo>
                    <a:pt x="356" y="722"/>
                  </a:lnTo>
                  <a:lnTo>
                    <a:pt x="240" y="776"/>
                  </a:lnTo>
                  <a:lnTo>
                    <a:pt x="248" y="794"/>
                  </a:lnTo>
                  <a:lnTo>
                    <a:pt x="346" y="752"/>
                  </a:lnTo>
                  <a:lnTo>
                    <a:pt x="334" y="784"/>
                  </a:lnTo>
                  <a:lnTo>
                    <a:pt x="246" y="826"/>
                  </a:lnTo>
                  <a:lnTo>
                    <a:pt x="254" y="842"/>
                  </a:lnTo>
                  <a:lnTo>
                    <a:pt x="324" y="812"/>
                  </a:lnTo>
                  <a:lnTo>
                    <a:pt x="292" y="902"/>
                  </a:lnTo>
                  <a:lnTo>
                    <a:pt x="310" y="910"/>
                  </a:lnTo>
                  <a:lnTo>
                    <a:pt x="314" y="910"/>
                  </a:lnTo>
                  <a:lnTo>
                    <a:pt x="352" y="820"/>
                  </a:lnTo>
                  <a:lnTo>
                    <a:pt x="386" y="892"/>
                  </a:lnTo>
                  <a:lnTo>
                    <a:pt x="402" y="886"/>
                  </a:lnTo>
                  <a:lnTo>
                    <a:pt x="364" y="792"/>
                  </a:lnTo>
                  <a:lnTo>
                    <a:pt x="376" y="760"/>
                  </a:lnTo>
                  <a:lnTo>
                    <a:pt x="422" y="860"/>
                  </a:lnTo>
                  <a:lnTo>
                    <a:pt x="440" y="852"/>
                  </a:lnTo>
                  <a:lnTo>
                    <a:pt x="388" y="730"/>
                  </a:lnTo>
                  <a:lnTo>
                    <a:pt x="456" y="564"/>
                  </a:lnTo>
                  <a:lnTo>
                    <a:pt x="456" y="564"/>
                  </a:lnTo>
                  <a:lnTo>
                    <a:pt x="472" y="566"/>
                  </a:lnTo>
                  <a:lnTo>
                    <a:pt x="486" y="566"/>
                  </a:lnTo>
                  <a:lnTo>
                    <a:pt x="494" y="612"/>
                  </a:lnTo>
                  <a:lnTo>
                    <a:pt x="494" y="612"/>
                  </a:lnTo>
                  <a:lnTo>
                    <a:pt x="496" y="616"/>
                  </a:lnTo>
                  <a:lnTo>
                    <a:pt x="498" y="620"/>
                  </a:lnTo>
                  <a:lnTo>
                    <a:pt x="498" y="620"/>
                  </a:lnTo>
                  <a:lnTo>
                    <a:pt x="504" y="622"/>
                  </a:lnTo>
                  <a:lnTo>
                    <a:pt x="508" y="622"/>
                  </a:lnTo>
                  <a:lnTo>
                    <a:pt x="508" y="622"/>
                  </a:lnTo>
                  <a:lnTo>
                    <a:pt x="514" y="620"/>
                  </a:lnTo>
                  <a:lnTo>
                    <a:pt x="514" y="620"/>
                  </a:lnTo>
                  <a:lnTo>
                    <a:pt x="518" y="614"/>
                  </a:lnTo>
                  <a:lnTo>
                    <a:pt x="518" y="608"/>
                  </a:lnTo>
                  <a:lnTo>
                    <a:pt x="512" y="562"/>
                  </a:lnTo>
                  <a:lnTo>
                    <a:pt x="512" y="562"/>
                  </a:lnTo>
                  <a:lnTo>
                    <a:pt x="530" y="556"/>
                  </a:lnTo>
                  <a:lnTo>
                    <a:pt x="648" y="694"/>
                  </a:lnTo>
                  <a:lnTo>
                    <a:pt x="638" y="822"/>
                  </a:lnTo>
                  <a:lnTo>
                    <a:pt x="656" y="824"/>
                  </a:lnTo>
                  <a:lnTo>
                    <a:pt x="670" y="720"/>
                  </a:lnTo>
                  <a:lnTo>
                    <a:pt x="672" y="722"/>
                  </a:lnTo>
                  <a:lnTo>
                    <a:pt x="672" y="672"/>
                  </a:lnTo>
                  <a:close/>
                  <a:moveTo>
                    <a:pt x="532" y="518"/>
                  </a:moveTo>
                  <a:lnTo>
                    <a:pt x="532" y="518"/>
                  </a:lnTo>
                  <a:lnTo>
                    <a:pt x="518" y="526"/>
                  </a:lnTo>
                  <a:lnTo>
                    <a:pt x="504" y="532"/>
                  </a:lnTo>
                  <a:lnTo>
                    <a:pt x="488" y="534"/>
                  </a:lnTo>
                  <a:lnTo>
                    <a:pt x="472" y="534"/>
                  </a:lnTo>
                  <a:lnTo>
                    <a:pt x="458" y="532"/>
                  </a:lnTo>
                  <a:lnTo>
                    <a:pt x="442" y="526"/>
                  </a:lnTo>
                  <a:lnTo>
                    <a:pt x="430" y="516"/>
                  </a:lnTo>
                  <a:lnTo>
                    <a:pt x="418" y="504"/>
                  </a:lnTo>
                  <a:lnTo>
                    <a:pt x="418" y="504"/>
                  </a:lnTo>
                  <a:lnTo>
                    <a:pt x="410" y="492"/>
                  </a:lnTo>
                  <a:lnTo>
                    <a:pt x="404" y="476"/>
                  </a:lnTo>
                  <a:lnTo>
                    <a:pt x="400" y="462"/>
                  </a:lnTo>
                  <a:lnTo>
                    <a:pt x="400" y="446"/>
                  </a:lnTo>
                  <a:lnTo>
                    <a:pt x="404" y="430"/>
                  </a:lnTo>
                  <a:lnTo>
                    <a:pt x="410" y="416"/>
                  </a:lnTo>
                  <a:lnTo>
                    <a:pt x="418" y="402"/>
                  </a:lnTo>
                  <a:lnTo>
                    <a:pt x="430" y="392"/>
                  </a:lnTo>
                  <a:lnTo>
                    <a:pt x="430" y="392"/>
                  </a:lnTo>
                  <a:lnTo>
                    <a:pt x="444" y="382"/>
                  </a:lnTo>
                  <a:lnTo>
                    <a:pt x="458" y="376"/>
                  </a:lnTo>
                  <a:lnTo>
                    <a:pt x="474" y="374"/>
                  </a:lnTo>
                  <a:lnTo>
                    <a:pt x="490" y="374"/>
                  </a:lnTo>
                  <a:lnTo>
                    <a:pt x="504" y="378"/>
                  </a:lnTo>
                  <a:lnTo>
                    <a:pt x="520" y="384"/>
                  </a:lnTo>
                  <a:lnTo>
                    <a:pt x="532" y="392"/>
                  </a:lnTo>
                  <a:lnTo>
                    <a:pt x="544" y="404"/>
                  </a:lnTo>
                  <a:lnTo>
                    <a:pt x="544" y="404"/>
                  </a:lnTo>
                  <a:lnTo>
                    <a:pt x="552" y="418"/>
                  </a:lnTo>
                  <a:lnTo>
                    <a:pt x="558" y="432"/>
                  </a:lnTo>
                  <a:lnTo>
                    <a:pt x="562" y="448"/>
                  </a:lnTo>
                  <a:lnTo>
                    <a:pt x="562" y="462"/>
                  </a:lnTo>
                  <a:lnTo>
                    <a:pt x="558" y="478"/>
                  </a:lnTo>
                  <a:lnTo>
                    <a:pt x="552" y="492"/>
                  </a:lnTo>
                  <a:lnTo>
                    <a:pt x="544" y="506"/>
                  </a:lnTo>
                  <a:lnTo>
                    <a:pt x="532" y="518"/>
                  </a:lnTo>
                  <a:lnTo>
                    <a:pt x="532" y="518"/>
                  </a:lnTo>
                  <a:close/>
                </a:path>
              </a:pathLst>
            </a:custGeom>
            <a:solidFill>
              <a:srgbClr val="feffff">
                <a:alpha val="4000"/>
              </a:srgbClr>
            </a:solidFill>
            <a:ln w="0">
              <a:solidFill>
                <a:srgbClr val="feffff">
                  <a:alpha val="8000"/>
                </a:srgbClr>
              </a:solidFill>
            </a:ln>
            <a:effectLst>
              <a:glow rad="88920">
                <a:srgbClr val="feffff">
                  <a:alpha val="10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21" name="Freeform 12"/>
            <p:cNvSpPr/>
            <p:nvPr/>
          </p:nvSpPr>
          <p:spPr>
            <a:xfrm>
              <a:off x="6558120" y="5996160"/>
              <a:ext cx="1288800" cy="866880"/>
            </a:xfrm>
            <a:custGeom>
              <a:avLst/>
              <a:gdLst>
                <a:gd name="textAreaLeft" fmla="*/ 0 w 1288800"/>
                <a:gd name="textAreaRight" fmla="*/ 1289160 w 1288800"/>
                <a:gd name="textAreaTop" fmla="*/ 0 h 866880"/>
                <a:gd name="textAreaBottom" fmla="*/ 867240 h 866880"/>
              </a:gdLst>
              <a:ahLst/>
              <a:rect l="textAreaLeft" t="textAreaTop" r="textAreaRight" b="textAreaBottom"/>
              <a:pathLst>
                <a:path w="1106" h="744">
                  <a:moveTo>
                    <a:pt x="1102" y="414"/>
                  </a:moveTo>
                  <a:lnTo>
                    <a:pt x="982" y="434"/>
                  </a:lnTo>
                  <a:lnTo>
                    <a:pt x="1036" y="350"/>
                  </a:lnTo>
                  <a:lnTo>
                    <a:pt x="1026" y="344"/>
                  </a:lnTo>
                  <a:lnTo>
                    <a:pt x="958" y="440"/>
                  </a:lnTo>
                  <a:lnTo>
                    <a:pt x="772" y="472"/>
                  </a:lnTo>
                  <a:lnTo>
                    <a:pt x="886" y="292"/>
                  </a:lnTo>
                  <a:lnTo>
                    <a:pt x="874" y="284"/>
                  </a:lnTo>
                  <a:lnTo>
                    <a:pt x="736" y="478"/>
                  </a:lnTo>
                  <a:lnTo>
                    <a:pt x="668" y="490"/>
                  </a:lnTo>
                  <a:lnTo>
                    <a:pt x="668" y="490"/>
                  </a:lnTo>
                  <a:lnTo>
                    <a:pt x="660" y="472"/>
                  </a:lnTo>
                  <a:lnTo>
                    <a:pt x="648" y="456"/>
                  </a:lnTo>
                  <a:lnTo>
                    <a:pt x="648" y="456"/>
                  </a:lnTo>
                  <a:lnTo>
                    <a:pt x="638" y="446"/>
                  </a:lnTo>
                  <a:lnTo>
                    <a:pt x="628" y="438"/>
                  </a:lnTo>
                  <a:lnTo>
                    <a:pt x="616" y="430"/>
                  </a:lnTo>
                  <a:lnTo>
                    <a:pt x="604" y="424"/>
                  </a:lnTo>
                  <a:lnTo>
                    <a:pt x="626" y="358"/>
                  </a:lnTo>
                  <a:lnTo>
                    <a:pt x="856" y="240"/>
                  </a:lnTo>
                  <a:lnTo>
                    <a:pt x="848" y="226"/>
                  </a:lnTo>
                  <a:lnTo>
                    <a:pt x="636" y="326"/>
                  </a:lnTo>
                  <a:lnTo>
                    <a:pt x="694" y="142"/>
                  </a:lnTo>
                  <a:lnTo>
                    <a:pt x="792" y="92"/>
                  </a:lnTo>
                  <a:lnTo>
                    <a:pt x="786" y="80"/>
                  </a:lnTo>
                  <a:lnTo>
                    <a:pt x="702" y="120"/>
                  </a:lnTo>
                  <a:lnTo>
                    <a:pt x="738" y="8"/>
                  </a:lnTo>
                  <a:lnTo>
                    <a:pt x="718" y="0"/>
                  </a:lnTo>
                  <a:lnTo>
                    <a:pt x="676" y="116"/>
                  </a:lnTo>
                  <a:lnTo>
                    <a:pt x="630" y="26"/>
                  </a:lnTo>
                  <a:lnTo>
                    <a:pt x="620" y="32"/>
                  </a:lnTo>
                  <a:lnTo>
                    <a:pt x="668" y="138"/>
                  </a:lnTo>
                  <a:lnTo>
                    <a:pt x="604" y="316"/>
                  </a:lnTo>
                  <a:lnTo>
                    <a:pt x="506" y="126"/>
                  </a:lnTo>
                  <a:lnTo>
                    <a:pt x="492" y="134"/>
                  </a:lnTo>
                  <a:lnTo>
                    <a:pt x="592" y="350"/>
                  </a:lnTo>
                  <a:lnTo>
                    <a:pt x="568" y="412"/>
                  </a:lnTo>
                  <a:lnTo>
                    <a:pt x="568" y="412"/>
                  </a:lnTo>
                  <a:lnTo>
                    <a:pt x="544" y="410"/>
                  </a:lnTo>
                  <a:lnTo>
                    <a:pt x="520" y="414"/>
                  </a:lnTo>
                  <a:lnTo>
                    <a:pt x="496" y="420"/>
                  </a:lnTo>
                  <a:lnTo>
                    <a:pt x="474" y="432"/>
                  </a:lnTo>
                  <a:lnTo>
                    <a:pt x="432" y="386"/>
                  </a:lnTo>
                  <a:lnTo>
                    <a:pt x="446" y="128"/>
                  </a:lnTo>
                  <a:lnTo>
                    <a:pt x="430" y="126"/>
                  </a:lnTo>
                  <a:lnTo>
                    <a:pt x="410" y="362"/>
                  </a:lnTo>
                  <a:lnTo>
                    <a:pt x="278" y="218"/>
                  </a:lnTo>
                  <a:lnTo>
                    <a:pt x="284" y="108"/>
                  </a:lnTo>
                  <a:lnTo>
                    <a:pt x="272" y="106"/>
                  </a:lnTo>
                  <a:lnTo>
                    <a:pt x="262" y="200"/>
                  </a:lnTo>
                  <a:lnTo>
                    <a:pt x="182" y="110"/>
                  </a:lnTo>
                  <a:lnTo>
                    <a:pt x="166" y="124"/>
                  </a:lnTo>
                  <a:lnTo>
                    <a:pt x="246" y="218"/>
                  </a:lnTo>
                  <a:lnTo>
                    <a:pt x="146" y="214"/>
                  </a:lnTo>
                  <a:lnTo>
                    <a:pt x="146" y="228"/>
                  </a:lnTo>
                  <a:lnTo>
                    <a:pt x="262" y="238"/>
                  </a:lnTo>
                  <a:lnTo>
                    <a:pt x="384" y="384"/>
                  </a:lnTo>
                  <a:lnTo>
                    <a:pt x="172" y="374"/>
                  </a:lnTo>
                  <a:lnTo>
                    <a:pt x="170" y="390"/>
                  </a:lnTo>
                  <a:lnTo>
                    <a:pt x="408" y="412"/>
                  </a:lnTo>
                  <a:lnTo>
                    <a:pt x="446" y="458"/>
                  </a:lnTo>
                  <a:lnTo>
                    <a:pt x="446" y="458"/>
                  </a:lnTo>
                  <a:lnTo>
                    <a:pt x="438" y="468"/>
                  </a:lnTo>
                  <a:lnTo>
                    <a:pt x="430" y="480"/>
                  </a:lnTo>
                  <a:lnTo>
                    <a:pt x="424" y="490"/>
                  </a:lnTo>
                  <a:lnTo>
                    <a:pt x="420" y="504"/>
                  </a:lnTo>
                  <a:lnTo>
                    <a:pt x="416" y="516"/>
                  </a:lnTo>
                  <a:lnTo>
                    <a:pt x="414" y="528"/>
                  </a:lnTo>
                  <a:lnTo>
                    <a:pt x="414" y="542"/>
                  </a:lnTo>
                  <a:lnTo>
                    <a:pt x="414" y="554"/>
                  </a:lnTo>
                  <a:lnTo>
                    <a:pt x="360" y="566"/>
                  </a:lnTo>
                  <a:lnTo>
                    <a:pt x="142" y="426"/>
                  </a:lnTo>
                  <a:lnTo>
                    <a:pt x="134" y="440"/>
                  </a:lnTo>
                  <a:lnTo>
                    <a:pt x="326" y="574"/>
                  </a:lnTo>
                  <a:lnTo>
                    <a:pt x="136" y="616"/>
                  </a:lnTo>
                  <a:lnTo>
                    <a:pt x="44" y="556"/>
                  </a:lnTo>
                  <a:lnTo>
                    <a:pt x="38" y="566"/>
                  </a:lnTo>
                  <a:lnTo>
                    <a:pt x="114" y="620"/>
                  </a:lnTo>
                  <a:lnTo>
                    <a:pt x="0" y="646"/>
                  </a:lnTo>
                  <a:lnTo>
                    <a:pt x="0" y="650"/>
                  </a:lnTo>
                  <a:lnTo>
                    <a:pt x="2" y="664"/>
                  </a:lnTo>
                  <a:lnTo>
                    <a:pt x="124" y="644"/>
                  </a:lnTo>
                  <a:lnTo>
                    <a:pt x="68" y="728"/>
                  </a:lnTo>
                  <a:lnTo>
                    <a:pt x="80" y="736"/>
                  </a:lnTo>
                  <a:lnTo>
                    <a:pt x="146" y="640"/>
                  </a:lnTo>
                  <a:lnTo>
                    <a:pt x="334" y="606"/>
                  </a:lnTo>
                  <a:lnTo>
                    <a:pt x="246" y="744"/>
                  </a:lnTo>
                  <a:lnTo>
                    <a:pt x="268" y="744"/>
                  </a:lnTo>
                  <a:lnTo>
                    <a:pt x="370" y="600"/>
                  </a:lnTo>
                  <a:lnTo>
                    <a:pt x="422" y="592"/>
                  </a:lnTo>
                  <a:lnTo>
                    <a:pt x="422" y="592"/>
                  </a:lnTo>
                  <a:lnTo>
                    <a:pt x="432" y="612"/>
                  </a:lnTo>
                  <a:lnTo>
                    <a:pt x="446" y="632"/>
                  </a:lnTo>
                  <a:lnTo>
                    <a:pt x="446" y="632"/>
                  </a:lnTo>
                  <a:lnTo>
                    <a:pt x="458" y="644"/>
                  </a:lnTo>
                  <a:lnTo>
                    <a:pt x="470" y="652"/>
                  </a:lnTo>
                  <a:lnTo>
                    <a:pt x="482" y="660"/>
                  </a:lnTo>
                  <a:lnTo>
                    <a:pt x="496" y="668"/>
                  </a:lnTo>
                  <a:lnTo>
                    <a:pt x="480" y="720"/>
                  </a:lnTo>
                  <a:lnTo>
                    <a:pt x="434" y="744"/>
                  </a:lnTo>
                  <a:lnTo>
                    <a:pt x="520" y="744"/>
                  </a:lnTo>
                  <a:lnTo>
                    <a:pt x="514" y="728"/>
                  </a:lnTo>
                  <a:lnTo>
                    <a:pt x="532" y="676"/>
                  </a:lnTo>
                  <a:lnTo>
                    <a:pt x="532" y="676"/>
                  </a:lnTo>
                  <a:lnTo>
                    <a:pt x="546" y="678"/>
                  </a:lnTo>
                  <a:lnTo>
                    <a:pt x="558" y="676"/>
                  </a:lnTo>
                  <a:lnTo>
                    <a:pt x="572" y="674"/>
                  </a:lnTo>
                  <a:lnTo>
                    <a:pt x="584" y="672"/>
                  </a:lnTo>
                  <a:lnTo>
                    <a:pt x="596" y="668"/>
                  </a:lnTo>
                  <a:lnTo>
                    <a:pt x="608" y="662"/>
                  </a:lnTo>
                  <a:lnTo>
                    <a:pt x="620" y="656"/>
                  </a:lnTo>
                  <a:lnTo>
                    <a:pt x="632" y="648"/>
                  </a:lnTo>
                  <a:lnTo>
                    <a:pt x="672" y="692"/>
                  </a:lnTo>
                  <a:lnTo>
                    <a:pt x="670" y="744"/>
                  </a:lnTo>
                  <a:lnTo>
                    <a:pt x="692" y="744"/>
                  </a:lnTo>
                  <a:lnTo>
                    <a:pt x="696" y="718"/>
                  </a:lnTo>
                  <a:lnTo>
                    <a:pt x="720" y="744"/>
                  </a:lnTo>
                  <a:lnTo>
                    <a:pt x="762" y="744"/>
                  </a:lnTo>
                  <a:lnTo>
                    <a:pt x="720" y="696"/>
                  </a:lnTo>
                  <a:lnTo>
                    <a:pt x="934" y="706"/>
                  </a:lnTo>
                  <a:lnTo>
                    <a:pt x="934" y="690"/>
                  </a:lnTo>
                  <a:lnTo>
                    <a:pt x="696" y="668"/>
                  </a:lnTo>
                  <a:lnTo>
                    <a:pt x="656" y="620"/>
                  </a:lnTo>
                  <a:lnTo>
                    <a:pt x="656" y="620"/>
                  </a:lnTo>
                  <a:lnTo>
                    <a:pt x="668" y="598"/>
                  </a:lnTo>
                  <a:lnTo>
                    <a:pt x="676" y="574"/>
                  </a:lnTo>
                  <a:lnTo>
                    <a:pt x="680" y="550"/>
                  </a:lnTo>
                  <a:lnTo>
                    <a:pt x="678" y="526"/>
                  </a:lnTo>
                  <a:lnTo>
                    <a:pt x="746" y="512"/>
                  </a:lnTo>
                  <a:lnTo>
                    <a:pt x="962" y="652"/>
                  </a:lnTo>
                  <a:lnTo>
                    <a:pt x="972" y="640"/>
                  </a:lnTo>
                  <a:lnTo>
                    <a:pt x="778" y="504"/>
                  </a:lnTo>
                  <a:lnTo>
                    <a:pt x="968" y="464"/>
                  </a:lnTo>
                  <a:lnTo>
                    <a:pt x="1060" y="524"/>
                  </a:lnTo>
                  <a:lnTo>
                    <a:pt x="1068" y="512"/>
                  </a:lnTo>
                  <a:lnTo>
                    <a:pt x="990" y="458"/>
                  </a:lnTo>
                  <a:lnTo>
                    <a:pt x="1106" y="434"/>
                  </a:lnTo>
                  <a:lnTo>
                    <a:pt x="1102" y="414"/>
                  </a:lnTo>
                  <a:close/>
                  <a:moveTo>
                    <a:pt x="608" y="614"/>
                  </a:moveTo>
                  <a:lnTo>
                    <a:pt x="608" y="614"/>
                  </a:lnTo>
                  <a:lnTo>
                    <a:pt x="592" y="626"/>
                  </a:lnTo>
                  <a:lnTo>
                    <a:pt x="576" y="632"/>
                  </a:lnTo>
                  <a:lnTo>
                    <a:pt x="558" y="636"/>
                  </a:lnTo>
                  <a:lnTo>
                    <a:pt x="540" y="638"/>
                  </a:lnTo>
                  <a:lnTo>
                    <a:pt x="522" y="634"/>
                  </a:lnTo>
                  <a:lnTo>
                    <a:pt x="506" y="628"/>
                  </a:lnTo>
                  <a:lnTo>
                    <a:pt x="490" y="618"/>
                  </a:lnTo>
                  <a:lnTo>
                    <a:pt x="476" y="606"/>
                  </a:lnTo>
                  <a:lnTo>
                    <a:pt x="476" y="606"/>
                  </a:lnTo>
                  <a:lnTo>
                    <a:pt x="466" y="590"/>
                  </a:lnTo>
                  <a:lnTo>
                    <a:pt x="458" y="574"/>
                  </a:lnTo>
                  <a:lnTo>
                    <a:pt x="454" y="556"/>
                  </a:lnTo>
                  <a:lnTo>
                    <a:pt x="454" y="538"/>
                  </a:lnTo>
                  <a:lnTo>
                    <a:pt x="456" y="520"/>
                  </a:lnTo>
                  <a:lnTo>
                    <a:pt x="464" y="504"/>
                  </a:lnTo>
                  <a:lnTo>
                    <a:pt x="472" y="488"/>
                  </a:lnTo>
                  <a:lnTo>
                    <a:pt x="486" y="474"/>
                  </a:lnTo>
                  <a:lnTo>
                    <a:pt x="486" y="474"/>
                  </a:lnTo>
                  <a:lnTo>
                    <a:pt x="502" y="462"/>
                  </a:lnTo>
                  <a:lnTo>
                    <a:pt x="518" y="456"/>
                  </a:lnTo>
                  <a:lnTo>
                    <a:pt x="536" y="452"/>
                  </a:lnTo>
                  <a:lnTo>
                    <a:pt x="554" y="452"/>
                  </a:lnTo>
                  <a:lnTo>
                    <a:pt x="572" y="454"/>
                  </a:lnTo>
                  <a:lnTo>
                    <a:pt x="588" y="460"/>
                  </a:lnTo>
                  <a:lnTo>
                    <a:pt x="604" y="470"/>
                  </a:lnTo>
                  <a:lnTo>
                    <a:pt x="618" y="482"/>
                  </a:lnTo>
                  <a:lnTo>
                    <a:pt x="618" y="482"/>
                  </a:lnTo>
                  <a:lnTo>
                    <a:pt x="628" y="498"/>
                  </a:lnTo>
                  <a:lnTo>
                    <a:pt x="636" y="516"/>
                  </a:lnTo>
                  <a:lnTo>
                    <a:pt x="640" y="532"/>
                  </a:lnTo>
                  <a:lnTo>
                    <a:pt x="640" y="550"/>
                  </a:lnTo>
                  <a:lnTo>
                    <a:pt x="638" y="568"/>
                  </a:lnTo>
                  <a:lnTo>
                    <a:pt x="630" y="586"/>
                  </a:lnTo>
                  <a:lnTo>
                    <a:pt x="622" y="600"/>
                  </a:lnTo>
                  <a:lnTo>
                    <a:pt x="608" y="614"/>
                  </a:lnTo>
                  <a:lnTo>
                    <a:pt x="608" y="614"/>
                  </a:lnTo>
                  <a:close/>
                </a:path>
              </a:pathLst>
            </a:custGeom>
            <a:solidFill>
              <a:srgbClr val="feffff">
                <a:alpha val="4000"/>
              </a:srgbClr>
            </a:solidFill>
            <a:ln w="0">
              <a:solidFill>
                <a:srgbClr val="feffff">
                  <a:alpha val="13000"/>
                </a:srgbClr>
              </a:solidFill>
            </a:ln>
            <a:effectLst>
              <a:glow rad="101520">
                <a:srgbClr val="feffff">
                  <a:alpha val="13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22" name="Freeform 16"/>
            <p:cNvSpPr/>
            <p:nvPr/>
          </p:nvSpPr>
          <p:spPr>
            <a:xfrm>
              <a:off x="8126640" y="6307560"/>
              <a:ext cx="975960" cy="550080"/>
            </a:xfrm>
            <a:custGeom>
              <a:avLst/>
              <a:gdLst>
                <a:gd name="textAreaLeft" fmla="*/ 0 w 975960"/>
                <a:gd name="textAreaRight" fmla="*/ 976320 w 975960"/>
                <a:gd name="textAreaTop" fmla="*/ 0 h 550080"/>
                <a:gd name="textAreaBottom" fmla="*/ 550440 h 5500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8" y="538"/>
                  </a:lnTo>
                  <a:lnTo>
                    <a:pt x="426" y="548"/>
                  </a:lnTo>
                  <a:lnTo>
                    <a:pt x="464" y="548"/>
                  </a:lnTo>
                  <a:lnTo>
                    <a:pt x="464" y="548"/>
                  </a:lnTo>
                  <a:lnTo>
                    <a:pt x="466" y="532"/>
                  </a:lnTo>
                  <a:lnTo>
                    <a:pt x="468" y="518"/>
                  </a:lnTo>
                  <a:lnTo>
                    <a:pt x="474" y="504"/>
                  </a:lnTo>
                  <a:lnTo>
                    <a:pt x="482" y="490"/>
                  </a:lnTo>
                  <a:lnTo>
                    <a:pt x="492" y="478"/>
                  </a:lnTo>
                  <a:lnTo>
                    <a:pt x="504" y="468"/>
                  </a:lnTo>
                  <a:lnTo>
                    <a:pt x="516" y="460"/>
                  </a:lnTo>
                  <a:lnTo>
                    <a:pt x="532" y="454"/>
                  </a:lnTo>
                  <a:lnTo>
                    <a:pt x="532" y="454"/>
                  </a:lnTo>
                  <a:lnTo>
                    <a:pt x="550" y="450"/>
                  </a:lnTo>
                  <a:lnTo>
                    <a:pt x="570" y="450"/>
                  </a:lnTo>
                  <a:lnTo>
                    <a:pt x="588" y="454"/>
                  </a:lnTo>
                  <a:lnTo>
                    <a:pt x="606" y="460"/>
                  </a:lnTo>
                  <a:lnTo>
                    <a:pt x="622" y="470"/>
                  </a:lnTo>
                  <a:lnTo>
                    <a:pt x="634" y="482"/>
                  </a:lnTo>
                  <a:lnTo>
                    <a:pt x="646" y="498"/>
                  </a:lnTo>
                  <a:lnTo>
                    <a:pt x="654" y="516"/>
                  </a:lnTo>
                  <a:lnTo>
                    <a:pt x="654" y="516"/>
                  </a:lnTo>
                  <a:lnTo>
                    <a:pt x="658" y="532"/>
                  </a:lnTo>
                  <a:lnTo>
                    <a:pt x="658" y="548"/>
                  </a:lnTo>
                  <a:lnTo>
                    <a:pt x="696" y="548"/>
                  </a:lnTo>
                  <a:lnTo>
                    <a:pt x="696" y="548"/>
                  </a:lnTo>
                  <a:lnTo>
                    <a:pt x="694" y="526"/>
                  </a:lnTo>
                  <a:lnTo>
                    <a:pt x="690" y="504"/>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sp>
        <p:nvSpPr>
          <p:cNvPr id="23" name="PlaceHolder 1"/>
          <p:cNvSpPr>
            <a:spLocks noGrp="1"/>
          </p:cNvSpPr>
          <p:nvPr>
            <p:ph type="dt" idx="1"/>
          </p:nvPr>
        </p:nvSpPr>
        <p:spPr>
          <a:xfrm>
            <a:off x="6437520" y="5951880"/>
            <a:ext cx="2133360" cy="364680"/>
          </a:xfrm>
          <a:prstGeom prst="rect">
            <a:avLst/>
          </a:prstGeom>
          <a:noFill/>
          <a:ln w="0">
            <a:noFill/>
          </a:ln>
        </p:spPr>
        <p:txBody>
          <a:bodyPr anchor="b">
            <a:noAutofit/>
          </a:bodyPr>
          <a:lstStyle>
            <a:lvl1pPr indent="0" algn="r" rtl="1">
              <a:lnSpc>
                <a:spcPct val="100000"/>
              </a:lnSpc>
              <a:buNone/>
              <a:defRPr b="0" lang="en-US" sz="900" spc="-1" strike="noStrike">
                <a:solidFill>
                  <a:srgbClr val="ffffff"/>
                </a:solidFill>
                <a:latin typeface="Verdana"/>
              </a:defRPr>
            </a:lvl1pPr>
          </a:lstStyle>
          <a:p>
            <a:pPr indent="0" algn="r" rtl="1">
              <a:lnSpc>
                <a:spcPct val="100000"/>
              </a:lnSpc>
              <a:buNone/>
            </a:pPr>
            <a:r>
              <a:rPr b="0" lang="en-US" sz="900" spc="-1" strike="noStrike">
                <a:solidFill>
                  <a:srgbClr val="ffffff"/>
                </a:solidFill>
                <a:latin typeface="Verdana"/>
              </a:rPr>
              <a:t>&lt;date/time&gt;</a:t>
            </a:r>
            <a:endParaRPr b="0" lang="en-US" sz="900" spc="-1" strike="noStrike">
              <a:solidFill>
                <a:srgbClr val="000000"/>
              </a:solidFill>
              <a:latin typeface="Times New Roman"/>
            </a:endParaRPr>
          </a:p>
        </p:txBody>
      </p:sp>
      <p:sp>
        <p:nvSpPr>
          <p:cNvPr id="24" name="PlaceHolder 2"/>
          <p:cNvSpPr>
            <a:spLocks noGrp="1"/>
          </p:cNvSpPr>
          <p:nvPr>
            <p:ph type="ftr" idx="2"/>
          </p:nvPr>
        </p:nvSpPr>
        <p:spPr>
          <a:xfrm>
            <a:off x="1180800" y="5951880"/>
            <a:ext cx="5256000" cy="36468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3"/>
          <p:cNvSpPr>
            <a:spLocks noGrp="1"/>
          </p:cNvSpPr>
          <p:nvPr>
            <p:ph type="sldNum" idx="3"/>
          </p:nvPr>
        </p:nvSpPr>
        <p:spPr>
          <a:xfrm>
            <a:off x="572760" y="5951880"/>
            <a:ext cx="608040" cy="364680"/>
          </a:xfrm>
          <a:prstGeom prst="rect">
            <a:avLst/>
          </a:prstGeom>
          <a:noFill/>
          <a:ln w="0">
            <a:noFill/>
          </a:ln>
        </p:spPr>
        <p:txBody>
          <a:bodyPr anchor="b">
            <a:noAutofit/>
          </a:bodyPr>
          <a:lstStyle>
            <a:lvl1pPr indent="0" rtl="1">
              <a:lnSpc>
                <a:spcPct val="100000"/>
              </a:lnSpc>
              <a:buNone/>
              <a:defRPr b="0" lang="en-US" sz="1800" spc="-1" strike="noStrike">
                <a:solidFill>
                  <a:srgbClr val="ffffff"/>
                </a:solidFill>
                <a:latin typeface="Verdana"/>
              </a:defRPr>
            </a:lvl1pPr>
          </a:lstStyle>
          <a:p>
            <a:pPr indent="0" rtl="1">
              <a:lnSpc>
                <a:spcPct val="100000"/>
              </a:lnSpc>
              <a:buNone/>
            </a:pPr>
            <a:fld id="{A7202A62-4482-4B37-8EF1-242FB1E9991C}" type="slidenum">
              <a:rPr b="0" lang="en-US" sz="1800" spc="-1" strike="noStrike">
                <a:solidFill>
                  <a:srgbClr val="ffffff"/>
                </a:solidFill>
                <a:latin typeface="Verdana"/>
              </a:rPr>
              <a:t>&lt;number&gt;</a:t>
            </a:fld>
            <a:endParaRPr b="0" lang="en-US" sz="1800" spc="-1" strike="noStrike">
              <a:solidFill>
                <a:srgbClr val="000000"/>
              </a:solidFill>
              <a:latin typeface="Times New Roman"/>
            </a:endParaRPr>
          </a:p>
        </p:txBody>
      </p:sp>
      <p:sp>
        <p:nvSpPr>
          <p:cNvPr id="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ffffff"/>
                </a:solidFill>
                <a:latin typeface="Verdana"/>
              </a:rPr>
              <a:t>Click to edit the title text format</a:t>
            </a:r>
            <a:endParaRPr b="0" lang="en-US" sz="1800" spc="-1" strike="noStrike">
              <a:solidFill>
                <a:srgbClr val="ffffff"/>
              </a:solidFill>
              <a:latin typeface="Verdana"/>
            </a:endParaRPr>
          </a:p>
        </p:txBody>
      </p:sp>
      <p:sp>
        <p:nvSpPr>
          <p:cNvPr id="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864000" indent="-324000" algn="r" rtl="1">
              <a:spcBef>
                <a:spcPts val="1134"/>
              </a:spcBef>
              <a:buClr>
                <a:srgbClr val="000000"/>
              </a:buClr>
              <a:buSzPct val="75000"/>
              <a:buFont typeface="Symbol" charset="2"/>
              <a:buChar char=""/>
            </a:pPr>
            <a:r>
              <a:rPr b="0" lang="en-US" sz="1400" spc="-1" strike="noStrike">
                <a:solidFill>
                  <a:srgbClr val="ffffff"/>
                </a:solidFill>
                <a:latin typeface="Verdana"/>
              </a:rPr>
              <a:t>Second Outline Level</a:t>
            </a:r>
            <a:endParaRPr b="0" lang="en-US" sz="1400" spc="-1" strike="noStrike">
              <a:solidFill>
                <a:srgbClr val="ffffff"/>
              </a:solidFill>
              <a:latin typeface="Verdana"/>
            </a:endParaRPr>
          </a:p>
          <a:p>
            <a:pPr lvl="2" marL="1296000" indent="-288000" algn="r" rtl="1">
              <a:spcBef>
                <a:spcPts val="850"/>
              </a:spcBef>
              <a:buClr>
                <a:srgbClr val="000000"/>
              </a:buClr>
              <a:buSzPct val="45000"/>
              <a:buFont typeface="Wingdings" charset="2"/>
              <a:buChar char=""/>
            </a:pPr>
            <a:r>
              <a:rPr b="0" lang="en-US" sz="1200" spc="-1" strike="noStrike">
                <a:solidFill>
                  <a:srgbClr val="ffffff"/>
                </a:solidFill>
                <a:latin typeface="Verdana"/>
              </a:rPr>
              <a:t>Third Outline Level</a:t>
            </a:r>
            <a:endParaRPr b="0" lang="en-US" sz="1200" spc="-1" strike="noStrike">
              <a:solidFill>
                <a:srgbClr val="ffffff"/>
              </a:solidFill>
              <a:latin typeface="Verdana"/>
            </a:endParaRPr>
          </a:p>
          <a:p>
            <a:pPr lvl="3" marL="1728000" indent="-216000" algn="r" rtl="1">
              <a:spcBef>
                <a:spcPts val="567"/>
              </a:spcBef>
              <a:buClr>
                <a:srgbClr val="000000"/>
              </a:buClr>
              <a:buSzPct val="75000"/>
              <a:buFont typeface="Symbol" charset="2"/>
              <a:buChar char=""/>
            </a:pPr>
            <a:r>
              <a:rPr b="0" lang="en-US" sz="1200" spc="-1" strike="noStrike">
                <a:solidFill>
                  <a:srgbClr val="ffffff"/>
                </a:solidFill>
                <a:latin typeface="Verdana"/>
              </a:rPr>
              <a:t>Fourth Outline Level</a:t>
            </a:r>
            <a:endParaRPr b="0" lang="en-US" sz="1200" spc="-1" strike="noStrike">
              <a:solidFill>
                <a:srgbClr val="ffffff"/>
              </a:solidFill>
              <a:latin typeface="Verdana"/>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0" y="0"/>
            <a:ext cx="9143640" cy="6790680"/>
          </a:xfrm>
          <a:prstGeom prst="rect">
            <a:avLst/>
          </a:prstGeom>
          <a:noFill/>
          <a:ln w="0">
            <a:noFill/>
          </a:ln>
        </p:spPr>
        <p:style>
          <a:lnRef idx="0"/>
          <a:fillRef idx="0"/>
          <a:effectRef idx="0"/>
          <a:fontRef idx="minor"/>
        </p:style>
        <p:txBody>
          <a:bodyPr lIns="90000" rIns="90000" tIns="45000" bIns="45000" anchor="t">
            <a:spAutoFit/>
          </a:bodyPr>
          <a:p>
            <a:pPr algn="ctr" rtl="1">
              <a:lnSpc>
                <a:spcPct val="115000"/>
              </a:lnSpc>
              <a:spcAft>
                <a:spcPts val="1001"/>
              </a:spcAft>
            </a:pPr>
            <a:endParaRPr b="0" lang="en-US" sz="4400" spc="-1" strike="noStrike">
              <a:solidFill>
                <a:srgbClr val="000000"/>
              </a:solidFill>
              <a:latin typeface="Arial"/>
            </a:endParaRPr>
          </a:p>
          <a:p>
            <a:pPr algn="ctr" rtl="1">
              <a:lnSpc>
                <a:spcPct val="115000"/>
              </a:lnSpc>
              <a:spcAft>
                <a:spcPts val="1001"/>
              </a:spcAft>
            </a:pPr>
            <a:r>
              <a:rPr b="1" lang="ar-IQ" sz="4400" spc="-1" strike="noStrike">
                <a:solidFill>
                  <a:srgbClr val="ffffff"/>
                </a:solidFill>
                <a:latin typeface="Verdana"/>
              </a:rPr>
              <a:t>التوافق بين كلف الجودة وهندسة القيمة لتخفيض التكاليف</a:t>
            </a:r>
            <a:endParaRPr b="0" lang="en-US" sz="4400" spc="-1" strike="noStrike">
              <a:solidFill>
                <a:srgbClr val="000000"/>
              </a:solidFill>
              <a:latin typeface="Arial"/>
            </a:endParaRPr>
          </a:p>
          <a:p>
            <a:pPr algn="ctr" rtl="1">
              <a:lnSpc>
                <a:spcPct val="115000"/>
              </a:lnSpc>
              <a:spcAft>
                <a:spcPts val="1001"/>
              </a:spcAft>
            </a:pPr>
            <a:r>
              <a:rPr b="1" lang="ar-IQ" sz="4400" spc="-1" strike="noStrike">
                <a:solidFill>
                  <a:srgbClr val="ffffff"/>
                </a:solidFill>
                <a:latin typeface="Verdana"/>
              </a:rPr>
              <a:t>محاضرة من اعداد</a:t>
            </a:r>
            <a:endParaRPr b="0" lang="en-US" sz="4400" spc="-1" strike="noStrike">
              <a:solidFill>
                <a:srgbClr val="000000"/>
              </a:solidFill>
              <a:latin typeface="Arial"/>
            </a:endParaRPr>
          </a:p>
          <a:p>
            <a:pPr algn="ctr" rtl="1">
              <a:lnSpc>
                <a:spcPct val="115000"/>
              </a:lnSpc>
              <a:spcAft>
                <a:spcPts val="1001"/>
              </a:spcAft>
            </a:pPr>
            <a:r>
              <a:rPr b="1" lang="ar-IQ" sz="4400" spc="-1" strike="noStrike">
                <a:solidFill>
                  <a:srgbClr val="ffffff"/>
                </a:solidFill>
                <a:latin typeface="Verdana"/>
              </a:rPr>
              <a:t>الاستاذ الدكتورة منال جبار سرور </a:t>
            </a:r>
            <a:endParaRPr b="0" lang="en-US" sz="4400" spc="-1" strike="noStrike">
              <a:solidFill>
                <a:srgbClr val="000000"/>
              </a:solidFill>
              <a:latin typeface="Arial"/>
            </a:endParaRPr>
          </a:p>
          <a:p>
            <a:pPr algn="ctr" rtl="1">
              <a:lnSpc>
                <a:spcPct val="115000"/>
              </a:lnSpc>
              <a:spcAft>
                <a:spcPts val="1001"/>
              </a:spcAft>
            </a:pPr>
            <a:r>
              <a:rPr b="1" lang="ar-IQ" sz="4400" spc="-1" strike="noStrike">
                <a:solidFill>
                  <a:srgbClr val="ffffff"/>
                </a:solidFill>
                <a:latin typeface="Verdana"/>
              </a:rPr>
              <a:t>كلية الادارة والاقتصاد/قسم المحاسبة</a:t>
            </a:r>
            <a:endParaRPr b="0" lang="en-US" sz="4400" spc="-1" strike="noStrike">
              <a:solidFill>
                <a:srgbClr val="000000"/>
              </a:solidFill>
              <a:latin typeface="Arial"/>
            </a:endParaRPr>
          </a:p>
          <a:p>
            <a:pPr algn="ctr" rtl="1">
              <a:lnSpc>
                <a:spcPct val="115000"/>
              </a:lnSpc>
              <a:spcAft>
                <a:spcPts val="1001"/>
              </a:spcAft>
            </a:pPr>
            <a:r>
              <a:rPr b="1" lang="ar-IQ" sz="4400" spc="-1" strike="noStrike">
                <a:solidFill>
                  <a:srgbClr val="ffffff"/>
                </a:solidFill>
                <a:latin typeface="Verdana"/>
              </a:rPr>
              <a:t>جامعة بغدا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a:off x="0" y="409680"/>
            <a:ext cx="9143640" cy="576612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15000"/>
              </a:lnSpc>
              <a:spcAft>
                <a:spcPts val="1001"/>
              </a:spcAft>
              <a:buClr>
                <a:srgbClr val="ffffff"/>
              </a:buClr>
              <a:buFont typeface="Verdana"/>
              <a:buAutoNum type="arabicParenR"/>
            </a:pPr>
            <a:r>
              <a:rPr b="1" lang="en-US" sz="3600" spc="-1" strike="noStrike">
                <a:solidFill>
                  <a:srgbClr val="ffffff"/>
                </a:solidFill>
                <a:latin typeface="Verdana"/>
                <a:ea typeface="Calibri"/>
              </a:rPr>
              <a:t>2</a:t>
            </a:r>
            <a:r>
              <a:rPr b="1" lang="en-US" sz="3600" spc="-1" strike="noStrike">
                <a:solidFill>
                  <a:srgbClr val="ffffff"/>
                </a:solidFill>
                <a:latin typeface="Verdana"/>
                <a:ea typeface="Calibri"/>
              </a:rPr>
              <a:t>)سمعة الوحدة الاقتصادية :ـ أن الجودة العالية لمنتجات الوحدة الاقتصادية تساعدها في تحسين سمعتها في السوق وبالتالي تمكينها من رسم سياستها وفقا" لذلك من خلال إنتاج منتجات جديدة أو التوسع بالإنتاج الحالي، حيث أن السمعة الجيدة للوحدة الاقتصادية تؤثر على ممارسات العاملين والعلاقات مع المجهزين وكذلك الزبائ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0" y="0"/>
            <a:ext cx="9036000" cy="5725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ffffff"/>
                </a:solidFill>
                <a:latin typeface="Verdana"/>
                <a:ea typeface="Calibri"/>
              </a:rPr>
              <a:t> </a:t>
            </a:r>
            <a:endParaRPr b="0" lang="en-US" sz="18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just" rtl="1">
              <a:lnSpc>
                <a:spcPct val="100000"/>
              </a:lnSpc>
            </a:pPr>
            <a:r>
              <a:rPr b="1" lang="ar-IQ" sz="3200" spc="-1" strike="noStrike">
                <a:solidFill>
                  <a:srgbClr val="ffffff"/>
                </a:solidFill>
                <a:latin typeface="Verdana"/>
              </a:rPr>
              <a:t>وتنظر الباحثة إلى الجودة على إنها هدف ستراتيجي يسعى لتحقيق مجموعة من المزايا للوحدة الاقتصادية والتي من أهمها تخفيض التكاليف وتحسين وزيادة كل من الإنتاجية والربحية وكسب الزبائن وتعزيز الموقف التنافسي وزيادة الحصة السوقية فضلا" عن تحقيق أهداف الوحدة الاقتصادية القصيرة أو الطويلة الأجل ، ولغرض تحقيق هذا الهدف الستراتيجي فلابد من عمل الشيْ صحيحا" من المرة الأول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0" y="260640"/>
            <a:ext cx="9036000" cy="594432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2400" spc="-1" strike="noStrike">
              <a:solidFill>
                <a:srgbClr val="000000"/>
              </a:solidFill>
              <a:latin typeface="Arial"/>
            </a:endParaRPr>
          </a:p>
          <a:p>
            <a:pPr algn="r" rtl="1">
              <a:lnSpc>
                <a:spcPct val="100000"/>
              </a:lnSpc>
            </a:pPr>
            <a:r>
              <a:rPr b="1" lang="en-US" sz="2400" spc="-1" strike="noStrike">
                <a:solidFill>
                  <a:srgbClr val="ffffff"/>
                </a:solidFill>
                <a:latin typeface="Verdana"/>
                <a:ea typeface="Calibri"/>
              </a:rPr>
              <a:t>  </a:t>
            </a:r>
            <a:r>
              <a:rPr b="1" lang="ar-IQ" sz="3200" spc="-1" strike="noStrike">
                <a:solidFill>
                  <a:srgbClr val="ffffff"/>
                </a:solidFill>
                <a:latin typeface="Verdana"/>
                <a:cs typeface="Arial"/>
              </a:rPr>
              <a:t>وقد عرفت تكاليف الجودة الكلية  بأنها التكاليف المتعلقة بأنشطة المنع والتقييم بالإضافة إلى التكاليف الناتجة عن الفشل الداخلي والفشل الخارجي.، وهناك من يرى بأنها التكاليف المتعلقة بمنع إنتاج المعيب واكتشافه وتصليحه لغرض تثبيت مستوى معين من الجودة وتصليح ومعالجة الفشل، إما </a:t>
            </a:r>
            <a:r>
              <a:rPr b="1" lang="en-US" sz="3200" spc="-1" strike="noStrike">
                <a:solidFill>
                  <a:srgbClr val="ffffff"/>
                </a:solidFill>
                <a:latin typeface="Verdana"/>
                <a:ea typeface="Calibri"/>
              </a:rPr>
              <a:t>Horngren</a:t>
            </a:r>
            <a:r>
              <a:rPr b="1" lang="en-US" sz="3200" spc="-1" strike="noStrike">
                <a:solidFill>
                  <a:srgbClr val="ffffff"/>
                </a:solidFill>
                <a:latin typeface="Verdana"/>
                <a:ea typeface="Calibri"/>
              </a:rPr>
              <a:t> وآخرون فيرون بأن تكاليف الجودة الكلية هي التكاليف التي تحدث لمنع إنتاج منتجات منخفضة الجودة وبما يساعد في تلبية احتياجات الزبائن وتوقعات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0" y="-3607920"/>
            <a:ext cx="9143640" cy="946548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r>
              <a:rPr b="1" lang="en-US" sz="1800" spc="-1" strike="noStrike">
                <a:solidFill>
                  <a:srgbClr val="ffffff"/>
                </a:solidFill>
                <a:latin typeface="Verdana"/>
                <a:ea typeface="Calibri"/>
              </a:rPr>
              <a:t> </a:t>
            </a:r>
            <a:r>
              <a:rPr b="1" lang="ar-IQ" sz="3200" spc="-1" strike="noStrike">
                <a:solidFill>
                  <a:srgbClr val="ffffff"/>
                </a:solidFill>
                <a:latin typeface="Verdana"/>
              </a:rPr>
              <a:t>خامسا :-عناصر تكاليف الجودة الكلية </a:t>
            </a:r>
            <a:r>
              <a:rPr b="1" lang="en-US" sz="3200" spc="-1" strike="noStrike">
                <a:solidFill>
                  <a:srgbClr val="ffffff"/>
                </a:solidFill>
                <a:latin typeface="Verdana"/>
                <a:ea typeface="Calibri"/>
              </a:rPr>
              <a:t>Elements of Total Quality Costs</a:t>
            </a:r>
            <a:r>
              <a:rPr b="1" lang="en-US" sz="3200" spc="-1" strike="noStrike">
                <a:solidFill>
                  <a:srgbClr val="ffffff"/>
                </a:solidFill>
                <a:latin typeface="Verdana"/>
                <a:ea typeface="Calibri"/>
              </a:rPr>
              <a:t> :ـ </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a:t>
            </a:r>
            <a:r>
              <a:rPr b="1" lang="en-US" sz="3200" spc="-1" strike="noStrike">
                <a:solidFill>
                  <a:srgbClr val="ffffff"/>
                </a:solidFill>
                <a:latin typeface="Verdana"/>
                <a:ea typeface="Calibri"/>
              </a:rPr>
              <a:t>1</a:t>
            </a:r>
            <a:r>
              <a:rPr b="1" lang="en-US" sz="3200" spc="-1" strike="noStrike">
                <a:solidFill>
                  <a:srgbClr val="ffffff"/>
                </a:solidFill>
                <a:latin typeface="Verdana"/>
                <a:ea typeface="Calibri"/>
              </a:rPr>
              <a:t>)ـ تكاليف المنع </a:t>
            </a:r>
            <a:r>
              <a:rPr b="1" lang="en-US" sz="3200" spc="-1" strike="noStrike">
                <a:solidFill>
                  <a:srgbClr val="ffffff"/>
                </a:solidFill>
                <a:latin typeface="Verdana"/>
                <a:ea typeface="Calibri"/>
              </a:rPr>
              <a:t>Prevention Costs</a:t>
            </a:r>
            <a:r>
              <a:rPr b="1" lang="en-US" sz="3200" spc="-1" strike="noStrike">
                <a:solidFill>
                  <a:srgbClr val="ffffff"/>
                </a:solidFill>
                <a:latin typeface="Verdana"/>
                <a:ea typeface="Calibri"/>
              </a:rPr>
              <a:t> :ـ</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 (</a:t>
            </a:r>
            <a:r>
              <a:rPr b="1" lang="en-US" sz="3200" spc="-1" strike="noStrike">
                <a:solidFill>
                  <a:srgbClr val="ffffff"/>
                </a:solidFill>
                <a:latin typeface="Verdana"/>
                <a:ea typeface="Calibri"/>
              </a:rPr>
              <a:t>2</a:t>
            </a:r>
            <a:r>
              <a:rPr b="1" lang="en-US" sz="3200" spc="-1" strike="noStrike">
                <a:solidFill>
                  <a:srgbClr val="ffffff"/>
                </a:solidFill>
                <a:latin typeface="Verdana"/>
                <a:ea typeface="Calibri"/>
              </a:rPr>
              <a:t>):ـ تكاليف التقييم </a:t>
            </a:r>
            <a:r>
              <a:rPr b="1" lang="en-US" sz="3200" spc="-1" strike="noStrike">
                <a:solidFill>
                  <a:srgbClr val="ffffff"/>
                </a:solidFill>
                <a:latin typeface="Verdana"/>
                <a:ea typeface="Calibri"/>
              </a:rPr>
              <a:t>Appraisal Costs</a:t>
            </a:r>
            <a:r>
              <a:rPr b="1" lang="en-US" sz="3200" spc="-1" strike="noStrike">
                <a:solidFill>
                  <a:srgbClr val="ffffff"/>
                </a:solidFill>
                <a:latin typeface="Verdana"/>
                <a:ea typeface="Calibri"/>
              </a:rPr>
              <a:t> :ـ </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a:t>
            </a:r>
            <a:r>
              <a:rPr b="1" lang="en-US" sz="3200" spc="-1" strike="noStrike">
                <a:solidFill>
                  <a:srgbClr val="ffffff"/>
                </a:solidFill>
                <a:latin typeface="Verdana"/>
                <a:ea typeface="Calibri"/>
              </a:rPr>
              <a:t>3</a:t>
            </a:r>
            <a:r>
              <a:rPr b="1" lang="en-US" sz="3200" spc="-1" strike="noStrike">
                <a:solidFill>
                  <a:srgbClr val="ffffff"/>
                </a:solidFill>
                <a:latin typeface="Verdana"/>
                <a:ea typeface="Calibri"/>
              </a:rPr>
              <a:t>):ـ تكاليف الفشل الداخلي </a:t>
            </a:r>
            <a:r>
              <a:rPr b="1" lang="en-US" sz="3200" spc="-1" strike="noStrike">
                <a:solidFill>
                  <a:srgbClr val="ffffff"/>
                </a:solidFill>
                <a:latin typeface="Verdana"/>
                <a:ea typeface="Calibri"/>
              </a:rPr>
              <a:t>Internal Failure Costs</a:t>
            </a:r>
            <a:r>
              <a:rPr b="1" lang="en-US" sz="3200" spc="-1" strike="noStrike">
                <a:solidFill>
                  <a:srgbClr val="ffffff"/>
                </a:solidFill>
                <a:latin typeface="Verdana"/>
                <a:ea typeface="Calibri"/>
              </a:rPr>
              <a:t> :ـ </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  (</a:t>
            </a:r>
            <a:r>
              <a:rPr b="1" lang="en-US" sz="3200" spc="-1" strike="noStrike">
                <a:solidFill>
                  <a:srgbClr val="ffffff"/>
                </a:solidFill>
                <a:latin typeface="Verdana"/>
                <a:ea typeface="Calibri"/>
              </a:rPr>
              <a:t>4</a:t>
            </a:r>
            <a:r>
              <a:rPr b="1" lang="en-US" sz="3200" spc="-1" strike="noStrike">
                <a:solidFill>
                  <a:srgbClr val="ffffff"/>
                </a:solidFill>
                <a:latin typeface="Verdana"/>
                <a:ea typeface="Calibri"/>
              </a:rPr>
              <a:t>):ـ تكاليف الفشل الخارجي </a:t>
            </a:r>
            <a:r>
              <a:rPr b="1" lang="en-US" sz="3200" spc="-1" strike="noStrike">
                <a:solidFill>
                  <a:srgbClr val="ffffff"/>
                </a:solidFill>
                <a:latin typeface="Verdana"/>
                <a:ea typeface="Calibri"/>
              </a:rPr>
              <a:t>External Failure Costs</a:t>
            </a:r>
            <a:r>
              <a:rPr b="1" lang="en-US" sz="3200" spc="-1" strike="noStrike">
                <a:solidFill>
                  <a:srgbClr val="ffffff"/>
                </a:solidFill>
                <a:latin typeface="Verdana"/>
                <a:ea typeface="Calibri"/>
              </a:rPr>
              <a:t> :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0" y="-3339720"/>
            <a:ext cx="9143640" cy="1011132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800" spc="-1" strike="noStrike">
              <a:solidFill>
                <a:srgbClr val="000000"/>
              </a:solidFill>
              <a:latin typeface="Arial"/>
            </a:endParaRPr>
          </a:p>
          <a:p>
            <a:pPr algn="just" rtl="1">
              <a:lnSpc>
                <a:spcPct val="115000"/>
              </a:lnSpc>
              <a:spcAft>
                <a:spcPts val="1001"/>
              </a:spcAft>
            </a:pPr>
            <a:endParaRPr b="0" lang="en-US" sz="2800" spc="-1" strike="noStrike">
              <a:solidFill>
                <a:srgbClr val="000000"/>
              </a:solidFill>
              <a:latin typeface="Arial"/>
            </a:endParaRPr>
          </a:p>
          <a:p>
            <a:pPr algn="just" rtl="1">
              <a:lnSpc>
                <a:spcPct val="115000"/>
              </a:lnSpc>
              <a:spcAft>
                <a:spcPts val="1001"/>
              </a:spcAft>
            </a:pPr>
            <a:endParaRPr b="0" lang="en-US" sz="2800" spc="-1" strike="noStrike">
              <a:solidFill>
                <a:srgbClr val="000000"/>
              </a:solidFill>
              <a:latin typeface="Arial"/>
            </a:endParaRPr>
          </a:p>
          <a:p>
            <a:pPr algn="just" rtl="1">
              <a:lnSpc>
                <a:spcPct val="115000"/>
              </a:lnSpc>
              <a:spcAft>
                <a:spcPts val="1001"/>
              </a:spcAft>
            </a:pPr>
            <a:r>
              <a:rPr b="1" lang="ar-IQ" sz="2800" spc="-1" strike="noStrike" u="sng">
                <a:solidFill>
                  <a:srgbClr val="ffffff"/>
                </a:solidFill>
                <a:uFillTx/>
                <a:latin typeface="Verdana"/>
              </a:rPr>
              <a:t>سادسا: الجودة وتحسين الربحية وتخفيض التكاليف</a:t>
            </a:r>
            <a:r>
              <a:rPr b="1" lang="en-US" sz="2800" spc="-1" strike="noStrike">
                <a:solidFill>
                  <a:srgbClr val="ffffff"/>
                </a:solidFill>
                <a:latin typeface="Verdana"/>
                <a:ea typeface="Calibri"/>
              </a:rPr>
              <a:t> :- </a:t>
            </a:r>
            <a:endParaRPr b="0" lang="en-US" sz="2800" spc="-1" strike="noStrike">
              <a:solidFill>
                <a:srgbClr val="000000"/>
              </a:solidFill>
              <a:latin typeface="Arial"/>
            </a:endParaRPr>
          </a:p>
          <a:p>
            <a:pPr algn="just" rtl="1">
              <a:lnSpc>
                <a:spcPct val="115000"/>
              </a:lnSpc>
              <a:spcAft>
                <a:spcPts val="1001"/>
              </a:spcAft>
            </a:pPr>
            <a:r>
              <a:rPr b="1" lang="en-US" sz="2400" spc="-1" strike="noStrike">
                <a:solidFill>
                  <a:srgbClr val="ffffff"/>
                </a:solidFill>
                <a:latin typeface="Verdana"/>
                <a:ea typeface="Calibri"/>
              </a:rPr>
              <a:t> </a:t>
            </a:r>
            <a:r>
              <a:rPr b="1" lang="ar-IQ" sz="3200" spc="-1" strike="noStrike">
                <a:solidFill>
                  <a:srgbClr val="ffffff"/>
                </a:solidFill>
                <a:latin typeface="Verdana"/>
                <a:cs typeface="Arial"/>
              </a:rPr>
              <a:t>إن الجودة الرديئة تؤدي إلى زيادة التكاليف التي تتحملها الوحدة الاقتصادية والمتعلقة بالوحدات </a:t>
            </a:r>
            <a:r>
              <a:rPr b="1" lang="ar-IQ" sz="2800" spc="-1" strike="noStrike">
                <a:solidFill>
                  <a:srgbClr val="ffffff"/>
                </a:solidFill>
                <a:latin typeface="Verdana"/>
                <a:cs typeface="Arial"/>
              </a:rPr>
              <a:t>المعيبة وتكاليف إعادة الصنع وتكاليف إعادة الفحص .وهذا يعني انه كلما ازدادت الجودة كلما انخفضت هذه التكاليف، ويمكن أن تحقق وفورات في تكاليف الجودة الكلية من خلال تخفيض التكاليف المتعلقة بالفحص والاختبار </a:t>
            </a:r>
            <a:r>
              <a:rPr b="1" lang="ar-IQ" sz="3200" spc="-1" strike="noStrike">
                <a:solidFill>
                  <a:srgbClr val="ffffff"/>
                </a:solidFill>
                <a:latin typeface="Verdana"/>
                <a:cs typeface="Arial"/>
              </a:rPr>
              <a:t>وتكاليف إعادة</a:t>
            </a:r>
            <a:r>
              <a:rPr b="1" lang="en-US" sz="2800" spc="-1" strike="noStrike">
                <a:solidFill>
                  <a:srgbClr val="ffffff"/>
                </a:solidFill>
                <a:latin typeface="Verdana"/>
                <a:ea typeface="Calibri"/>
              </a:rPr>
              <a:t> الصنع والسكراب وتكاليف الفشل عموما" وبالتالي تكاليف التصنيع الكلية للمنتجات (.إن تحسين الجودة يلعب دورا" مهما" في زيادة ربحية الوحدة الاقتصادية ويتم ذلك من خلال تحسين كفاءة العمليات وتخفيض تكاليف الجودة الكلية ، وزيادة الربح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144360" y="0"/>
            <a:ext cx="9143640" cy="659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29160" y="-4275720"/>
            <a:ext cx="9143640" cy="108878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endParaRPr b="0" lang="en-US" sz="2800" spc="-1" strike="noStrike">
              <a:solidFill>
                <a:srgbClr val="000000"/>
              </a:solidFill>
              <a:latin typeface="Arial"/>
            </a:endParaRPr>
          </a:p>
          <a:p>
            <a:pPr algn="just" rtl="1">
              <a:lnSpc>
                <a:spcPct val="115000"/>
              </a:lnSpc>
              <a:spcAft>
                <a:spcPts val="1001"/>
              </a:spcAft>
            </a:pPr>
            <a:endParaRPr b="0" lang="en-US" sz="2800" spc="-1" strike="noStrike">
              <a:solidFill>
                <a:srgbClr val="000000"/>
              </a:solidFill>
              <a:latin typeface="Arial"/>
            </a:endParaRPr>
          </a:p>
          <a:p>
            <a:pPr algn="just" rtl="1">
              <a:lnSpc>
                <a:spcPct val="115000"/>
              </a:lnSpc>
              <a:spcAft>
                <a:spcPts val="1001"/>
              </a:spcAft>
            </a:pPr>
            <a:r>
              <a:rPr b="1" lang="ar-IQ" sz="2800" spc="-1" strike="noStrike" u="sng">
                <a:solidFill>
                  <a:srgbClr val="ffffff"/>
                </a:solidFill>
                <a:uFillTx/>
                <a:latin typeface="Verdana"/>
              </a:rPr>
              <a:t>الجودة وتحسين الإنتاجية </a:t>
            </a:r>
            <a:r>
              <a:rPr b="1" lang="en-US" sz="2800" spc="-1" strike="noStrike">
                <a:solidFill>
                  <a:srgbClr val="ffffff"/>
                </a:solidFill>
                <a:latin typeface="Verdana"/>
                <a:ea typeface="Calibri"/>
              </a:rPr>
              <a:t>:ـ </a:t>
            </a:r>
            <a:endParaRPr b="0" lang="en-US" sz="2800" spc="-1" strike="noStrike">
              <a:solidFill>
                <a:srgbClr val="000000"/>
              </a:solidFill>
              <a:latin typeface="Arial"/>
            </a:endParaRPr>
          </a:p>
          <a:p>
            <a:pPr algn="just" rtl="1">
              <a:lnSpc>
                <a:spcPct val="115000"/>
              </a:lnSpc>
              <a:spcAft>
                <a:spcPts val="1001"/>
              </a:spcAft>
            </a:pPr>
            <a:r>
              <a:rPr b="1" lang="en-US" sz="2800" spc="-1" strike="noStrike">
                <a:solidFill>
                  <a:srgbClr val="ffffff"/>
                </a:solidFill>
                <a:latin typeface="Verdana"/>
                <a:ea typeface="Calibri"/>
              </a:rPr>
              <a:t>  إن الجودة والإنتاجية لها صلة وثيقة ببعضها البعض حيث إن المحافظة على الجودة وتحسينها يؤدي إلى تأثير ايجابي على الإنتاجية، وإن الجمع بين تحسين الجودة والإنتاجية يؤدي إلى تعظيم القدرة التنافسية للوحدات الاقتصادية، والتأثيرات الايجابية هي كالآتي:ـ </a:t>
            </a:r>
            <a:endParaRPr b="0" lang="en-US" sz="28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ar-IQ" sz="2800" spc="-1" strike="noStrike">
                <a:solidFill>
                  <a:srgbClr val="ffffff"/>
                </a:solidFill>
                <a:latin typeface="Verdana"/>
              </a:rPr>
              <a:t>يؤدي تحسين الجودة إلى زيادة مطابقة المخرجات أي زيادة نسبة المخرجات إلى المدخلات وإن هذا يعني زيادة الإنتاجية .</a:t>
            </a:r>
            <a:endParaRPr b="0" lang="en-US" sz="28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ar-IQ" sz="2800" spc="-1" strike="noStrike">
                <a:solidFill>
                  <a:srgbClr val="ffffff"/>
                </a:solidFill>
                <a:latin typeface="Verdana"/>
              </a:rPr>
              <a:t>يؤدي تحسين الجودة إلى ارتفاع كفاءة العمليات وتقليل تكاليف التقييم والفشل الداخلي والفشل الخارجي أي تخفيض تكاليف الجودة الك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72720" y="34560"/>
            <a:ext cx="9036000" cy="613188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en-US" sz="3200" spc="-1" strike="noStrike">
                <a:solidFill>
                  <a:srgbClr val="ffffff"/>
                </a:solidFill>
                <a:latin typeface="Verdana"/>
                <a:ea typeface="Calibri"/>
              </a:rPr>
              <a:t>3</a:t>
            </a:r>
            <a:r>
              <a:rPr b="1" lang="en-US" sz="3200" spc="-1" strike="noStrike">
                <a:solidFill>
                  <a:srgbClr val="ffffff"/>
                </a:solidFill>
                <a:latin typeface="Verdana"/>
                <a:ea typeface="Calibri"/>
              </a:rPr>
              <a:t> </a:t>
            </a:r>
            <a:r>
              <a:rPr b="1" lang="en-US" sz="2800" spc="-1" strike="noStrike">
                <a:solidFill>
                  <a:srgbClr val="ffffff"/>
                </a:solidFill>
                <a:latin typeface="Verdana"/>
                <a:ea typeface="Calibri"/>
              </a:rPr>
              <a:t>) يؤدي زيادة الإنتاجية وتخفيض التكاليف إلى زيادة وتحسين الربحية .</a:t>
            </a:r>
            <a:r>
              <a:rPr b="0" lang="en-US" sz="2800" spc="-1" strike="noStrike">
                <a:solidFill>
                  <a:srgbClr val="ffffff"/>
                </a:solidFill>
                <a:latin typeface="Verdana"/>
                <a:ea typeface="Calibri"/>
              </a:rPr>
              <a:t> </a:t>
            </a:r>
            <a:r>
              <a:rPr b="1" lang="ar-IQ" sz="2800" spc="-1" strike="noStrike">
                <a:solidFill>
                  <a:srgbClr val="ffffff"/>
                </a:solidFill>
                <a:latin typeface="Verdana"/>
              </a:rPr>
              <a:t>ويتم تحسين الأداء الإنتاجي للوحدات الاقتصادية الصناعية بالتركيز على عنصر الجودة من خلال الآتي:ـ</a:t>
            </a:r>
            <a:endParaRPr b="0" lang="en-US" sz="2800" spc="-1" strike="noStrike">
              <a:solidFill>
                <a:srgbClr val="000000"/>
              </a:solidFill>
              <a:latin typeface="Arial"/>
            </a:endParaRPr>
          </a:p>
          <a:p>
            <a:pPr lvl="1" marL="800280" indent="-343080" algn="just" rtl="1">
              <a:lnSpc>
                <a:spcPct val="115000"/>
              </a:lnSpc>
              <a:spcAft>
                <a:spcPts val="1001"/>
              </a:spcAft>
              <a:buClr>
                <a:srgbClr val="ffffff"/>
              </a:buClr>
              <a:buFont typeface="Verdana"/>
              <a:buAutoNum type="arabicParenR"/>
            </a:pPr>
            <a:r>
              <a:rPr b="1" lang="en-US" sz="2800" spc="-1" strike="noStrike">
                <a:solidFill>
                  <a:srgbClr val="ffffff"/>
                </a:solidFill>
                <a:latin typeface="Verdana"/>
                <a:ea typeface="Calibri"/>
              </a:rPr>
              <a:t> تصنيع منتجات مطابقة للمواصفات العالمية .</a:t>
            </a:r>
            <a:endParaRPr b="0" lang="en-US" sz="28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ar-IQ" sz="2800" spc="-1" strike="noStrike">
                <a:solidFill>
                  <a:srgbClr val="ffffff"/>
                </a:solidFill>
                <a:latin typeface="Verdana"/>
              </a:rPr>
              <a:t>رفع كفاءة العمليات الإنتاجية من خلال الاستعمال الأمثل للموارد الإنتاجية المتاحة .</a:t>
            </a:r>
            <a:endParaRPr b="0" lang="en-US" sz="28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ar-IQ" sz="2800" spc="-1" strike="noStrike">
                <a:solidFill>
                  <a:srgbClr val="ffffff"/>
                </a:solidFill>
                <a:latin typeface="Verdana"/>
              </a:rPr>
              <a:t>زيادة فاعلية العمليات الإنتاجية من خلال بلوغ أهدافها الإنتاجية .</a:t>
            </a:r>
            <a:endParaRPr b="0" lang="en-US" sz="2800" spc="-1" strike="noStrike">
              <a:solidFill>
                <a:srgbClr val="000000"/>
              </a:solidFill>
              <a:latin typeface="Arial"/>
            </a:endParaRPr>
          </a:p>
          <a:p>
            <a:pPr marL="387360" algn="just" rtl="1">
              <a:lnSpc>
                <a:spcPct val="115000"/>
              </a:lnSpc>
              <a:spcAft>
                <a:spcPts val="1001"/>
              </a:spcAft>
            </a:pPr>
            <a:r>
              <a:rPr b="1" lang="en-US" sz="2800" spc="-1" strike="noStrike">
                <a:solidFill>
                  <a:srgbClr val="ffffff"/>
                </a:solidFill>
                <a:latin typeface="Verdana"/>
                <a:ea typeface="Calibri"/>
              </a:rPr>
              <a:t>4</a:t>
            </a:r>
            <a:r>
              <a:rPr b="1" lang="en-US" sz="2800" spc="-1" strike="noStrike">
                <a:solidFill>
                  <a:srgbClr val="ffffff"/>
                </a:solidFill>
                <a:latin typeface="Verdana"/>
                <a:ea typeface="Calibri"/>
              </a:rPr>
              <a:t>) تلبية احتياجات الزبائن وتوقعاتهم لرفع حصتها السوقية و تعزيز مكانتها التنافسية</a:t>
            </a:r>
            <a:r>
              <a:rPr b="1" lang="en-US" sz="3200" spc="-1" strike="noStrike">
                <a:solidFill>
                  <a:srgbClr val="ffffff"/>
                </a:solidFill>
                <a:latin typeface="Verdana"/>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188640"/>
            <a:ext cx="8964000" cy="697248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ar-IQ" sz="2400" spc="-1" strike="noStrike" u="sng">
                <a:solidFill>
                  <a:srgbClr val="ffffff"/>
                </a:solidFill>
                <a:uFillTx/>
                <a:latin typeface="Verdana"/>
              </a:rPr>
              <a:t>مفهوم  القيمة : - </a:t>
            </a:r>
            <a:endParaRPr b="0" lang="en-US" sz="2400" spc="-1" strike="noStrike">
              <a:solidFill>
                <a:srgbClr val="000000"/>
              </a:solidFill>
              <a:latin typeface="Arial"/>
            </a:endParaRPr>
          </a:p>
          <a:p>
            <a:pPr algn="just" rtl="1">
              <a:lnSpc>
                <a:spcPct val="115000"/>
              </a:lnSpc>
              <a:spcAft>
                <a:spcPts val="1001"/>
              </a:spcAft>
            </a:pPr>
            <a:r>
              <a:rPr b="1" lang="ar-IQ" sz="2800" spc="-1" strike="noStrike">
                <a:solidFill>
                  <a:srgbClr val="ffffff"/>
                </a:solidFill>
                <a:latin typeface="Verdana"/>
              </a:rPr>
              <a:t>إن القيمة هي المنفعة من الشيء أو قدرته الذاتية على الإشباع . وقد عرفت بأنها " اقل تكلفة ممكنة للحصول على أفضل أداء وظيفي ممكن وأعلى جودة ممكنه " وقد عرفت بأنها " إدراك الزبائن بأن نوعية المنتج ممتازة قياساً بالسعر المعروض.«</a:t>
            </a:r>
            <a:endParaRPr b="0" lang="en-US" sz="2800" spc="-1" strike="noStrike">
              <a:solidFill>
                <a:srgbClr val="000000"/>
              </a:solidFill>
              <a:latin typeface="Arial"/>
            </a:endParaRPr>
          </a:p>
          <a:p>
            <a:pPr algn="just" rtl="1">
              <a:lnSpc>
                <a:spcPct val="115000"/>
              </a:lnSpc>
              <a:spcAft>
                <a:spcPts val="1001"/>
              </a:spcAft>
            </a:pPr>
            <a:r>
              <a:rPr b="1" lang="ar-IQ" sz="2800" spc="-1" strike="noStrike">
                <a:solidFill>
                  <a:srgbClr val="ffffff"/>
                </a:solidFill>
                <a:latin typeface="Verdana"/>
              </a:rPr>
              <a:t>مقياس القيمة = ( الأداء الوظيفي + النوعية ) / الكلفة الكلية</a:t>
            </a:r>
            <a:endParaRPr b="0" lang="en-US" sz="2800" spc="-1" strike="noStrike">
              <a:solidFill>
                <a:srgbClr val="000000"/>
              </a:solidFill>
              <a:latin typeface="Arial"/>
            </a:endParaRPr>
          </a:p>
          <a:p>
            <a:pPr algn="just" rtl="1">
              <a:lnSpc>
                <a:spcPct val="115000"/>
              </a:lnSpc>
              <a:spcAft>
                <a:spcPts val="1001"/>
              </a:spcAft>
            </a:pPr>
            <a:r>
              <a:rPr b="1" lang="ar-IQ" sz="2800" spc="-1" strike="noStrike">
                <a:solidFill>
                  <a:srgbClr val="ffffff"/>
                </a:solidFill>
                <a:latin typeface="Verdana"/>
              </a:rPr>
              <a:t>وان حاصل جمع الأداء الوظيفي مع النوعية يدعى الاستحقاق الوظيفي لذا فالقيمة ستحسب كما يلي: القيمة = الاستحقاق الوظيفي / الكلفة  </a:t>
            </a:r>
            <a:r>
              <a:rPr b="1" lang="en-US" sz="2800" spc="-1" strike="noStrike">
                <a:solidFill>
                  <a:srgbClr val="ffffff"/>
                </a:solidFill>
                <a:latin typeface="Verdana"/>
                <a:ea typeface="Calibri"/>
              </a:rPr>
              <a:t>Value = Function Worth / Cost</a:t>
            </a:r>
            <a:endParaRPr b="0" lang="en-US" sz="2800" spc="-1" strike="noStrike">
              <a:solidFill>
                <a:srgbClr val="000000"/>
              </a:solidFill>
              <a:latin typeface="Arial"/>
            </a:endParaRPr>
          </a:p>
          <a:p>
            <a:pPr algn="just" rtl="1">
              <a:lnSpc>
                <a:spcPct val="115000"/>
              </a:lnSpc>
              <a:spcAft>
                <a:spcPts val="1001"/>
              </a:spcAf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260640"/>
            <a:ext cx="9036000" cy="56426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ar-IQ" sz="3200" spc="-1" strike="noStrike">
                <a:solidFill>
                  <a:srgbClr val="ffffff"/>
                </a:solidFill>
                <a:latin typeface="Verdana"/>
              </a:rPr>
              <a:t>ان القيمة ترتكز على ثلاثة عناصر أساسية وهي </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أ.</a:t>
            </a:r>
            <a:r>
              <a:rPr b="1" lang="en-US" sz="3200" spc="-1" strike="noStrike">
                <a:solidFill>
                  <a:srgbClr val="ffffff"/>
                </a:solidFill>
                <a:latin typeface="Verdana"/>
                <a:ea typeface="Calibri"/>
              </a:rPr>
              <a:t>	</a:t>
            </a:r>
            <a:r>
              <a:rPr b="1" lang="ar-IQ" sz="3200" spc="-1" strike="noStrike">
                <a:solidFill>
                  <a:srgbClr val="ffffff"/>
                </a:solidFill>
                <a:latin typeface="Verdana"/>
              </a:rPr>
              <a:t>الأداء الوظيفي : هو العمل الذي يؤديه المنتج أو الوحدة .</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ب.</a:t>
            </a:r>
            <a:r>
              <a:rPr b="1" lang="en-US" sz="3200" spc="-1" strike="noStrike">
                <a:solidFill>
                  <a:srgbClr val="ffffff"/>
                </a:solidFill>
                <a:latin typeface="Verdana"/>
                <a:ea typeface="Calibri"/>
              </a:rPr>
              <a:t>	</a:t>
            </a:r>
            <a:r>
              <a:rPr b="1" lang="ar-IQ" sz="3200" spc="-1" strike="noStrike">
                <a:solidFill>
                  <a:srgbClr val="ffffff"/>
                </a:solidFill>
                <a:latin typeface="Verdana"/>
              </a:rPr>
              <a:t>النوعية : هي حاجات المستخدم من المنتج . </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ج.</a:t>
            </a:r>
            <a:r>
              <a:rPr b="1" lang="en-US" sz="3200" spc="-1" strike="noStrike">
                <a:solidFill>
                  <a:srgbClr val="ffffff"/>
                </a:solidFill>
                <a:latin typeface="Verdana"/>
                <a:ea typeface="Calibri"/>
              </a:rPr>
              <a:t>	</a:t>
            </a:r>
            <a:r>
              <a:rPr b="1" lang="ar-IQ" sz="3200" spc="-1" strike="noStrike">
                <a:solidFill>
                  <a:srgbClr val="ffffff"/>
                </a:solidFill>
                <a:latin typeface="Verdana"/>
              </a:rPr>
              <a:t>الكلفة : هي كلفة دورة حياة المنتج  [ </a:t>
            </a:r>
            <a:r>
              <a:rPr b="1" lang="en-US" sz="3200" spc="-1" strike="noStrike">
                <a:solidFill>
                  <a:srgbClr val="ffffff"/>
                </a:solidFill>
                <a:latin typeface="Verdana"/>
                <a:ea typeface="Calibri"/>
              </a:rPr>
              <a:t>Life Cycle Cost ( L.C.C. )</a:t>
            </a:r>
            <a:r>
              <a:rPr b="1" lang="en-US" sz="3200" spc="-1" strike="noStrike">
                <a:solidFill>
                  <a:srgbClr val="ffffff"/>
                </a:solidFill>
                <a:latin typeface="Verdana"/>
                <a:ea typeface="Calibri"/>
              </a:rPr>
              <a:t> ]</a:t>
            </a:r>
            <a:endParaRPr b="0" lang="en-US" sz="3200" spc="-1" strike="noStrike">
              <a:solidFill>
                <a:srgbClr val="000000"/>
              </a:solidFill>
              <a:latin typeface="Arial"/>
            </a:endParaRPr>
          </a:p>
          <a:p>
            <a:pPr algn="just" rtl="1">
              <a:lnSpc>
                <a:spcPct val="115000"/>
              </a:lnSpc>
              <a:spcAft>
                <a:spcPts val="1001"/>
              </a:spcAft>
            </a:pPr>
            <a:r>
              <a:rPr b="1" lang="ar-IQ" sz="3200" spc="-1" strike="noStrike">
                <a:solidFill>
                  <a:srgbClr val="ffffff"/>
                </a:solidFill>
                <a:latin typeface="Verdana"/>
                <a:cs typeface="Arial"/>
              </a:rPr>
              <a:t>ويبين الشكل التالي مدى تداخل عناصر القيمة ومدى الارتباط بين هذه العناصر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0" y="620640"/>
            <a:ext cx="9143640" cy="6256440"/>
          </a:xfrm>
          <a:prstGeom prst="rect">
            <a:avLst/>
          </a:prstGeom>
          <a:noFill/>
          <a:ln w="0">
            <a:noFill/>
          </a:ln>
        </p:spPr>
        <p:style>
          <a:lnRef idx="0"/>
          <a:fillRef idx="0"/>
          <a:effectRef idx="0"/>
          <a:fontRef idx="minor"/>
        </p:style>
        <p:txBody>
          <a:bodyPr lIns="90000" rIns="90000" tIns="45000" bIns="45000" anchor="t">
            <a:spAutoFit/>
          </a:bodyPr>
          <a:p>
            <a:pPr algn="r">
              <a:lnSpc>
                <a:spcPct val="115000"/>
              </a:lnSpc>
              <a:spcAft>
                <a:spcPts val="1001"/>
              </a:spcAft>
            </a:pPr>
            <a:r>
              <a:rPr b="1" lang="ar-IQ" sz="2400" spc="-1" strike="noStrike" u="sng">
                <a:solidFill>
                  <a:srgbClr val="ffffff"/>
                </a:solidFill>
                <a:uFillTx/>
                <a:latin typeface="Verdana"/>
              </a:rPr>
              <a:t>المستخلص: </a:t>
            </a:r>
            <a:r>
              <a:rPr b="1" lang="ar-IQ" sz="2400" spc="-1" strike="noStrike">
                <a:solidFill>
                  <a:srgbClr val="ffffff"/>
                </a:solidFill>
                <a:latin typeface="Verdana"/>
              </a:rPr>
              <a:t>ان ارتفاع كلف فشل المنتجات العراقية وانخفاض مستويات الانتاج،وانخفاض مستوى التطور التكنلوجي في تطبيق اساليب جديدة تستهدف الشركات من وراءها تقديم منتجات ترضي الزبائن وتعزز من مبيعاتها وتخفض تكاليفها.لذا هدفت هذه المحاضرة  الى تطبيق هندسة القيمة لتخفيض كلف الجودة (كلف الفشل بالمنتجات) وايجاد التوافق بين (هندسة القيمة وكلف الجودة) لتحسين جودة المنتجات وتخفيض التكاليف.واستندت المحاضرة  الى ان (ان استعمال هندسة القيمة سيعمل على تخفيض كلف الجودة (الفشل الداخلي والخارجي)) وتنعكس على تحسين نوعية المنتج .وكان اهم الاستنتاجات :ان اجراء التحليل الوظيقي للمنتج واجزاءه وتعزيز الانشطة المضيفة للقيمة واستبعاد الانشطة غير المضيفة </a:t>
            </a:r>
            <a:r>
              <a:rPr b="1" lang="ar-IQ" sz="2800" spc="-1" strike="noStrike">
                <a:solidFill>
                  <a:srgbClr val="ffffff"/>
                </a:solidFill>
                <a:latin typeface="Verdana"/>
              </a:rPr>
              <a:t>للقيمة يحسن من نوعية المنتج ويخفض التكاليف</a:t>
            </a:r>
            <a:r>
              <a:rPr b="1" lang="en-US" sz="3200" spc="-1" strike="noStrike">
                <a:solidFill>
                  <a:srgbClr val="ffffff"/>
                </a:solidFill>
                <a:latin typeface="Verdana"/>
                <a:ea typeface="Calibri"/>
              </a:rPr>
              <a:t>)</a:t>
            </a:r>
            <a:r>
              <a:rPr b="1" lang="en-US" sz="3600" spc="-1" strike="noStrike">
                <a:solidFill>
                  <a:srgbClr val="ffffff"/>
                </a:solidFill>
                <a:latin typeface="Verdana"/>
                <a:ea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900720" y="0"/>
            <a:ext cx="9576720" cy="70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51480" y="7200"/>
            <a:ext cx="9143640" cy="593496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en-US" sz="1800" spc="-1" strike="noStrike">
                <a:solidFill>
                  <a:srgbClr val="ffffff"/>
                </a:solidFill>
                <a:latin typeface="Verdana"/>
                <a:ea typeface="Calibri"/>
              </a:rPr>
              <a:t>-</a:t>
            </a:r>
            <a:endParaRPr b="0" lang="en-US" sz="1800" spc="-1" strike="noStrike">
              <a:solidFill>
                <a:srgbClr val="000000"/>
              </a:solidFill>
              <a:latin typeface="Arial"/>
            </a:endParaRPr>
          </a:p>
          <a:p>
            <a:pPr algn="just" rtl="1">
              <a:lnSpc>
                <a:spcPct val="115000"/>
              </a:lnSpc>
              <a:spcAft>
                <a:spcPts val="1001"/>
              </a:spcAft>
            </a:pPr>
            <a:r>
              <a:rPr b="1" lang="ar-IQ" sz="2400" spc="-1" strike="noStrike">
                <a:solidFill>
                  <a:srgbClr val="ffffff"/>
                </a:solidFill>
                <a:latin typeface="Verdana"/>
              </a:rPr>
              <a:t>ثانيا: هندسة القيمة   </a:t>
            </a:r>
            <a:r>
              <a:rPr b="1" lang="en-US" sz="2400" spc="-1" strike="noStrike">
                <a:solidFill>
                  <a:srgbClr val="ffffff"/>
                </a:solidFill>
                <a:latin typeface="Verdana"/>
                <a:ea typeface="Calibri"/>
              </a:rPr>
              <a:t>The Value Engineering</a:t>
            </a:r>
            <a:endParaRPr b="0" lang="en-US" sz="24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r>
              <a:rPr b="1" lang="en-US" sz="1800" spc="-1" strike="noStrike">
                <a:solidFill>
                  <a:srgbClr val="ffffff"/>
                </a:solidFill>
                <a:latin typeface="Verdana"/>
                <a:ea typeface="Calibri"/>
              </a:rPr>
              <a:t> </a:t>
            </a:r>
            <a:r>
              <a:rPr b="1" lang="ar-IQ" sz="2800" spc="-1" strike="noStrike">
                <a:solidFill>
                  <a:srgbClr val="ffffff"/>
                </a:solidFill>
                <a:latin typeface="Verdana"/>
                <a:cs typeface="Arial"/>
              </a:rPr>
              <a:t>وتعرف هندسة القيمة بأنها((عملية تحليل نظامية دقيقة لتحديد وتحسين أداء وظائف وخصائص المنتج التي تضيف قيمة وتزيد من درجة تفضيل الزبون واستبعاد الوظائف والخصائص التي لا تضيف قيمة وتقلل من درجة تفضيل الزبون للمنتج وتساعد على تحديد السعر المستهدف على اساس معدل أسعار المنافسين بالنسبة لكل جزء من أجزاء المنتج ويقبل الزبون على دفعه مقابل القيمة المدركة له ويحقق ربحاً مرغوباً يزيد على التكلفة المستهدفة للمنت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377640"/>
            <a:ext cx="9143640" cy="738612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r>
              <a:rPr b="1" lang="en-US" sz="2800" spc="-1" strike="noStrike">
                <a:solidFill>
                  <a:srgbClr val="ffffff"/>
                </a:solidFill>
                <a:latin typeface="Verdana"/>
                <a:ea typeface="Calibri"/>
              </a:rPr>
              <a:t> أن هندسة القيمة تقوم على تحليل الوظائف للمنتج الذي يقضي بتفكيك المنتج إلى عناصره أو خصائصه الرئيسية ويحدد السعر والقيمة لكل عنصر أو خاصية منها بحيث يعكس مقدار استعداد الزبون على الدفع، من خلال مقارنة أداء كل وظيفة مع القيمة المدركة من قبل الزبون، فإذا كانت تكلفة الوظيفة تزيد على المنفعة التي يحصل عليها الزبون فأن هذه الوظيفة يجب استبعادها أو تعديلها لتخفيض تكلفتها أو إجراء تغيير في مفردات القيمة المستلمة لكي تحقق زيادة في القيمة على التكلفة المقدرة، مع الأخذ بالاعتبار العناصر التي تنجز نفس الوظيفة في منتجات أخرى، وهكذا تزداد إمكانية استخدام العناصر المعيارية وتحقيق تخفيضات التكاليف من خلال هندسة القيم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770400"/>
            <a:ext cx="9143640" cy="63968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ar-IQ" sz="2400" spc="-1" strike="noStrike">
                <a:solidFill>
                  <a:srgbClr val="ffffff"/>
                </a:solidFill>
                <a:latin typeface="Verdana"/>
              </a:rPr>
              <a:t>أن هندسة القيمة تعّد تقنية فعالة لتخفيض التكاليف وزيادة الإنتاجية وتحسين النوعية، وهي تقنية علمية مدروسة تستخدم بشكل فعال من قبل الكثير من الشركات، فكرتها الأساسية هي أن المنتجات لها وظائف يتم تأديتها وأن مقدار قيمتها يقاس بنسبة هذه الوظائف إلى كلفتها. ومن تحليل الشكل(</a:t>
            </a:r>
            <a:r>
              <a:rPr b="1" lang="en-US" sz="2400" spc="-1" strike="noStrike">
                <a:solidFill>
                  <a:srgbClr val="ffffff"/>
                </a:solidFill>
                <a:latin typeface="Verdana"/>
                <a:ea typeface="Calibri"/>
              </a:rPr>
              <a:t>4</a:t>
            </a:r>
            <a:r>
              <a:rPr b="1" lang="en-US" sz="2400" spc="-1" strike="noStrike">
                <a:solidFill>
                  <a:srgbClr val="ffffff"/>
                </a:solidFill>
                <a:latin typeface="Verdana"/>
                <a:ea typeface="Calibri"/>
              </a:rPr>
              <a:t>) نجد أن المنحنى الذي يتوسط محوري التكلفة (</a:t>
            </a:r>
            <a:r>
              <a:rPr b="1" lang="en-US" sz="2400" spc="-1" strike="noStrike">
                <a:solidFill>
                  <a:srgbClr val="ffffff"/>
                </a:solidFill>
                <a:latin typeface="Verdana"/>
                <a:ea typeface="Calibri"/>
              </a:rPr>
              <a:t>c</a:t>
            </a:r>
            <a:r>
              <a:rPr b="1" lang="en-US" sz="2400" spc="-1" strike="noStrike">
                <a:solidFill>
                  <a:srgbClr val="ffffff"/>
                </a:solidFill>
                <a:latin typeface="Verdana"/>
                <a:ea typeface="Calibri"/>
              </a:rPr>
              <a:t>) والاستحقاق الوظيفي (</a:t>
            </a:r>
            <a:r>
              <a:rPr b="1" lang="en-US" sz="2400" spc="-1" strike="noStrike">
                <a:solidFill>
                  <a:srgbClr val="ffffff"/>
                </a:solidFill>
                <a:latin typeface="Verdana"/>
                <a:ea typeface="Calibri"/>
              </a:rPr>
              <a:t>f</a:t>
            </a:r>
            <a:r>
              <a:rPr b="1" lang="en-US" sz="2400" spc="-1" strike="noStrike">
                <a:solidFill>
                  <a:srgbClr val="ffffff"/>
                </a:solidFill>
                <a:latin typeface="Verdana"/>
                <a:ea typeface="Calibri"/>
              </a:rPr>
              <a:t>) هو منحنى القيمة المثلى (مؤشر القيمة ) والذي تكون عنده القيمة مساوية إلى واحد صحيح، وهذا يعني أن الاستحقاق الوظيفي لوظائف المنتج متساوية مع كلفتها، أما النقاط أعلى المنحنى فهي أقل من واحد صحيح وهذا يعني أن الكلفة أعلى من الاستحقاق الوظيفي، أما النقاط أسفل المنحنى فتشير إلى أن مؤشر القيمة يكون أكبر من واحد صحيح، وهذا يعني أن الاستحقاق الوظيفي أعلى من الكلفة، فإذا كانت النسبة أعلى من واحد صحيح دّل على جودة القيمة والعكس صحي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410040" y="129960"/>
            <a:ext cx="9109440" cy="674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107640" y="116640"/>
            <a:ext cx="8856720" cy="62276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ar-IQ" sz="2800" spc="-1" strike="noStrike">
                <a:solidFill>
                  <a:srgbClr val="ffffff"/>
                </a:solidFill>
                <a:latin typeface="Verdana"/>
              </a:rPr>
              <a:t>وتحسين القيمة يتم بطريقتين:- </a:t>
            </a:r>
            <a:endParaRPr b="0" lang="en-US" sz="2800" spc="-1" strike="noStrike">
              <a:solidFill>
                <a:srgbClr val="000000"/>
              </a:solidFill>
              <a:latin typeface="Arial"/>
            </a:endParaRPr>
          </a:p>
          <a:p>
            <a:pPr algn="just" rtl="1">
              <a:lnSpc>
                <a:spcPct val="115000"/>
              </a:lnSpc>
              <a:spcAft>
                <a:spcPts val="1001"/>
              </a:spcAft>
            </a:pPr>
            <a:r>
              <a:rPr b="1" lang="ar-IQ" sz="2800" spc="-1" strike="noStrike">
                <a:solidFill>
                  <a:srgbClr val="ffffff"/>
                </a:solidFill>
                <a:latin typeface="Verdana"/>
              </a:rPr>
              <a:t>أولاً: ثبات تكلفة مكونات المنتج التي تؤدي مجموعة من الوظائف كما هي مع زيادة الاستحقاقات الوظيفية لهذه المكونات وذلك بإلغاء الوظائف التي لا ترضي الزبون أو التي لا تضيف قيمة للمنتج وإضافة الوظائف التي يطلبها الزبون. </a:t>
            </a:r>
            <a:endParaRPr b="0" lang="en-US" sz="2800" spc="-1" strike="noStrike">
              <a:solidFill>
                <a:srgbClr val="000000"/>
              </a:solidFill>
              <a:latin typeface="Arial"/>
            </a:endParaRPr>
          </a:p>
          <a:p>
            <a:pPr algn="just" rtl="1">
              <a:lnSpc>
                <a:spcPct val="115000"/>
              </a:lnSpc>
              <a:spcAft>
                <a:spcPts val="1001"/>
              </a:spcAft>
            </a:pPr>
            <a:r>
              <a:rPr b="1" lang="ar-IQ" sz="2800" spc="-1" strike="noStrike">
                <a:solidFill>
                  <a:srgbClr val="ffffff"/>
                </a:solidFill>
                <a:latin typeface="Verdana"/>
              </a:rPr>
              <a:t>ثانياً: إذا بقيت الاستحقاقات الوظيفية على حالها ولكن بتخفيض كلفة المكونات التي تؤدي الوظائف، فالبعض يعطي الأولوية لهدف تخفيض التكلفة ضمن أهداف ومنافع هندسة القيمة من خلال إزالة كلف الوظائف التي لا تضيف قيمة للمنتج بينما البعض الآخر يعطي الأولوية لتحسين وظيفة المنت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0"/>
            <a:ext cx="9036000" cy="610056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ar-IQ" sz="2800" spc="-1" strike="noStrike" u="sng">
                <a:solidFill>
                  <a:srgbClr val="ffffff"/>
                </a:solidFill>
                <a:uFillTx/>
                <a:latin typeface="Verdana"/>
              </a:rPr>
              <a:t>دور هندسة القيمة في تخفيض كلف الجودة</a:t>
            </a:r>
            <a:r>
              <a:rPr b="1" lang="en-US" sz="2800" spc="-1" strike="noStrike">
                <a:solidFill>
                  <a:srgbClr val="ffffff"/>
                </a:solidFill>
                <a:latin typeface="Verdana"/>
                <a:ea typeface="Calibri"/>
              </a:rPr>
              <a:t> </a:t>
            </a:r>
            <a:endParaRPr b="0" lang="en-US" sz="2800" spc="-1" strike="noStrike">
              <a:solidFill>
                <a:srgbClr val="000000"/>
              </a:solidFill>
              <a:latin typeface="Arial"/>
            </a:endParaRPr>
          </a:p>
          <a:p>
            <a:pPr algn="just" rtl="1">
              <a:lnSpc>
                <a:spcPct val="115000"/>
              </a:lnSpc>
              <a:spcAft>
                <a:spcPts val="1001"/>
              </a:spcAft>
            </a:pPr>
            <a:r>
              <a:rPr b="1" lang="ar-IQ" sz="2800" spc="-1" strike="noStrike">
                <a:solidFill>
                  <a:srgbClr val="ffffff"/>
                </a:solidFill>
                <a:latin typeface="Verdana"/>
              </a:rPr>
              <a:t>هندسة القيمة ترتكز على مرحلتين أساسيتين وهما مرحلة تحليل الوظائف ومرحلة الإبداع , في المرحلة الأولى منهما يتم تجزئة كل الوظائف الخاصة بالمشروع قيد البحث كما حدث مع وظائف كلف الجودة . أما المرحلة الثانية فأنها تعتمد على الأفكار المطروحة لغرض التخلص من الوظائف التي لا تضيف قيمة او على الأقل تخفيض كلفتها إلى حد تكون فيه قيمتها مساوية لكلفتها وهذا ما يحدث حينما يتم تحديد الوظائف التي كانت قيمتها اقل من الواحد الصحيح حيث يتم اقتراح عده أفكار او بدائل لتنفيذ كل وظيفة ويتم اختيار بدائل لإنجاز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0" y="0"/>
            <a:ext cx="9143640" cy="65016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ar-IQ" sz="3200" spc="-1" strike="noStrike" u="sng">
                <a:solidFill>
                  <a:srgbClr val="ffffff"/>
                </a:solidFill>
                <a:uFillTx/>
                <a:latin typeface="Verdana"/>
              </a:rPr>
              <a:t>اولا: الاستنتاجات:</a:t>
            </a:r>
            <a:endParaRPr b="0" lang="en-US" sz="3200" spc="-1" strike="noStrike">
              <a:solidFill>
                <a:srgbClr val="000000"/>
              </a:solidFill>
              <a:latin typeface="Arial"/>
            </a:endParaRPr>
          </a:p>
        </p:txBody>
      </p:sp>
      <p:sp>
        <p:nvSpPr>
          <p:cNvPr id="97" name="Rectangle 2"/>
          <p:cNvSpPr/>
          <p:nvPr/>
        </p:nvSpPr>
        <p:spPr>
          <a:xfrm>
            <a:off x="0" y="764640"/>
            <a:ext cx="9143640" cy="513432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en-US" sz="3200" spc="-1" strike="noStrike">
                <a:solidFill>
                  <a:srgbClr val="ffffff"/>
                </a:solidFill>
                <a:latin typeface="Verdana"/>
                <a:ea typeface="Calibri"/>
              </a:rPr>
              <a:t>1</a:t>
            </a:r>
            <a:r>
              <a:rPr b="1" lang="en-US" sz="3200" spc="-1" strike="noStrike">
                <a:solidFill>
                  <a:srgbClr val="ffffff"/>
                </a:solidFill>
                <a:latin typeface="Verdana"/>
                <a:ea typeface="Calibri"/>
              </a:rPr>
              <a:t>-ان الجودة هي هدف ستراتيجي يسعى لتحقيق مجموعة من المزايا للوحدة الاقتصادية والتي من أهمها تخفيض التكاليف وتحسين وزيادة كل من الإنتاجية والربحية وكسب الزبائن وتعزيز الموقف التنافسي وزيادة الحصة السوقية فضلا" عن تحقيق أهداف الوحدة الاقتصادية القصيرة أو الطويلة الأجل ، ولغرض تحقيق هذا الهدف الستراتيجي فلابد من عمل الشيْ صحيحا" من المرة الأول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139320" y="29160"/>
            <a:ext cx="9036000" cy="695412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en-US" sz="2800" spc="-1" strike="noStrike">
                <a:solidFill>
                  <a:srgbClr val="ffffff"/>
                </a:solidFill>
                <a:latin typeface="Verdana"/>
                <a:ea typeface="Calibri"/>
              </a:rPr>
              <a:t>2</a:t>
            </a:r>
            <a:r>
              <a:rPr b="1" lang="en-US" sz="2800" spc="-1" strike="noStrike">
                <a:solidFill>
                  <a:srgbClr val="ffffff"/>
                </a:solidFill>
                <a:latin typeface="Verdana"/>
                <a:ea typeface="Calibri"/>
              </a:rPr>
              <a:t>-يتطلب من هندسة القيمة اجراء التحليل الوظيفي للمنتج فكل منتج يتكون من اجزاء ولكل جزء وظيفة وتتم مقارنة كل وظيفة مع القيمة المدركة من قبل الزبون فاذا كانت كلفة كل وظيفة تزيد عن القيمة المدركة منها يتم تعديل او تحسين الوظيفة في ضوء القيمة المدركة من اجل ان تكون القيمة اعلى من الكلفة. اما اذا كان الزبون غير مستعد للدفع عن وظائف معينة فيتم التخلص من هذه الوظائف.ولهندسة القيمة علاقة وثيقة بالجودة فتحقيق الجودة يعني تحقيق احد اهداف هندسة القيمة,وان نشر وظيفة الجودة وهندسة القيمة كليهما يبنيان على الوظائف ويركزان على الزبائن وكسب رضاهم ويكون من خلال ايجاد بدائل التصميم لاجزاء ومكونات المنتج باقل كلف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72720" y="116640"/>
            <a:ext cx="9143640" cy="709920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r>
              <a:rPr b="1" lang="en-US" sz="2800" spc="-1" strike="noStrike">
                <a:solidFill>
                  <a:srgbClr val="ffffff"/>
                </a:solidFill>
                <a:latin typeface="Verdana"/>
                <a:ea typeface="Calibri"/>
              </a:rPr>
              <a:t>3</a:t>
            </a:r>
            <a:r>
              <a:rPr b="1" lang="en-US" sz="3200" spc="-1" strike="noStrike">
                <a:solidFill>
                  <a:srgbClr val="ffffff"/>
                </a:solidFill>
                <a:latin typeface="Verdana"/>
                <a:ea typeface="Calibri"/>
              </a:rPr>
              <a:t>-هناك توافق بين هندسة القيمة وكلف الجودة لتخفيض التكاليف من حيث استبعاد كل الانشطة والوظائف غير الضروري والتي لاتضيف قيمة للمنتج.وان المستوى الأمثل لكلف الجودة يحدد من خلال وجهتي نظر الأولى النظرة التقليدية والتي تتمثل في الموازنة بين كلف المنع والتقييم من جهة وكلف الفشل الداخلي وكلف الفشل الخارجي من جهة أخرى , والثانية نظرة التصنيف العالمي ( المعيب الصفري ) والتي تمثل أدنى مستوى لتكاليف الجودة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159480" y="145080"/>
            <a:ext cx="8928720" cy="64976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3600" spc="-1" strike="noStrike">
              <a:solidFill>
                <a:srgbClr val="000000"/>
              </a:solidFill>
              <a:latin typeface="Arial"/>
            </a:endParaRPr>
          </a:p>
          <a:p>
            <a:pPr algn="just" rtl="1">
              <a:lnSpc>
                <a:spcPct val="115000"/>
              </a:lnSpc>
              <a:spcAft>
                <a:spcPts val="1001"/>
              </a:spcAft>
            </a:pPr>
            <a:r>
              <a:rPr b="1" lang="ar-IQ" sz="3200" spc="-1" strike="noStrike" u="sng">
                <a:solidFill>
                  <a:srgbClr val="ffffff"/>
                </a:solidFill>
                <a:uFillTx/>
                <a:latin typeface="Verdana"/>
              </a:rPr>
              <a:t>ثالثا: . هدف من المحاضرة  :</a:t>
            </a:r>
            <a:endParaRPr b="0" lang="en-US" sz="3200" spc="-1" strike="noStrike">
              <a:solidFill>
                <a:srgbClr val="000000"/>
              </a:solidFill>
              <a:latin typeface="Arial"/>
            </a:endParaRPr>
          </a:p>
          <a:p>
            <a:pPr algn="just" rtl="1">
              <a:lnSpc>
                <a:spcPct val="115000"/>
              </a:lnSpc>
              <a:spcAft>
                <a:spcPts val="1001"/>
              </a:spcAft>
            </a:pPr>
            <a:r>
              <a:rPr b="1" lang="ar-IQ" sz="3200" spc="-1" strike="noStrike">
                <a:solidFill>
                  <a:srgbClr val="ffffff"/>
                </a:solidFill>
                <a:latin typeface="Verdana"/>
              </a:rPr>
              <a:t>يكمن هدف البحث في إبراز دور هندسة القيمة في تخفيض كلف الجودة من خلال تحليل الأداء الوظيفي واستبعاد الوظائف غير الضرورية والتي لا تضيف قيمة للمنتج وبالشكل الذي يؤدي الى تحسين نوعية المنتج , حيث سيبين البحث المرتكزات المعرفية للتوافق بين تقنيتي هندسة القيمة وتكاليف الجودة وسعيهما لتخفيض التكاليف وتحسين مستوى جودة المنتج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0" y="260640"/>
            <a:ext cx="9036000" cy="650952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ar-IQ" sz="3200" spc="-1" strike="noStrike" u="sng">
                <a:solidFill>
                  <a:srgbClr val="ffffff"/>
                </a:solidFill>
                <a:uFillTx/>
                <a:latin typeface="Verdana"/>
              </a:rPr>
              <a:t>ثانيا:التوصيات:</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1</a:t>
            </a:r>
            <a:r>
              <a:rPr b="1" lang="en-US" sz="3200" spc="-1" strike="noStrike">
                <a:solidFill>
                  <a:srgbClr val="ffffff"/>
                </a:solidFill>
                <a:latin typeface="Verdana"/>
                <a:ea typeface="Calibri"/>
              </a:rPr>
              <a:t>-السعي إلى نشر مفهوم هندسة القيمة ومنهج القيمة في القطاعين العام والخاص لما له من فوائد في المجالين, فضلاً عن نشر روح منهج القيمة </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2</a:t>
            </a:r>
            <a:r>
              <a:rPr b="1" lang="en-US" sz="3200" spc="-1" strike="noStrike">
                <a:solidFill>
                  <a:srgbClr val="ffffff"/>
                </a:solidFill>
                <a:latin typeface="Verdana"/>
                <a:ea typeface="Calibri"/>
              </a:rPr>
              <a:t>-محاولة تطبيق تقنية هندسة القيمة على فئات ومكونات كلف الجودة ذات الكلفة المرتفعة حتى وان كانت قيمتها الوظيفية اكبر من الواحد الصحيح , فقد تكون هناك بدائل للمحافظة على قيمتها الوظيفية وتخفيض كلفتها في الوقت نفس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0" y="0"/>
            <a:ext cx="9143640" cy="60818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3</a:t>
            </a:r>
            <a:r>
              <a:rPr b="1" lang="en-US" sz="2800" spc="-1" strike="noStrike">
                <a:solidFill>
                  <a:srgbClr val="ffffff"/>
                </a:solidFill>
                <a:latin typeface="Verdana"/>
                <a:ea typeface="Calibri"/>
              </a:rPr>
              <a:t>- نوصي كافة الوحدات الاقتصادية بالاهتمام بالتقنيات الكلفوية المعاصرة ومنها تقنية هندسة القيمة وكلف الجودة لما لها من اثار كبيرة على تخفيض التكاليف وزيادة الانتاجية وتحسين نوعية المنتجات ومنافستها للسلع الاجنبية لتحقيق اعلى الارباح وتعظيم الحصة السوقية للمنتجات العراقية وتحقيق ميزة تنافسية مقارنة بالسلع الاجنبية.</a:t>
            </a:r>
            <a:endParaRPr b="0" lang="en-US" sz="2800" spc="-1" strike="noStrike">
              <a:solidFill>
                <a:srgbClr val="000000"/>
              </a:solidFill>
              <a:latin typeface="Arial"/>
            </a:endParaRPr>
          </a:p>
          <a:p>
            <a:pPr algn="just" rtl="1">
              <a:lnSpc>
                <a:spcPct val="115000"/>
              </a:lnSpc>
              <a:spcAft>
                <a:spcPts val="1001"/>
              </a:spcAft>
            </a:pPr>
            <a:r>
              <a:rPr b="1" lang="en-US" sz="2800" spc="-1" strike="noStrike">
                <a:solidFill>
                  <a:srgbClr val="ffffff"/>
                </a:solidFill>
                <a:latin typeface="Verdana"/>
                <a:ea typeface="Calibri"/>
              </a:rPr>
              <a:t>4</a:t>
            </a:r>
            <a:r>
              <a:rPr b="1" lang="en-US" sz="2800" spc="-1" strike="noStrike">
                <a:solidFill>
                  <a:srgbClr val="ffffff"/>
                </a:solidFill>
                <a:latin typeface="Verdana"/>
                <a:ea typeface="Calibri"/>
              </a:rPr>
              <a:t>- الاهتمام بكلف الجودة وبيان اثار الفشل الداخلي والخارجي بالمنتجات العراقية وحساب كلفها والسعي لتخفيضها من خلال الاهتمام بالمواصفات القياسية والسعي للحصول على شهادة الايزو بالجو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116720" y="908640"/>
            <a:ext cx="8352720" cy="57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116640"/>
            <a:ext cx="9036000" cy="533016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r>
              <a:rPr b="1" lang="ar-IQ" sz="3600" spc="-1" strike="noStrike" u="sng">
                <a:solidFill>
                  <a:srgbClr val="ffffff"/>
                </a:solidFill>
                <a:uFillTx/>
                <a:latin typeface="Verdana"/>
              </a:rPr>
              <a:t>رابعا: الابعاد الاساسية : </a:t>
            </a:r>
            <a:endParaRPr b="0" lang="en-US" sz="3600" spc="-1" strike="noStrike">
              <a:solidFill>
                <a:srgbClr val="000000"/>
              </a:solidFill>
              <a:latin typeface="Arial"/>
            </a:endParaRPr>
          </a:p>
          <a:p>
            <a:pPr algn="just" rtl="1">
              <a:lnSpc>
                <a:spcPct val="115000"/>
              </a:lnSpc>
              <a:spcAft>
                <a:spcPts val="1001"/>
              </a:spcAft>
            </a:pPr>
            <a:r>
              <a:rPr b="1" lang="ar-IQ" sz="3200" spc="-1" strike="noStrike">
                <a:solidFill>
                  <a:srgbClr val="ffffff"/>
                </a:solidFill>
                <a:latin typeface="Verdana"/>
              </a:rPr>
              <a:t>يستند المحاضرة الى </a:t>
            </a:r>
            <a:r>
              <a:rPr b="1" lang="en-US" sz="3200" spc="-1" strike="noStrike" u="sng">
                <a:solidFill>
                  <a:srgbClr val="ffffff"/>
                </a:solidFill>
                <a:uFillTx/>
                <a:latin typeface="Verdana"/>
                <a:ea typeface="Calibri"/>
              </a:rPr>
              <a:t>:</a:t>
            </a:r>
            <a:endParaRPr b="0" lang="en-US" sz="3200" spc="-1" strike="noStrike">
              <a:solidFill>
                <a:srgbClr val="000000"/>
              </a:solidFill>
              <a:latin typeface="Arial"/>
            </a:endParaRPr>
          </a:p>
          <a:p>
            <a:pPr algn="just" rtl="1">
              <a:lnSpc>
                <a:spcPct val="115000"/>
              </a:lnSpc>
              <a:spcAft>
                <a:spcPts val="1001"/>
              </a:spcAft>
            </a:pPr>
            <a:r>
              <a:rPr b="1" lang="en-US" sz="3200" spc="-1" strike="noStrike">
                <a:solidFill>
                  <a:srgbClr val="ffffff"/>
                </a:solidFill>
                <a:latin typeface="Verdana"/>
                <a:ea typeface="Calibri"/>
              </a:rPr>
              <a:t>"إن استعمال تقنية هندسة القيمة وفق الآلية السليمة والمتمثلة بتحليل الوظائف وتحديد القيمة لهذه الوظائف من خلال معرفة كلفتها واستحقاقها الوظيفي سيعمل على تخفيض كلف الجودة(كلف الفشل الداخلي والخارجي) والتي ستنعكس في تحسين نوعية المنتج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49320" y="0"/>
            <a:ext cx="9036000" cy="39416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2000" spc="-1" strike="noStrike">
              <a:solidFill>
                <a:srgbClr val="000000"/>
              </a:solidFill>
              <a:latin typeface="Arial"/>
            </a:endParaRPr>
          </a:p>
          <a:p>
            <a:pPr algn="just" rtl="1">
              <a:lnSpc>
                <a:spcPct val="115000"/>
              </a:lnSpc>
              <a:spcAft>
                <a:spcPts val="1001"/>
              </a:spcAft>
            </a:pPr>
            <a:r>
              <a:rPr b="1" lang="ar-IQ" sz="2800" spc="-1" strike="noStrike">
                <a:solidFill>
                  <a:srgbClr val="ffffff"/>
                </a:solidFill>
                <a:latin typeface="Verdana"/>
              </a:rPr>
              <a:t>أولا" :ـ الجودة من وجهة نظر الزبون:</a:t>
            </a:r>
            <a:endParaRPr b="0" lang="en-US" sz="2800" spc="-1" strike="noStrike">
              <a:solidFill>
                <a:srgbClr val="000000"/>
              </a:solidFill>
              <a:latin typeface="Arial"/>
            </a:endParaRPr>
          </a:p>
          <a:p>
            <a:pPr algn="just" rtl="1">
              <a:lnSpc>
                <a:spcPct val="115000"/>
              </a:lnSpc>
              <a:spcAft>
                <a:spcPts val="1001"/>
              </a:spcAft>
            </a:pPr>
            <a:r>
              <a:rPr b="1" lang="ar-IQ" sz="3200" spc="-1" strike="noStrike">
                <a:solidFill>
                  <a:srgbClr val="ffffff"/>
                </a:solidFill>
                <a:latin typeface="Verdana"/>
              </a:rPr>
              <a:t>إن الجودةهي الملائمة للاستعمال </a:t>
            </a:r>
            <a:r>
              <a:rPr b="1" lang="en-US" sz="3200" spc="-1" strike="noStrike">
                <a:solidFill>
                  <a:srgbClr val="ffffff"/>
                </a:solidFill>
                <a:latin typeface="Verdana"/>
                <a:ea typeface="Calibri"/>
              </a:rPr>
              <a:t>Fitness for use</a:t>
            </a:r>
            <a:r>
              <a:rPr b="1" lang="en-US" sz="3200" spc="-1" strike="noStrike">
                <a:solidFill>
                  <a:srgbClr val="ffffff"/>
                </a:solidFill>
                <a:latin typeface="Arial"/>
                <a:ea typeface="Calibri"/>
              </a:rPr>
              <a:t> </a:t>
            </a:r>
            <a:r>
              <a:rPr b="1" lang="ar-IQ" sz="3200" spc="-1" strike="noStrike">
                <a:solidFill>
                  <a:srgbClr val="ffffff"/>
                </a:solidFill>
                <a:latin typeface="Verdana"/>
                <a:cs typeface="Arial"/>
              </a:rPr>
              <a:t>، إما الجمعية الأمريكية للسيطرة النوعية (</a:t>
            </a:r>
            <a:r>
              <a:rPr b="1" lang="en-US" sz="3200" spc="-1" strike="noStrike">
                <a:solidFill>
                  <a:srgbClr val="ffffff"/>
                </a:solidFill>
                <a:latin typeface="Verdana"/>
                <a:ea typeface="Calibri"/>
              </a:rPr>
              <a:t>ASQC</a:t>
            </a:r>
            <a:r>
              <a:rPr b="1" lang="en-US" sz="3200" spc="-1" strike="noStrike">
                <a:solidFill>
                  <a:srgbClr val="ffffff"/>
                </a:solidFill>
                <a:latin typeface="Verdana"/>
                <a:ea typeface="Calibri"/>
              </a:rPr>
              <a:t>)</a:t>
            </a:r>
            <a:r>
              <a:rPr b="1" lang="en-US" sz="3200" spc="-1" strike="noStrike">
                <a:solidFill>
                  <a:srgbClr val="ffffff"/>
                </a:solidFill>
                <a:latin typeface="Arial"/>
                <a:ea typeface="Calibri"/>
              </a:rPr>
              <a:t> فترى بأن الجودة هي مجموعة من الصفات للمنتوج المصنّع المقدمة التي تلبي احتياجات الزبائن وتوقعات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a:off x="0" y="0"/>
            <a:ext cx="9143640" cy="650664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r>
              <a:rPr b="1" lang="en-US" sz="1800" spc="-1" strike="noStrike">
                <a:solidFill>
                  <a:srgbClr val="ffffff"/>
                </a:solidFill>
                <a:latin typeface="Verdana"/>
                <a:ea typeface="Calibri"/>
              </a:rPr>
              <a:t> </a:t>
            </a:r>
            <a:endParaRPr b="0" lang="en-US" sz="1800" spc="-1" strike="noStrike">
              <a:solidFill>
                <a:srgbClr val="000000"/>
              </a:solidFill>
              <a:latin typeface="Arial"/>
            </a:endParaRPr>
          </a:p>
          <a:p>
            <a:pPr algn="just" rtl="1">
              <a:lnSpc>
                <a:spcPct val="115000"/>
              </a:lnSpc>
              <a:spcAft>
                <a:spcPts val="1001"/>
              </a:spcAft>
            </a:pPr>
            <a:r>
              <a:rPr b="1" lang="ar-IQ" sz="2400" spc="-1" strike="noStrike">
                <a:solidFill>
                  <a:srgbClr val="ffffff"/>
                </a:solidFill>
                <a:latin typeface="Verdana"/>
              </a:rPr>
              <a:t>وهناك عدة أبعاد لجودة المنتوج من خلالها يمكن تلبية احتياجات الزبون وتوقعاته وبالشكل الذي يحقق رضاه : </a:t>
            </a:r>
            <a:endParaRPr b="0" lang="en-US" sz="2400" spc="-1" strike="noStrike">
              <a:solidFill>
                <a:srgbClr val="000000"/>
              </a:solidFill>
              <a:latin typeface="Arial"/>
            </a:endParaRPr>
          </a:p>
          <a:p>
            <a:pPr marL="457200" indent="-457200" algn="just" rtl="1">
              <a:lnSpc>
                <a:spcPct val="115000"/>
              </a:lnSpc>
              <a:spcAft>
                <a:spcPts val="1001"/>
              </a:spcAft>
              <a:buClr>
                <a:srgbClr val="ffffff"/>
              </a:buClr>
              <a:buFont typeface="StarSymbol"/>
              <a:buAutoNum type="arabicParenR"/>
            </a:pPr>
            <a:r>
              <a:rPr b="1" lang="ar-IQ" sz="2400" spc="-1" strike="noStrike">
                <a:solidFill>
                  <a:srgbClr val="ffffff"/>
                </a:solidFill>
                <a:latin typeface="Verdana"/>
              </a:rPr>
              <a:t>الأداء </a:t>
            </a:r>
            <a:r>
              <a:rPr b="1" lang="en-US" sz="2400" spc="-1" strike="noStrike">
                <a:solidFill>
                  <a:srgbClr val="ffffff"/>
                </a:solidFill>
                <a:latin typeface="Verdana"/>
                <a:ea typeface="Calibri"/>
              </a:rPr>
              <a:t>Performance</a:t>
            </a:r>
            <a:r>
              <a:rPr b="1" lang="en-US" sz="2400" spc="-1" strike="noStrike">
                <a:solidFill>
                  <a:srgbClr val="ffffff"/>
                </a:solidFill>
                <a:latin typeface="Verdana"/>
                <a:ea typeface="Calibri"/>
              </a:rPr>
              <a:t> :ـ ويمثل مجموعة من الخصائص التشغيلية الأساسية للمنتوج التي تلبي احتياجات الزبائن وتوقعاتهم أو إنها الكيفية التي يتم بها أداء الوظيفة ومعالمها .</a:t>
            </a:r>
            <a:endParaRPr b="0" lang="en-US" sz="2400" spc="-1" strike="noStrike">
              <a:solidFill>
                <a:srgbClr val="000000"/>
              </a:solidFill>
              <a:latin typeface="Arial"/>
            </a:endParaRPr>
          </a:p>
          <a:p>
            <a:pPr marL="457200" indent="-457200" algn="just" rtl="1">
              <a:lnSpc>
                <a:spcPct val="115000"/>
              </a:lnSpc>
              <a:spcAft>
                <a:spcPts val="1001"/>
              </a:spcAft>
              <a:buClr>
                <a:srgbClr val="ffffff"/>
              </a:buClr>
              <a:buFont typeface="StarSymbol"/>
              <a:buAutoNum type="arabicParenR"/>
            </a:pPr>
            <a:r>
              <a:rPr b="1" lang="ar-IQ" sz="2400" spc="-1" strike="noStrike">
                <a:solidFill>
                  <a:srgbClr val="ffffff"/>
                </a:solidFill>
                <a:latin typeface="Verdana"/>
                <a:cs typeface="Arial"/>
              </a:rPr>
              <a:t>السمات </a:t>
            </a:r>
            <a:r>
              <a:rPr b="1" lang="en-US" sz="2400" spc="-1" strike="noStrike">
                <a:solidFill>
                  <a:srgbClr val="ffffff"/>
                </a:solidFill>
                <a:latin typeface="Verdana"/>
                <a:ea typeface="Calibri"/>
              </a:rPr>
              <a:t>Features</a:t>
            </a:r>
            <a:r>
              <a:rPr b="1" lang="en-US" sz="2400" spc="-1" strike="noStrike">
                <a:solidFill>
                  <a:srgbClr val="ffffff"/>
                </a:solidFill>
                <a:latin typeface="Verdana"/>
                <a:ea typeface="Calibri"/>
              </a:rPr>
              <a:t> :ـ وهي الخصائص الإضافية للمنتوج التي تساعد في أداء وظائفه الأساسية .</a:t>
            </a:r>
            <a:endParaRPr b="0" lang="en-US" sz="24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ar-IQ" sz="2400" spc="-1" strike="noStrike">
                <a:solidFill>
                  <a:srgbClr val="ffffff"/>
                </a:solidFill>
                <a:latin typeface="Verdana"/>
                <a:cs typeface="Arial"/>
              </a:rPr>
              <a:t>المعولية (الاعتمادية) </a:t>
            </a:r>
            <a:r>
              <a:rPr b="1" lang="en-US" sz="2400" spc="-1" strike="noStrike">
                <a:solidFill>
                  <a:srgbClr val="ffffff"/>
                </a:solidFill>
                <a:latin typeface="Verdana"/>
                <a:ea typeface="Calibri"/>
              </a:rPr>
              <a:t>Reliability</a:t>
            </a:r>
            <a:r>
              <a:rPr b="1" lang="en-US" sz="2400" spc="-1" strike="noStrike">
                <a:solidFill>
                  <a:srgbClr val="ffffff"/>
                </a:solidFill>
                <a:latin typeface="Verdana"/>
                <a:ea typeface="Calibri"/>
              </a:rPr>
              <a:t> :ـ وتعني احتمال عمل المنتوج بشكل جيد خلال مدة معينة </a:t>
            </a:r>
            <a:endParaRPr b="0" lang="en-US" sz="24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ar-IQ" sz="2400" spc="-1" strike="noStrike">
                <a:solidFill>
                  <a:srgbClr val="ffffff"/>
                </a:solidFill>
                <a:latin typeface="Verdana"/>
                <a:cs typeface="Arial"/>
              </a:rPr>
              <a:t>المطابقة </a:t>
            </a:r>
            <a:r>
              <a:rPr b="1" lang="en-US" sz="2400" spc="-1" strike="noStrike">
                <a:solidFill>
                  <a:srgbClr val="ffffff"/>
                </a:solidFill>
                <a:latin typeface="Verdana"/>
                <a:ea typeface="Calibri"/>
              </a:rPr>
              <a:t>Conformance</a:t>
            </a:r>
            <a:r>
              <a:rPr b="1" lang="en-US" sz="2400" spc="-1" strike="noStrike">
                <a:solidFill>
                  <a:srgbClr val="ffffff"/>
                </a:solidFill>
                <a:latin typeface="Verdana"/>
                <a:ea typeface="Calibri"/>
              </a:rPr>
              <a:t> :ـ وهي درجة مطابقة المنتوج للمعايير أو المواصفات المحددة التي يرغب بها الزبائن بحيث يمكن أن تلبي احتياجاتهم وتوقعات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0" y="-38160"/>
            <a:ext cx="9143640" cy="597600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28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en-US" sz="2800" spc="-1" strike="noStrike">
                <a:solidFill>
                  <a:srgbClr val="ffffff"/>
                </a:solidFill>
                <a:latin typeface="Verdana"/>
                <a:ea typeface="Calibri"/>
              </a:rPr>
              <a:t>5</a:t>
            </a:r>
            <a:r>
              <a:rPr b="1" lang="en-US" sz="2400" spc="-1" strike="noStrike">
                <a:solidFill>
                  <a:srgbClr val="ffffff"/>
                </a:solidFill>
                <a:latin typeface="Verdana"/>
                <a:ea typeface="Calibri"/>
              </a:rPr>
              <a:t>)-المتانة (التحمل) </a:t>
            </a:r>
            <a:r>
              <a:rPr b="1" lang="en-US" sz="2400" spc="-1" strike="noStrike">
                <a:solidFill>
                  <a:srgbClr val="ffffff"/>
                </a:solidFill>
                <a:latin typeface="Verdana"/>
                <a:ea typeface="Calibri"/>
              </a:rPr>
              <a:t>Durability</a:t>
            </a:r>
            <a:r>
              <a:rPr b="1" lang="en-US" sz="2400" spc="-1" strike="noStrike">
                <a:solidFill>
                  <a:srgbClr val="ffffff"/>
                </a:solidFill>
                <a:latin typeface="Verdana"/>
                <a:ea typeface="Calibri"/>
              </a:rPr>
              <a:t> :ـ وتعني مقدار الاستعمال الذي يحصل عليه الزبون من المنتوج خلال عمره الإنتاجي أي قبل التخلص منه أو استبداله .</a:t>
            </a:r>
            <a:endParaRPr b="0" lang="en-US" sz="24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en-US" sz="2400" spc="-1" strike="noStrike">
                <a:solidFill>
                  <a:srgbClr val="ffffff"/>
                </a:solidFill>
                <a:latin typeface="Verdana"/>
                <a:ea typeface="Calibri"/>
              </a:rPr>
              <a:t>6</a:t>
            </a:r>
            <a:r>
              <a:rPr b="1" lang="en-US" sz="2400" spc="-1" strike="noStrike">
                <a:solidFill>
                  <a:srgbClr val="ffffff"/>
                </a:solidFill>
                <a:latin typeface="Verdana"/>
                <a:ea typeface="Calibri"/>
              </a:rPr>
              <a:t>)-القابلية على الخدمة </a:t>
            </a:r>
            <a:r>
              <a:rPr b="1" lang="en-US" sz="2400" spc="-1" strike="noStrike">
                <a:solidFill>
                  <a:srgbClr val="ffffff"/>
                </a:solidFill>
                <a:latin typeface="Verdana"/>
                <a:ea typeface="Calibri"/>
              </a:rPr>
              <a:t>Serviceability</a:t>
            </a:r>
            <a:r>
              <a:rPr b="1" lang="en-US" sz="2400" spc="-1" strike="noStrike">
                <a:solidFill>
                  <a:srgbClr val="ffffff"/>
                </a:solidFill>
                <a:latin typeface="Verdana"/>
                <a:ea typeface="Calibri"/>
              </a:rPr>
              <a:t> :ـ وتشير إلى إمكانية تصليح المنتوج بالسرعة والكفاءة عند حصول مشكلة في استعماله فضلا" عن توفر أدواته الاحتياطية بكلفة منخفضة .</a:t>
            </a:r>
            <a:endParaRPr b="0" lang="en-US" sz="24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en-US" sz="2400" spc="-1" strike="noStrike">
                <a:solidFill>
                  <a:srgbClr val="ffffff"/>
                </a:solidFill>
                <a:latin typeface="Verdana"/>
                <a:ea typeface="Calibri"/>
              </a:rPr>
              <a:t>7</a:t>
            </a:r>
            <a:r>
              <a:rPr b="1" lang="en-US" sz="2400" spc="-1" strike="noStrike">
                <a:solidFill>
                  <a:srgbClr val="ffffff"/>
                </a:solidFill>
                <a:latin typeface="Verdana"/>
                <a:ea typeface="Calibri"/>
              </a:rPr>
              <a:t>-)الجمالية </a:t>
            </a:r>
            <a:r>
              <a:rPr b="1" lang="en-US" sz="2400" spc="-1" strike="noStrike">
                <a:solidFill>
                  <a:srgbClr val="ffffff"/>
                </a:solidFill>
                <a:latin typeface="Verdana"/>
                <a:ea typeface="Calibri"/>
              </a:rPr>
              <a:t>Aesthetics</a:t>
            </a:r>
            <a:r>
              <a:rPr b="1" lang="en-US" sz="2400" spc="-1" strike="noStrike">
                <a:solidFill>
                  <a:srgbClr val="ffffff"/>
                </a:solidFill>
                <a:latin typeface="Verdana"/>
                <a:ea typeface="Calibri"/>
              </a:rPr>
              <a:t> :ـ وهي مجموعة من الخصائص التي يفضلها الزبون بناءا" على تفضيلاته الخاصة كالشكل والصوت واللون وغيرها . </a:t>
            </a:r>
            <a:endParaRPr b="0" lang="en-US" sz="2400" spc="-1" strike="noStrike">
              <a:solidFill>
                <a:srgbClr val="000000"/>
              </a:solidFill>
              <a:latin typeface="Arial"/>
            </a:endParaRPr>
          </a:p>
          <a:p>
            <a:pPr algn="r" rtl="1">
              <a:lnSpc>
                <a:spcPct val="100000"/>
              </a:lnSpc>
            </a:pPr>
            <a:r>
              <a:rPr b="1" lang="en-US" sz="2400" spc="-1" strike="noStrike">
                <a:solidFill>
                  <a:srgbClr val="ffffff"/>
                </a:solidFill>
                <a:latin typeface="Verdana"/>
                <a:ea typeface="Calibri"/>
              </a:rPr>
              <a:t>8</a:t>
            </a:r>
            <a:r>
              <a:rPr b="1" lang="en-US" sz="2400" spc="-1" strike="noStrike">
                <a:solidFill>
                  <a:srgbClr val="ffffff"/>
                </a:solidFill>
                <a:latin typeface="Verdana"/>
                <a:ea typeface="Calibri"/>
              </a:rPr>
              <a:t>-) الجودة المدركة </a:t>
            </a:r>
            <a:r>
              <a:rPr b="1" lang="en-US" sz="2400" spc="-1" strike="noStrike">
                <a:solidFill>
                  <a:srgbClr val="ffffff"/>
                </a:solidFill>
                <a:latin typeface="Verdana"/>
                <a:ea typeface="Calibri"/>
              </a:rPr>
              <a:t>Perceived Quality</a:t>
            </a:r>
            <a:r>
              <a:rPr b="1" lang="en-US" sz="2400" spc="-1" strike="noStrike">
                <a:solidFill>
                  <a:srgbClr val="ffffff"/>
                </a:solidFill>
                <a:latin typeface="Verdana"/>
                <a:ea typeface="Calibri"/>
              </a:rPr>
              <a:t> :ـ إذ ينظر إلى الجودة على إنها درجة الانسجام مابين توقعات الزبائن لمنتجات الوحدة الاقتصادية وإدراكهم لهذه التوقع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190800" y="1052640"/>
            <a:ext cx="9186840" cy="50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0" y="-90000"/>
            <a:ext cx="9036000" cy="736488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endParaRPr b="0" lang="en-US" sz="1800" spc="-1" strike="noStrike">
              <a:solidFill>
                <a:srgbClr val="000000"/>
              </a:solidFill>
              <a:latin typeface="Arial"/>
            </a:endParaRPr>
          </a:p>
          <a:p>
            <a:pPr algn="just" rtl="1">
              <a:lnSpc>
                <a:spcPct val="115000"/>
              </a:lnSpc>
              <a:spcAft>
                <a:spcPts val="1001"/>
              </a:spcAft>
            </a:pPr>
            <a:r>
              <a:rPr b="1" lang="ar-IQ" sz="2400" spc="-1" strike="noStrike">
                <a:solidFill>
                  <a:srgbClr val="ffffff"/>
                </a:solidFill>
                <a:latin typeface="Verdana"/>
              </a:rPr>
              <a:t>وأهمية الجودة بالنسبة للوحدة الاقتصادية هي :ـ)</a:t>
            </a:r>
            <a:endParaRPr b="0" lang="en-US" sz="2400" spc="-1" strike="noStrike">
              <a:solidFill>
                <a:srgbClr val="000000"/>
              </a:solidFill>
              <a:latin typeface="Arial"/>
            </a:endParaRPr>
          </a:p>
          <a:p>
            <a:pPr marL="343080" indent="-343080" algn="just" rtl="1">
              <a:lnSpc>
                <a:spcPct val="115000"/>
              </a:lnSpc>
              <a:spcAft>
                <a:spcPts val="1001"/>
              </a:spcAft>
              <a:buClr>
                <a:srgbClr val="ffffff"/>
              </a:buClr>
              <a:buFont typeface="Verdana"/>
              <a:buAutoNum type="arabicParenR"/>
            </a:pPr>
            <a:r>
              <a:rPr b="1" lang="ar-IQ" sz="2800" spc="-1" strike="noStrike">
                <a:solidFill>
                  <a:srgbClr val="ffffff"/>
                </a:solidFill>
                <a:latin typeface="Verdana"/>
              </a:rPr>
              <a:t>التكاليف والحصة السوقية </a:t>
            </a:r>
            <a:r>
              <a:rPr b="1" lang="en-US" sz="2800" spc="-1" strike="noStrike">
                <a:solidFill>
                  <a:srgbClr val="ffffff"/>
                </a:solidFill>
                <a:latin typeface="Verdana"/>
                <a:ea typeface="Calibri"/>
              </a:rPr>
              <a:t>Costs and Market Share</a:t>
            </a:r>
            <a:r>
              <a:rPr b="1" lang="en-US" sz="2800" spc="-1" strike="noStrike">
                <a:solidFill>
                  <a:srgbClr val="ffffff"/>
                </a:solidFill>
                <a:latin typeface="Arial"/>
                <a:ea typeface="Calibri"/>
              </a:rPr>
              <a:t> :ـ إن الجودة العالية للمنتجات يمكن أن تقود إلى زيادة الحصة السوقية وتوفر في التكاليف الأمر الذي يؤثر في الربحية، حيث أن تحسين الجودة يؤدي إلى تحسين سمعة الوحدة الاقتصادية مما يؤدي إلى زيادة حصتها السوقية أي يؤدي إلى زيادة حجم مبيعاتها مما يؤثر إيجابا" في ربحيتها، ومن جانب آخر فأن تحسين الجودة يؤدي إلى تخفيض التكاليف نتيجة لزيادة الطاقة الإنتاجية وتقليل تكاليف التالف وتكاليف إعادة الصنع وتكاليف إعادة الفحص وتكاليف الضمان وغيرها من التكالي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inter">
  <a:themeElements>
    <a:clrScheme name="Winter">
      <a:dk1>
        <a:srgbClr val="000000"/>
      </a:dk1>
      <a:lt1>
        <a:srgbClr val="ffffff"/>
      </a:lt1>
      <a:dk2>
        <a:srgbClr val="1f7bb6"/>
      </a:dk2>
      <a:lt2>
        <a:srgbClr val="c5e1fe"/>
      </a:lt2>
      <a:accent1>
        <a:srgbClr val="b2bdc1"/>
      </a:accent1>
      <a:accent2>
        <a:srgbClr val="767d83"/>
      </a:accent2>
      <a:accent3>
        <a:srgbClr val="3e505c"/>
      </a:accent3>
      <a:accent4>
        <a:srgbClr val="386489"/>
      </a:accent4>
      <a:accent5>
        <a:srgbClr val="4c80af"/>
      </a:accent5>
      <a:accent6>
        <a:srgbClr val="7da7d1"/>
      </a:accent6>
      <a:hlink>
        <a:srgbClr val="408080"/>
      </a:hlink>
      <a:folHlink>
        <a:srgbClr val="5eaea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7bb6"/>
      </a:dk2>
      <a:lt2>
        <a:srgbClr val="c5e1fe"/>
      </a:lt2>
      <a:accent1>
        <a:srgbClr val="b2bdc1"/>
      </a:accent1>
      <a:accent2>
        <a:srgbClr val="767d83"/>
      </a:accent2>
      <a:accent3>
        <a:srgbClr val="3e505c"/>
      </a:accent3>
      <a:accent4>
        <a:srgbClr val="386489"/>
      </a:accent4>
      <a:accent5>
        <a:srgbClr val="4c80af"/>
      </a:accent5>
      <a:accent6>
        <a:srgbClr val="7da7d1"/>
      </a:accent6>
      <a:hlink>
        <a:srgbClr val="408080"/>
      </a:hlink>
      <a:folHlink>
        <a:srgbClr val="5eaea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inter</Template>
  <TotalTime>341</TotalTime>
  <Application>LibreOffice/7.4.7.2$Linux_X86_64 LibreOffice_project/40$Build-2</Application>
  <AppVersion>15.0000</AppVersion>
  <Words>2067</Words>
  <Paragraphs>116</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6T13:32:35Z</dcterms:created>
  <dc:creator>DR.Ahmed Saker 2O11</dc:creator>
  <dc:description/>
  <dc:language>en-US</dc:language>
  <cp:lastModifiedBy>Faisal</cp:lastModifiedBy>
  <dcterms:modified xsi:type="dcterms:W3CDTF">2019-03-15T17:21:12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On-screen Show (4:3)</vt:lpwstr>
  </property>
  <property fmtid="{D5CDD505-2E9C-101B-9397-08002B2CF9AE}" pid="4" name="Slides">
    <vt:r8>32</vt:r8>
  </property>
</Properties>
</file>