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F9D-A417-4302-8368-C2A5869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945-8185-4336-8267-5B5EE71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C27-7AD4-4C63-9BB2-0086444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BB9-D8E9-491B-B5C2-26540CE6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183A-9139-4FB2-96E6-E6D4C56E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9E1-117C-49CA-A635-21DA6E6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0EF-856C-42E4-84A6-CC2C60AE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35DE-D72F-4F73-BA0C-D14E3BC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B53-5561-4597-9E33-BB2D036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9DCC-694F-41A4-916B-A7E67670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626-93B5-4A43-9C89-B3AE996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B93-ADC1-49B2-A704-DE6EADF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ECD-9DBE-40C9-A269-6282E6F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CA2-2E19-4F42-88DE-23AAB56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CEB-0351-4B14-814D-D999E1C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3F60-5E25-4B31-83C6-2DD6303D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DFE1-DFCE-4B21-BA47-171ACB3D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7AA-1857-4106-9048-95550E9E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941-68A8-43DE-B0D7-10ECAB3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D71-9F64-4CF6-B61C-8D2FF14E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E09-64A1-472F-8049-3FD05A9F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EC2-32B6-443A-A912-8879A06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43A-6C3C-4D79-B4B9-BCA0131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DB3-D074-4B66-9D77-D4B63E7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A4A-750D-426D-AB0B-459DEE0ED59F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34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035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2E0-CF04-45F8-A4F1-3C56502C0E23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53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محاضرة الأولى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مقدمة عن ضبط الجودة</a:t>
            </a:r>
            <a:br>
              <a:rPr sz="40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Introduction to Quality Control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76360" y="3357360"/>
            <a:ext cx="64008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eaeaea"/>
                </a:solidFill>
                <a:latin typeface="Arial"/>
              </a:rPr>
              <a:t>اعداد وتقديم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eaeaea"/>
                </a:solidFill>
                <a:latin typeface="Arial"/>
              </a:rPr>
              <a:t>الاستاذ الدكتورة منال جبار سرور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eaeaea"/>
                </a:solidFill>
                <a:latin typeface="Arial"/>
              </a:rPr>
              <a:t>كلية الادارة والاقتصاد /قسم المحاسبة /جامعة بغداد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eaeaea"/>
                </a:solidFill>
                <a:latin typeface="Arial"/>
              </a:rPr>
              <a:t>20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3520" y="17524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إن جميع المراحل الإنتاجية للمنتج من تصميم , تصنيع , تخزين و توزيعه تؤثر في جودته 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من أجل ضمان جودة المنتج فلا بد من ضبط هذه العمليات و الأنشطة جميعها و هذا ما يعرف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بالضبط المتكامل للجودة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لضبط المتكامل (الشامل) لجودة الإنتاج هو عبارة عن نظام شامل و متكامل بواسطته يمكن تجميع عمل الوحدات المختلفة داخل المصنع التي تعمل في مجالات تطوير الجودة و تحسينها لضمان إنتاج المنتجات بدرجة مناسبة من الجودة ترضي رغبات المستهلك و بأقل التكاليف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066680" y="22860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ضبط  المتكامل للجودة</a:t>
            </a:r>
            <a:br>
              <a:rPr sz="4000"/>
            </a:b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otal Quality Contro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Picture 6" descr="j0285360"/>
          <p:cNvPicPr/>
          <p:nvPr/>
        </p:nvPicPr>
        <p:blipFill>
          <a:blip r:embed="rId1"/>
          <a:stretch/>
        </p:blipFill>
        <p:spPr>
          <a:xfrm>
            <a:off x="468360" y="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عناصر الضبط المتكامل للجودة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352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وضع مواصفات للمنتج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 و يدخل فيها رغبات المستهلك و مواصفات التصميم و التطوير و الأبحاث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ضبط جودة المواد الداخلة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ضبط جودة المنتج أثناء التشغيل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ضبط جودة المنتج النهائي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بما في ذلك التغليف و التعبئة و التخزين و النقل و ضبط جودة أجهزة القياس و الفحص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ضبط جودة المنتج بعد البيع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يمثل هذا بالإعتمادية (المعولية </a:t>
            </a:r>
            <a:r>
              <a:rPr b="0" lang="en-US" sz="2400" spc="-1" strike="noStrike">
                <a:solidFill>
                  <a:srgbClr val="ebd189"/>
                </a:solidFill>
                <a:latin typeface="Times New Roman"/>
              </a:rPr>
              <a:t>Reliabil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4400" indent="-28440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إدارة الجودة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تمثل كل النواحي الإدارية المتصلة برفع و تحسين مستوى الجودة (مسؤولية الجودة, التدريب و الحوافز إلى غير ذلك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57D-55C2-40DA-ACB7-F41F23C7C66A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توكيد الجودة   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و يقصد منه جميع الإجراءات التخطيطية و التنظيمية اللازمة لإكساب الثقة الكافية بأن المنتج سيفي بمتطلبات المستهل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يشمل توكيد الجودة أيضا التحقق من أن الجودة الفعلية هي الجودة المطلوبة. و يتضمن هذا التقييم المستمر للجودة و لفاعليتها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مفهوم توكيد الجودة أشمل و أوسع من ضبط الجودة الذي يهتم بالمواصفات و الإنتاج و الفحص و متابعة أداء المنتج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Picture 4" descr="j0285360"/>
          <p:cNvPicPr/>
          <p:nvPr/>
        </p:nvPicPr>
        <p:blipFill>
          <a:blip r:embed="rId1"/>
          <a:stretch/>
        </p:blipFill>
        <p:spPr>
          <a:xfrm>
            <a:off x="3889440" y="4724280"/>
            <a:ext cx="1474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6836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مواصفات و الجودة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</a:rPr>
              <a:t>تشمل المواصفات ما يلي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ar-SA" sz="2800" spc="-1" strike="noStrike" u="sng">
                <a:solidFill>
                  <a:srgbClr val="fcab40"/>
                </a:solidFill>
                <a:uFillTx/>
                <a:latin typeface="Times New Roman"/>
              </a:rPr>
              <a:t>جميع الخصائص الفيزيائية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للمنتج الضرورية لإنتاجه و تصنيعه مثل الأبعاد و الأوزان إلى غير ذلك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ar-SA" sz="2800" spc="-1" strike="noStrike" u="sng">
                <a:solidFill>
                  <a:srgbClr val="fcab40"/>
                </a:solidFill>
                <a:uFillTx/>
                <a:latin typeface="Times New Roman"/>
              </a:rPr>
              <a:t>أوصاف محددة للمواد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المستعملة في المنتج مثل الخواص الطبيعية, الكيميائية و الميكانيكية للمادة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– تحدد المواصفات </a:t>
            </a:r>
            <a:r>
              <a:rPr b="1" lang="ar-SA" sz="2800" spc="-1" strike="noStrike">
                <a:solidFill>
                  <a:srgbClr val="fcab40"/>
                </a:solidFill>
                <a:latin typeface="Times New Roman"/>
              </a:rPr>
              <a:t>طرق القياس و نوعية الأجهزة  المستعملة لاختبار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المنتج  و المواد اللازمة له و كذا الطرق المستعملة لضبط و معايرة هذه الأجهزة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-  يجب أن تحدد المواصفات </a:t>
            </a:r>
            <a:r>
              <a:rPr b="1" lang="ar-SA" sz="2800" spc="-1" strike="noStrike">
                <a:solidFill>
                  <a:srgbClr val="fcab40"/>
                </a:solidFill>
                <a:latin typeface="Times New Roman"/>
              </a:rPr>
              <a:t>و صف طرق استعمال المنتج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و تحديد الظروف الواجب توفرها أثناء استعمال المنتج و صيانته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-  يجب أن تحدد المواصفات  </a:t>
            </a:r>
            <a:r>
              <a:rPr b="1" lang="ar-SA" sz="2800" spc="-1" strike="noStrike">
                <a:solidFill>
                  <a:srgbClr val="fcab40"/>
                </a:solidFill>
                <a:latin typeface="Times New Roman"/>
              </a:rPr>
              <a:t>حدود التفاوت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ebd189"/>
                </a:solidFill>
                <a:latin typeface="Times New Roman"/>
              </a:rPr>
              <a:t>Tolerances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) التي توضع على خواص المنتج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4D1-89B7-4885-B716-80735884142E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00360" y="1676520"/>
            <a:ext cx="433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نقوم بمقارنة خواص المنتج مع مواصفات الجودة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خاصة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خاصية الإسمية أو الهد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Nominal / Target Valu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حد الأدنى للمواصفة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wer Specification Li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الحد الأعلى للمواصفة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pper Specification Li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مواصفات و الجودة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971640" y="2492280"/>
            <a:ext cx="3887640" cy="3233880"/>
            <a:chOff x="971640" y="2492280"/>
            <a:chExt cx="3887640" cy="3233880"/>
          </a:xfrm>
        </p:grpSpPr>
        <p:pic>
          <p:nvPicPr>
            <p:cNvPr id="183" name="Picture 6" descr=""/>
            <p:cNvPicPr/>
            <p:nvPr/>
          </p:nvPicPr>
          <p:blipFill>
            <a:blip r:embed="rId1"/>
            <a:stretch/>
          </p:blipFill>
          <p:spPr>
            <a:xfrm>
              <a:off x="971640" y="2492280"/>
              <a:ext cx="388764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8"/>
            <p:cNvSpPr/>
            <p:nvPr/>
          </p:nvSpPr>
          <p:spPr>
            <a:xfrm>
              <a:off x="1042920" y="5084640"/>
              <a:ext cx="3673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635280" y="5084640"/>
              <a:ext cx="93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30000"/>
                  </a:solidFill>
                  <a:latin typeface="Arial Narrow"/>
                </a:rPr>
                <a:t>الحد الأعلى للمواصفة</a:t>
              </a:r>
              <a:endParaRPr b="0" lang="en-US" sz="1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1332000" y="5084640"/>
              <a:ext cx="93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30000"/>
                  </a:solidFill>
                  <a:latin typeface="Arial Narrow"/>
                </a:rPr>
                <a:t>الحد الأدنى للمواصفة</a:t>
              </a:r>
              <a:endParaRPr b="0" lang="en-US" sz="1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2340000" y="5084640"/>
              <a:ext cx="107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30000"/>
                  </a:solidFill>
                  <a:latin typeface="Arial Narrow"/>
                </a:rPr>
                <a:t>الخاصية الاسمية (الهدف)</a:t>
              </a:r>
              <a:endParaRPr b="0" lang="en-US" sz="1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71A-FDD8-44A6-A6E4-B88ABFD48893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أنواع خصائص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10920" y="1676520"/>
            <a:ext cx="64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eaeaea"/>
                </a:solidFill>
                <a:uFillTx/>
                <a:latin typeface="Arial"/>
              </a:rPr>
              <a:t>النوع الأول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: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الخواص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ttributes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: هي مجموع الخصائص المحددة للمنتج و التي لا يمكن تحديد قيمها عن طريق القياسات . مثل : أعداد القطع المعيبة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eaeaea"/>
                </a:solidFill>
                <a:uFillTx/>
                <a:latin typeface="Arial"/>
              </a:rPr>
              <a:t>النوع الثاني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: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المتغيرات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ariables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: و هي مجموع الخصائص المكن تحديدها عن طريق أجهزة القياس. مثل : أبعاد المنتج و الأوزان الخ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ab40"/>
                </a:solidFill>
                <a:latin typeface="Arial"/>
              </a:rPr>
              <a:t>التقنيات العملية لضبط الجودة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1187280" y="2708280"/>
            <a:ext cx="432000" cy="2881440"/>
          </a:xfrm>
          <a:custGeom>
            <a:avLst/>
            <a:gdLst>
              <a:gd name="textAreaLeft" fmla="*/ 57600 w 432000"/>
              <a:gd name="textAreaRight" fmla="*/ 374400 w 432000"/>
              <a:gd name="textAreaTop" fmla="*/ 504000 h 2881440"/>
              <a:gd name="textAreaBottom" fmla="*/ 20890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979640" y="5300640"/>
            <a:ext cx="1332000" cy="1363680"/>
            <a:chOff x="1979640" y="5300640"/>
            <a:chExt cx="1332000" cy="1363680"/>
          </a:xfrm>
        </p:grpSpPr>
        <p:sp>
          <p:nvSpPr>
            <p:cNvPr id="193" name="Freeform 6"/>
            <p:cNvSpPr/>
            <p:nvPr/>
          </p:nvSpPr>
          <p:spPr>
            <a:xfrm>
              <a:off x="2186280" y="5300640"/>
              <a:ext cx="1125360" cy="937080"/>
            </a:xfrm>
            <a:custGeom>
              <a:avLst/>
              <a:gdLst/>
              <a:ahLst/>
              <a:rect l="l" t="t" r="r" b="b"/>
              <a:pathLst>
                <a:path w="2737" h="2113">
                  <a:moveTo>
                    <a:pt x="0" y="0"/>
                  </a:moveTo>
                  <a:lnTo>
                    <a:pt x="0" y="2112"/>
                  </a:lnTo>
                  <a:lnTo>
                    <a:pt x="2736" y="2112"/>
                  </a:lnTo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4" name="Line 7"/>
            <p:cNvSpPr/>
            <p:nvPr/>
          </p:nvSpPr>
          <p:spPr>
            <a:xfrm>
              <a:off x="2148480" y="613080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2148480" y="559836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2148480" y="570492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2148480" y="581148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2148480" y="591804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2148480" y="602424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2148480" y="549216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2148480" y="5385600"/>
              <a:ext cx="16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2957760" y="6132600"/>
              <a:ext cx="55800" cy="102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2898360" y="6026040"/>
              <a:ext cx="55800" cy="2091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2839320" y="5983560"/>
              <a:ext cx="55800" cy="2516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2779920" y="5813280"/>
              <a:ext cx="55800" cy="42228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2720880" y="5898240"/>
              <a:ext cx="55800" cy="3369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2661480" y="6004800"/>
              <a:ext cx="55800" cy="2304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2602440" y="5855760"/>
              <a:ext cx="55800" cy="3794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9" name="Rectangle 22"/>
            <p:cNvSpPr/>
            <p:nvPr/>
          </p:nvSpPr>
          <p:spPr>
            <a:xfrm>
              <a:off x="2543040" y="5834520"/>
              <a:ext cx="55800" cy="40068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0" name="Rectangle 23"/>
            <p:cNvSpPr/>
            <p:nvPr/>
          </p:nvSpPr>
          <p:spPr>
            <a:xfrm>
              <a:off x="2484000" y="5898240"/>
              <a:ext cx="55800" cy="3369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1" name="Rectangle 24"/>
            <p:cNvSpPr/>
            <p:nvPr/>
          </p:nvSpPr>
          <p:spPr>
            <a:xfrm>
              <a:off x="2424960" y="6026040"/>
              <a:ext cx="55800" cy="20916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2" name="Rectangle 25"/>
            <p:cNvSpPr/>
            <p:nvPr/>
          </p:nvSpPr>
          <p:spPr>
            <a:xfrm>
              <a:off x="2365560" y="5983560"/>
              <a:ext cx="55800" cy="2516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3" name="Rectangle 26"/>
            <p:cNvSpPr/>
            <p:nvPr/>
          </p:nvSpPr>
          <p:spPr>
            <a:xfrm>
              <a:off x="2306520" y="6111360"/>
              <a:ext cx="55800" cy="1238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4" name="Rectangle 27"/>
            <p:cNvSpPr/>
            <p:nvPr/>
          </p:nvSpPr>
          <p:spPr>
            <a:xfrm>
              <a:off x="2247120" y="6196320"/>
              <a:ext cx="55800" cy="3888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5" name="Rectangle 28"/>
            <p:cNvSpPr/>
            <p:nvPr/>
          </p:nvSpPr>
          <p:spPr>
            <a:xfrm>
              <a:off x="2188080" y="6217920"/>
              <a:ext cx="55800" cy="176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Rectangle 29"/>
            <p:cNvSpPr/>
            <p:nvPr/>
          </p:nvSpPr>
          <p:spPr>
            <a:xfrm>
              <a:off x="3135240" y="6217920"/>
              <a:ext cx="55800" cy="176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7" name="Rectangle 30"/>
            <p:cNvSpPr/>
            <p:nvPr/>
          </p:nvSpPr>
          <p:spPr>
            <a:xfrm>
              <a:off x="3076200" y="6196320"/>
              <a:ext cx="55800" cy="3888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8" name="Rectangle 31"/>
            <p:cNvSpPr/>
            <p:nvPr/>
          </p:nvSpPr>
          <p:spPr>
            <a:xfrm>
              <a:off x="3016800" y="6111360"/>
              <a:ext cx="55800" cy="12384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9" name="Rectangle 32"/>
            <p:cNvSpPr/>
            <p:nvPr/>
          </p:nvSpPr>
          <p:spPr>
            <a:xfrm>
              <a:off x="2036520" y="621036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0" name="Rectangle 33"/>
            <p:cNvSpPr/>
            <p:nvPr/>
          </p:nvSpPr>
          <p:spPr>
            <a:xfrm>
              <a:off x="1996920" y="6083280"/>
              <a:ext cx="181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1" name="Rectangle 34"/>
            <p:cNvSpPr/>
            <p:nvPr/>
          </p:nvSpPr>
          <p:spPr>
            <a:xfrm>
              <a:off x="1979640" y="597672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Rectangle 35"/>
            <p:cNvSpPr/>
            <p:nvPr/>
          </p:nvSpPr>
          <p:spPr>
            <a:xfrm>
              <a:off x="1979640" y="5869080"/>
              <a:ext cx="1807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3" name="Rectangle 36"/>
            <p:cNvSpPr/>
            <p:nvPr/>
          </p:nvSpPr>
          <p:spPr>
            <a:xfrm>
              <a:off x="1979640" y="576252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4" name="Rectangle 37"/>
            <p:cNvSpPr/>
            <p:nvPr/>
          </p:nvSpPr>
          <p:spPr>
            <a:xfrm>
              <a:off x="1979640" y="565632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5" name="Rectangle 38"/>
            <p:cNvSpPr/>
            <p:nvPr/>
          </p:nvSpPr>
          <p:spPr>
            <a:xfrm>
              <a:off x="1979640" y="554976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979640" y="544320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979640" y="533664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2160360" y="628164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9" name="Group 42"/>
          <p:cNvGrpSpPr/>
          <p:nvPr/>
        </p:nvGrpSpPr>
        <p:grpSpPr>
          <a:xfrm>
            <a:off x="2195640" y="4221000"/>
            <a:ext cx="1008000" cy="714600"/>
            <a:chOff x="2195640" y="4221000"/>
            <a:chExt cx="1008000" cy="714600"/>
          </a:xfrm>
        </p:grpSpPr>
        <p:sp>
          <p:nvSpPr>
            <p:cNvPr id="230" name="Line 43"/>
            <p:cNvSpPr/>
            <p:nvPr/>
          </p:nvSpPr>
          <p:spPr>
            <a:xfrm>
              <a:off x="2195640" y="4221000"/>
              <a:ext cx="0" cy="713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2196360" y="4935600"/>
              <a:ext cx="10072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2" name="Rectangle 45"/>
            <p:cNvSpPr/>
            <p:nvPr/>
          </p:nvSpPr>
          <p:spPr>
            <a:xfrm>
              <a:off x="2226960" y="4446360"/>
              <a:ext cx="25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54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3" name="Oval 46"/>
            <p:cNvSpPr/>
            <p:nvPr/>
          </p:nvSpPr>
          <p:spPr>
            <a:xfrm>
              <a:off x="2959560" y="43358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4" name="Oval 47"/>
            <p:cNvSpPr/>
            <p:nvPr/>
          </p:nvSpPr>
          <p:spPr>
            <a:xfrm>
              <a:off x="2368800" y="47962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5" name="Oval 48"/>
            <p:cNvSpPr/>
            <p:nvPr/>
          </p:nvSpPr>
          <p:spPr>
            <a:xfrm>
              <a:off x="2738160" y="43743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6" name="Oval 49"/>
            <p:cNvSpPr/>
            <p:nvPr/>
          </p:nvSpPr>
          <p:spPr>
            <a:xfrm>
              <a:off x="2898000" y="42847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7" name="Oval 50"/>
            <p:cNvSpPr/>
            <p:nvPr/>
          </p:nvSpPr>
          <p:spPr>
            <a:xfrm>
              <a:off x="2651760" y="44766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2467440" y="46684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2516400" y="46170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2565720" y="45147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2516400" y="45147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2" name="Oval 55"/>
            <p:cNvSpPr/>
            <p:nvPr/>
          </p:nvSpPr>
          <p:spPr>
            <a:xfrm>
              <a:off x="2799720" y="46170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3" name="Oval 56"/>
            <p:cNvSpPr/>
            <p:nvPr/>
          </p:nvSpPr>
          <p:spPr>
            <a:xfrm>
              <a:off x="2615040" y="45658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4" name="Oval 57"/>
            <p:cNvSpPr/>
            <p:nvPr/>
          </p:nvSpPr>
          <p:spPr>
            <a:xfrm>
              <a:off x="2774880" y="45403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5" name="Oval 58"/>
            <p:cNvSpPr/>
            <p:nvPr/>
          </p:nvSpPr>
          <p:spPr>
            <a:xfrm>
              <a:off x="2504160" y="47196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6" name="Oval 59"/>
            <p:cNvSpPr/>
            <p:nvPr/>
          </p:nvSpPr>
          <p:spPr>
            <a:xfrm>
              <a:off x="2750400" y="44892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7" name="Oval 60"/>
            <p:cNvSpPr/>
            <p:nvPr/>
          </p:nvSpPr>
          <p:spPr>
            <a:xfrm>
              <a:off x="2738160" y="44254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8" name="Oval 61"/>
            <p:cNvSpPr/>
            <p:nvPr/>
          </p:nvSpPr>
          <p:spPr>
            <a:xfrm>
              <a:off x="2811960" y="44766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Oval 62"/>
            <p:cNvSpPr/>
            <p:nvPr/>
          </p:nvSpPr>
          <p:spPr>
            <a:xfrm>
              <a:off x="2787120" y="44254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0" name="Oval 63"/>
            <p:cNvSpPr/>
            <p:nvPr/>
          </p:nvSpPr>
          <p:spPr>
            <a:xfrm>
              <a:off x="2861280" y="45277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2836440" y="4438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2" name="Oval 65"/>
            <p:cNvSpPr/>
            <p:nvPr/>
          </p:nvSpPr>
          <p:spPr>
            <a:xfrm>
              <a:off x="2910240" y="4438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3" name="Oval 66"/>
            <p:cNvSpPr/>
            <p:nvPr/>
          </p:nvSpPr>
          <p:spPr>
            <a:xfrm>
              <a:off x="2418120" y="47196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4" name="Oval 67"/>
            <p:cNvSpPr/>
            <p:nvPr/>
          </p:nvSpPr>
          <p:spPr>
            <a:xfrm>
              <a:off x="2368800" y="46555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2861280" y="43869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6" name="Oval 69"/>
            <p:cNvSpPr/>
            <p:nvPr/>
          </p:nvSpPr>
          <p:spPr>
            <a:xfrm>
              <a:off x="2688840" y="4438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7" name="Oval 70"/>
            <p:cNvSpPr/>
            <p:nvPr/>
          </p:nvSpPr>
          <p:spPr>
            <a:xfrm>
              <a:off x="2528640" y="45788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8" name="Oval 71"/>
            <p:cNvSpPr/>
            <p:nvPr/>
          </p:nvSpPr>
          <p:spPr>
            <a:xfrm>
              <a:off x="2418120" y="46299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9" name="Oval 72"/>
            <p:cNvSpPr/>
            <p:nvPr/>
          </p:nvSpPr>
          <p:spPr>
            <a:xfrm>
              <a:off x="2442600" y="45658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0" name="Oval 73"/>
            <p:cNvSpPr/>
            <p:nvPr/>
          </p:nvSpPr>
          <p:spPr>
            <a:xfrm>
              <a:off x="2491920" y="45914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1" name="Oval 74"/>
            <p:cNvSpPr/>
            <p:nvPr/>
          </p:nvSpPr>
          <p:spPr>
            <a:xfrm>
              <a:off x="2676600" y="45277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2" name="Oval 75"/>
            <p:cNvSpPr/>
            <p:nvPr/>
          </p:nvSpPr>
          <p:spPr>
            <a:xfrm>
              <a:off x="2565720" y="46044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3" name="Oval 76"/>
            <p:cNvSpPr/>
            <p:nvPr/>
          </p:nvSpPr>
          <p:spPr>
            <a:xfrm>
              <a:off x="2528640" y="4681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4" name="Oval 77"/>
            <p:cNvSpPr/>
            <p:nvPr/>
          </p:nvSpPr>
          <p:spPr>
            <a:xfrm>
              <a:off x="2725920" y="45403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2651760" y="45914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6" name="Oval 79"/>
            <p:cNvSpPr/>
            <p:nvPr/>
          </p:nvSpPr>
          <p:spPr>
            <a:xfrm>
              <a:off x="2701080" y="45788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7" name="Oval 80"/>
            <p:cNvSpPr/>
            <p:nvPr/>
          </p:nvSpPr>
          <p:spPr>
            <a:xfrm>
              <a:off x="2750400" y="45914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8" name="Oval 81"/>
            <p:cNvSpPr/>
            <p:nvPr/>
          </p:nvSpPr>
          <p:spPr>
            <a:xfrm>
              <a:off x="2639520" y="46940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9" name="Oval 82"/>
            <p:cNvSpPr/>
            <p:nvPr/>
          </p:nvSpPr>
          <p:spPr>
            <a:xfrm>
              <a:off x="2750400" y="4681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0" name="Oval 83"/>
            <p:cNvSpPr/>
            <p:nvPr/>
          </p:nvSpPr>
          <p:spPr>
            <a:xfrm>
              <a:off x="2935080" y="43743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1" name="Oval 84"/>
            <p:cNvSpPr/>
            <p:nvPr/>
          </p:nvSpPr>
          <p:spPr>
            <a:xfrm>
              <a:off x="2824200" y="43358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2" name="Oval 85"/>
            <p:cNvSpPr/>
            <p:nvPr/>
          </p:nvSpPr>
          <p:spPr>
            <a:xfrm>
              <a:off x="2910240" y="44892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3" name="Oval 86"/>
            <p:cNvSpPr/>
            <p:nvPr/>
          </p:nvSpPr>
          <p:spPr>
            <a:xfrm>
              <a:off x="2307240" y="48344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4" name="Oval 87"/>
            <p:cNvSpPr/>
            <p:nvPr/>
          </p:nvSpPr>
          <p:spPr>
            <a:xfrm>
              <a:off x="2319480" y="477072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5" name="Oval 88"/>
            <p:cNvSpPr/>
            <p:nvPr/>
          </p:nvSpPr>
          <p:spPr>
            <a:xfrm>
              <a:off x="2368800" y="47066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6" name="Oval 89"/>
            <p:cNvSpPr/>
            <p:nvPr/>
          </p:nvSpPr>
          <p:spPr>
            <a:xfrm>
              <a:off x="2688840" y="46810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7" name="Oval 90"/>
            <p:cNvSpPr/>
            <p:nvPr/>
          </p:nvSpPr>
          <p:spPr>
            <a:xfrm>
              <a:off x="2590200" y="47066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8" name="Oval 91"/>
            <p:cNvSpPr/>
            <p:nvPr/>
          </p:nvSpPr>
          <p:spPr>
            <a:xfrm>
              <a:off x="2590200" y="445104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9" name="Oval 92"/>
            <p:cNvSpPr/>
            <p:nvPr/>
          </p:nvSpPr>
          <p:spPr>
            <a:xfrm>
              <a:off x="2701080" y="461700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80" name="Oval 93"/>
            <p:cNvSpPr/>
            <p:nvPr/>
          </p:nvSpPr>
          <p:spPr>
            <a:xfrm>
              <a:off x="2577960" y="466848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81" name="Oval 94"/>
            <p:cNvSpPr/>
            <p:nvPr/>
          </p:nvSpPr>
          <p:spPr>
            <a:xfrm>
              <a:off x="2639520" y="46425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82" name="Oval 95"/>
            <p:cNvSpPr/>
            <p:nvPr/>
          </p:nvSpPr>
          <p:spPr>
            <a:xfrm>
              <a:off x="2467440" y="4757760"/>
              <a:ext cx="10080" cy="10440"/>
            </a:xfrm>
            <a:prstGeom prst="ellipse">
              <a:avLst/>
            </a:prstGeom>
            <a:solidFill>
              <a:srgbClr val="fcab4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83" name="AutoShape 96"/>
          <p:cNvSpPr/>
          <p:nvPr/>
        </p:nvSpPr>
        <p:spPr>
          <a:xfrm>
            <a:off x="2843280" y="4797360"/>
            <a:ext cx="4897440" cy="1079640"/>
          </a:xfrm>
          <a:prstGeom prst="leftArrow">
            <a:avLst>
              <a:gd name="adj1" fmla="val 50000"/>
              <a:gd name="adj2" fmla="val 11340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310-AB17-494C-B933-78C78446B190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تكاليف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286" name="Content Placeholder 45060"/>
          <p:cNvGrpSpPr/>
          <p:nvPr/>
        </p:nvGrpSpPr>
        <p:grpSpPr>
          <a:xfrm>
            <a:off x="1066680" y="1676520"/>
            <a:ext cx="7772040" cy="4114080"/>
            <a:chOff x="1066680" y="1676520"/>
            <a:chExt cx="7772040" cy="4114080"/>
          </a:xfrm>
        </p:grpSpPr>
        <p:cxnSp>
          <p:nvCxnSpPr>
            <p:cNvPr id="287" name="_s1028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7213680" y="4000680"/>
              <a:ext cx="514440" cy="1008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0" name="_s1029"/>
            <p:cNvCxnSpPr>
              <a:stCxn id="291" idx="0"/>
              <a:endCxn id="289" idx="2"/>
            </p:cNvCxnSpPr>
            <p:nvPr/>
          </p:nvCxnSpPr>
          <p:spPr>
            <a:xfrm flipH="1" flipV="1" rot="5400000">
              <a:off x="6206760" y="4001040"/>
              <a:ext cx="514440" cy="100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2" name="_s1030"/>
            <p:cNvCxnSpPr>
              <a:stCxn id="293" idx="0"/>
              <a:endCxn id="294" idx="2"/>
            </p:cNvCxnSpPr>
            <p:nvPr/>
          </p:nvCxnSpPr>
          <p:spPr>
            <a:xfrm flipV="1" rot="16200000">
              <a:off x="3183480" y="4000680"/>
              <a:ext cx="514440" cy="1008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5" name="_s1031"/>
            <p:cNvCxnSpPr>
              <a:stCxn id="296" idx="0"/>
              <a:endCxn id="294" idx="2"/>
            </p:cNvCxnSpPr>
            <p:nvPr/>
          </p:nvCxnSpPr>
          <p:spPr>
            <a:xfrm flipH="1" flipV="1" rot="5400000">
              <a:off x="2176560" y="4001040"/>
              <a:ext cx="514440" cy="100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7" name="_s1032"/>
            <p:cNvCxnSpPr>
              <a:stCxn id="289" idx="0"/>
              <a:endCxn id="298" idx="2"/>
            </p:cNvCxnSpPr>
            <p:nvPr/>
          </p:nvCxnSpPr>
          <p:spPr>
            <a:xfrm flipV="1" rot="16200000">
              <a:off x="5702400" y="1954440"/>
              <a:ext cx="514440" cy="2015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9" name="_s1033"/>
            <p:cNvCxnSpPr>
              <a:stCxn id="294" idx="0"/>
              <a:endCxn id="298" idx="2"/>
            </p:cNvCxnSpPr>
            <p:nvPr/>
          </p:nvCxnSpPr>
          <p:spPr>
            <a:xfrm flipH="1" flipV="1" rot="5400000">
              <a:off x="3687480" y="1954440"/>
              <a:ext cx="514440" cy="2015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98" name="_s1034"/>
            <p:cNvSpPr/>
            <p:nvPr/>
          </p:nvSpPr>
          <p:spPr>
            <a:xfrm>
              <a:off x="4088880" y="1676520"/>
              <a:ext cx="1726920" cy="102852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eaeaea"/>
                  </a:solidFill>
                  <a:uFillTx/>
                  <a:latin typeface="Arial Narrow"/>
                  <a:cs typeface="Times New Roman"/>
                </a:rPr>
                <a:t>تكاليف الجودة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eaeaea"/>
                  </a:solidFill>
                  <a:uFillTx/>
                  <a:latin typeface="Arial Narrow"/>
                  <a:ea typeface="Times New Roman"/>
                </a:rPr>
                <a:t>Quality Costs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94" name="_s1035"/>
            <p:cNvSpPr/>
            <p:nvPr/>
          </p:nvSpPr>
          <p:spPr>
            <a:xfrm>
              <a:off x="2073960" y="321912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0000"/>
                  </a:solidFill>
                  <a:latin typeface="Arial Narrow"/>
                  <a:cs typeface="Times New Roman"/>
                </a:rPr>
                <a:t>تكاليف الإخفاق في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 </a:t>
              </a:r>
              <a:r>
                <a:rPr b="1" lang="ar-SA" sz="1500" spc="-1" strike="noStrike">
                  <a:solidFill>
                    <a:srgbClr val="ff0000"/>
                  </a:solidFill>
                  <a:latin typeface="Arial Narrow"/>
                  <a:cs typeface="Times New Roman"/>
                </a:rPr>
                <a:t>ضبط الجودة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Costs of Poor Quality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89" name="_s1036"/>
            <p:cNvSpPr/>
            <p:nvPr/>
          </p:nvSpPr>
          <p:spPr>
            <a:xfrm>
              <a:off x="6103800" y="321912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30000"/>
                  </a:solidFill>
                  <a:latin typeface="Arial Narrow"/>
                  <a:cs typeface="Times New Roman"/>
                </a:rPr>
                <a:t>تكاليف ضبط الجودة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000"/>
                  </a:solidFill>
                  <a:latin typeface="Arial Narrow"/>
                  <a:ea typeface="Times New Roman"/>
                </a:rPr>
                <a:t>Cost of Good quality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96" name="_s1037"/>
            <p:cNvSpPr/>
            <p:nvPr/>
          </p:nvSpPr>
          <p:spPr>
            <a:xfrm>
              <a:off x="1066680" y="476208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0000"/>
                  </a:solidFill>
                  <a:latin typeface="Arial Narrow"/>
                  <a:cs typeface="Times New Roman"/>
                </a:rPr>
                <a:t>تكاليف الإخفاق الداخلي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Internal Failure Costs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93" name="_s1038"/>
            <p:cNvSpPr/>
            <p:nvPr/>
          </p:nvSpPr>
          <p:spPr>
            <a:xfrm>
              <a:off x="3081600" y="476208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0000"/>
                  </a:solidFill>
                  <a:latin typeface="Arial Narrow"/>
                  <a:cs typeface="Times New Roman"/>
                </a:rPr>
                <a:t>تكاليف الإخفاق الخارجي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External Failure Costs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91" name="_s1039"/>
            <p:cNvSpPr/>
            <p:nvPr/>
          </p:nvSpPr>
          <p:spPr>
            <a:xfrm>
              <a:off x="5096520" y="476208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30000"/>
                  </a:solidFill>
                  <a:latin typeface="Arial Narrow"/>
                  <a:cs typeface="Times New Roman"/>
                </a:rPr>
                <a:t>تكاليف التقييم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000"/>
                  </a:solidFill>
                  <a:latin typeface="Arial Narrow"/>
                  <a:ea typeface="Times New Roman"/>
                </a:rPr>
                <a:t>Appraisal Costs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88" name="_s1040"/>
            <p:cNvSpPr/>
            <p:nvPr/>
          </p:nvSpPr>
          <p:spPr>
            <a:xfrm>
              <a:off x="7111800" y="4762080"/>
              <a:ext cx="1726920" cy="102852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30000"/>
                  </a:solidFill>
                  <a:latin typeface="Arial Narrow"/>
                  <a:cs typeface="Times New Roman"/>
                </a:rPr>
                <a:t>تكاليف الوقاية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000"/>
                  </a:solidFill>
                  <a:latin typeface="Arial Narrow"/>
                  <a:ea typeface="Times New Roman"/>
                </a:rPr>
                <a:t>Prevention Costs</a:t>
              </a:r>
              <a:endParaRPr b="0" lang="en-US" sz="15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300" name="Picture 24" descr="j0222015"/>
          <p:cNvPicPr/>
          <p:nvPr/>
        </p:nvPicPr>
        <p:blipFill>
          <a:blip r:embed="rId1"/>
          <a:stretch/>
        </p:blipFill>
        <p:spPr>
          <a:xfrm>
            <a:off x="1187280" y="189000"/>
            <a:ext cx="1349640" cy="1355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5" descr="j0222019"/>
          <p:cNvPicPr/>
          <p:nvPr/>
        </p:nvPicPr>
        <p:blipFill>
          <a:blip r:embed="rId2"/>
          <a:stretch/>
        </p:blipFill>
        <p:spPr>
          <a:xfrm>
            <a:off x="7093080" y="189000"/>
            <a:ext cx="1277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455-1C65-49A2-9A5B-C53A0005BCC1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d189"/>
                </a:solidFill>
                <a:latin typeface="Arial"/>
              </a:rPr>
              <a:t>العلاقة بين مستوى الجودة و تكاليف التصني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755640" y="1773360"/>
            <a:ext cx="5473800" cy="4451040"/>
            <a:chOff x="755640" y="1773360"/>
            <a:chExt cx="5473800" cy="4451040"/>
          </a:xfrm>
        </p:grpSpPr>
        <p:pic>
          <p:nvPicPr>
            <p:cNvPr id="305" name="Picture 3" descr="quality-1"/>
            <p:cNvPicPr/>
            <p:nvPr/>
          </p:nvPicPr>
          <p:blipFill>
            <a:blip r:embed="rId1"/>
            <a:stretch/>
          </p:blipFill>
          <p:spPr>
            <a:xfrm>
              <a:off x="819000" y="1773360"/>
              <a:ext cx="5410440" cy="42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5"/>
            <p:cNvSpPr/>
            <p:nvPr/>
          </p:nvSpPr>
          <p:spPr>
            <a:xfrm rot="3928800">
              <a:off x="1489320" y="34005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54"/>
                  </a:solidFill>
                  <a:latin typeface="Arial Narrow"/>
                </a:rPr>
                <a:t>تكاليف ضبط الجودة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 rot="18784800">
              <a:off x="4109400" y="3208680"/>
              <a:ext cx="17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54"/>
                  </a:solidFill>
                  <a:latin typeface="Arial Narrow"/>
                </a:rPr>
                <a:t>تكاليف الإخفاق في الجودة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08" name="Text Box 7"/>
            <p:cNvSpPr/>
            <p:nvPr/>
          </p:nvSpPr>
          <p:spPr>
            <a:xfrm>
              <a:off x="2479680" y="1844640"/>
              <a:ext cx="1660680" cy="119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Arial Narrow"/>
                </a:rPr>
                <a:t>التكاليف الكلية = تكاليف ضبط الجودة + تكاليف الإخفاق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09" name="Line 8"/>
            <p:cNvSpPr/>
            <p:nvPr/>
          </p:nvSpPr>
          <p:spPr>
            <a:xfrm>
              <a:off x="3127320" y="3281400"/>
              <a:ext cx="0" cy="22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 rot="16200000">
              <a:off x="2595240" y="3871800"/>
              <a:ext cx="170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Arial Narrow"/>
                </a:rPr>
                <a:t>التكاليف الاقتصادية 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1324080" y="4727520"/>
              <a:ext cx="166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54"/>
                  </a:solidFill>
                  <a:latin typeface="Arial Narrow"/>
                </a:rPr>
                <a:t>تكاليف التصنيع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12" name="Text Box 11"/>
            <p:cNvSpPr/>
            <p:nvPr/>
          </p:nvSpPr>
          <p:spPr>
            <a:xfrm>
              <a:off x="963720" y="5580000"/>
              <a:ext cx="1658880" cy="642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54"/>
                  </a:solidFill>
                  <a:latin typeface="Arial Narrow"/>
                </a:rPr>
                <a:t>مستوى جودة عال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13" name="Text Box 13"/>
            <p:cNvSpPr/>
            <p:nvPr/>
          </p:nvSpPr>
          <p:spPr>
            <a:xfrm>
              <a:off x="4137120" y="5581800"/>
              <a:ext cx="2022480" cy="642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54"/>
                  </a:solidFill>
                  <a:latin typeface="Arial Narrow"/>
                </a:rPr>
                <a:t>مستوى جودة منخفض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755640" y="2013120"/>
              <a:ext cx="6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54"/>
                  </a:solidFill>
                  <a:latin typeface="Arial Narrow"/>
                </a:rPr>
                <a:t>التكلفة</a:t>
              </a:r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6227640" y="1413000"/>
            <a:ext cx="29163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إن مستوى الجودة له تأثير مباشر على تكلفة تصنيع المنتج و على قيمته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إن ضمان مستوى عال للجودة يتطلب تكاليف تصنيع و تفتيش عالية (تكاليف الحفاظ على الجودة). في حين يقلل من تكاليف اللإخفاق في الجودة (تصنيع منتجات معيبة)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العكس صحيحا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 Narrow"/>
              </a:rPr>
              <a:t>المستوى الاقتصادي للجودة</a:t>
            </a: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 : هو المستوى الذي يحقق أقل قيمة للتكاليف الكلية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316" name="Object 20"/>
          <p:cNvGraphicFramePr/>
          <p:nvPr/>
        </p:nvGraphicFramePr>
        <p:xfrm>
          <a:off x="826920" y="2349360"/>
          <a:ext cx="48276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349360"/>
                    <a:ext cx="4827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867-BCCB-4F9A-B5BF-68F9A86D6532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d189"/>
                </a:solidFill>
                <a:latin typeface="Arial"/>
              </a:rPr>
              <a:t>العلاقة بين مستوى الجودة و تكاليف التصميم</a:t>
            </a:r>
            <a:r>
              <a:rPr b="0" lang="ar-SA" sz="32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364000" y="1984320"/>
            <a:ext cx="3456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إن زيادة مستوى الجودة يتطلب استخدام خامات جيدة و معدات إنتاج متطورة و عمالة فنية مؤهلة. وهذا ما يؤدي حتما إلى رفع تكلفة إنتاجه و بالتالي سعر بيعه. هذا ما نطلق عليه مفهوم قيمة الجودة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 Narrow"/>
              </a:rPr>
              <a:t>المستوى الاقتصادي لجودة التصميم </a:t>
            </a: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ebd189"/>
                </a:solidFill>
                <a:latin typeface="Arial Narrow"/>
              </a:rPr>
              <a:t>Optimum Quality for Design</a:t>
            </a: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: هو المستوى الذي يحقق أحسن قيمة للقيمة المضافة للمنتج </a:t>
            </a:r>
            <a:r>
              <a:rPr b="1" lang="en-US" sz="1600" spc="-1" strike="noStrike">
                <a:solidFill>
                  <a:srgbClr val="ebd189"/>
                </a:solidFill>
                <a:latin typeface="Arial Narrow"/>
              </a:rPr>
              <a:t>Added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ebd189"/>
                </a:solidFill>
                <a:latin typeface="Arial Narrow"/>
              </a:rPr>
              <a:t>value</a:t>
            </a:r>
            <a:r>
              <a:rPr b="0" lang="ar-SA" sz="2000" spc="-1" strike="noStrike">
                <a:solidFill>
                  <a:srgbClr val="eaeaea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 algn="r" rtl="1">
              <a:spcBef>
                <a:spcPts val="125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321" name="Group 11"/>
          <p:cNvGrpSpPr/>
          <p:nvPr/>
        </p:nvGrpSpPr>
        <p:grpSpPr>
          <a:xfrm>
            <a:off x="900000" y="1989000"/>
            <a:ext cx="4248360" cy="3456000"/>
            <a:chOff x="900000" y="1989000"/>
            <a:chExt cx="4248360" cy="3456000"/>
          </a:xfrm>
        </p:grpSpPr>
        <p:pic>
          <p:nvPicPr>
            <p:cNvPr id="322" name="Picture 3" descr="quality-2"/>
            <p:cNvPicPr/>
            <p:nvPr/>
          </p:nvPicPr>
          <p:blipFill>
            <a:blip r:embed="rId1"/>
            <a:stretch/>
          </p:blipFill>
          <p:spPr>
            <a:xfrm>
              <a:off x="900000" y="1989000"/>
              <a:ext cx="4248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7"/>
            <p:cNvSpPr/>
            <p:nvPr/>
          </p:nvSpPr>
          <p:spPr>
            <a:xfrm rot="18318000">
              <a:off x="3637440" y="342612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30000"/>
                  </a:solidFill>
                  <a:latin typeface="Arial Narrow"/>
                </a:rPr>
                <a:t>تكاليف الإنتاج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 rot="18639600">
              <a:off x="2241000" y="278532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30000"/>
                  </a:solidFill>
                  <a:latin typeface="Arial Narrow"/>
                </a:rPr>
                <a:t>قيمة الجودة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1332000" y="213372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30000"/>
                  </a:solidFill>
                  <a:latin typeface="Arial Narrow"/>
                </a:rPr>
                <a:t>التكاليف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3780000" y="4437000"/>
              <a:ext cx="122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30000"/>
                  </a:solidFill>
                  <a:latin typeface="Arial Narrow"/>
                </a:rPr>
                <a:t>جودة التصميم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2340000" y="4941720"/>
            <a:ext cx="1871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8" name="Freeform 13"/>
          <p:cNvSpPr/>
          <p:nvPr/>
        </p:nvSpPr>
        <p:spPr>
          <a:xfrm>
            <a:off x="3348000" y="4100400"/>
            <a:ext cx="1944720" cy="841320"/>
          </a:xfrm>
          <a:custGeom>
            <a:avLst/>
            <a:gdLst/>
            <a:ahLst/>
            <a:rect l="l" t="t" r="r" b="b"/>
            <a:pathLst>
              <a:path w="1225" h="530">
                <a:moveTo>
                  <a:pt x="1225" y="76"/>
                </a:moveTo>
                <a:cubicBezTo>
                  <a:pt x="1145" y="38"/>
                  <a:pt x="1066" y="0"/>
                  <a:pt x="862" y="76"/>
                </a:cubicBezTo>
                <a:cubicBezTo>
                  <a:pt x="658" y="152"/>
                  <a:pt x="144" y="454"/>
                  <a:pt x="0" y="53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329" name="Object 14"/>
          <p:cNvGraphicFramePr/>
          <p:nvPr/>
        </p:nvGraphicFramePr>
        <p:xfrm>
          <a:off x="1042920" y="2349360"/>
          <a:ext cx="484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349360"/>
                    <a:ext cx="484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7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8D8F-AFAD-4114-A308-F722420732C7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مسؤولية الجودة </a:t>
            </a:r>
            <a:br>
              <a:rPr sz="4400"/>
            </a:b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Responsibility for Qual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1280" y="1628640"/>
            <a:ext cx="503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على من تقع مسؤولية تحقيق الجودة في المنشأة الإنتاجية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أهو قسم التصميم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أم قسم الإنتاج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أم التسويق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أم خدمات ما بعد البيع؟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أم .... ؟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4" name="Picture 41" descr="BD06785_"/>
          <p:cNvPicPr/>
          <p:nvPr/>
        </p:nvPicPr>
        <p:blipFill>
          <a:blip r:embed="rId1"/>
          <a:stretch/>
        </p:blipFill>
        <p:spPr>
          <a:xfrm>
            <a:off x="1332000" y="333360"/>
            <a:ext cx="1052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BF83-8C21-44B1-9CA7-78264B0E7155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تعار يف عامة عن</a:t>
            </a:r>
            <a:br>
              <a:rPr sz="4000"/>
            </a:b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 مفهوم الجودة 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يعتبر أي منتج صناعي على درجة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عالية من الجودة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إذا كان تصنيعه يؤدي إلى </a:t>
            </a:r>
            <a:r>
              <a:rPr b="1" lang="ar-SA" sz="3200" spc="-1" strike="noStrike">
                <a:solidFill>
                  <a:srgbClr val="fcab40"/>
                </a:solidFill>
                <a:latin typeface="Arial"/>
              </a:rPr>
              <a:t>تحقيق رغبات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قطاع معين من </a:t>
            </a:r>
            <a:r>
              <a:rPr b="1" lang="ar-SA" sz="3200" spc="-1" strike="noStrike">
                <a:solidFill>
                  <a:srgbClr val="fcab40"/>
                </a:solidFill>
                <a:latin typeface="Arial"/>
              </a:rPr>
              <a:t>المستهلكين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و يلبي رغباته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يمكن أن نعرف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جودة المنتج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بأنها </a:t>
            </a:r>
            <a:r>
              <a:rPr b="1" lang="ar-SA" sz="3200" spc="-1" strike="noStrike">
                <a:solidFill>
                  <a:srgbClr val="fcab40"/>
                </a:solidFill>
                <a:latin typeface="Arial"/>
              </a:rPr>
              <a:t>درجة وفاء المنتج لاحتياجات و رغبات المستهلك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كما تعرف الجودة بأنها مدى ملائمة مواصفات المنتج مع رغبات و متطلبات المستهل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Picture 4" descr="Pgnmain1"/>
          <p:cNvPicPr/>
          <p:nvPr/>
        </p:nvPicPr>
        <p:blipFill>
          <a:blip r:embed="rId1"/>
          <a:stretch/>
        </p:blipFill>
        <p:spPr>
          <a:xfrm>
            <a:off x="3780000" y="544500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7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1E6-EC17-4D3D-BF20-D0774698812F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مسؤولية الجودة - </a:t>
            </a:r>
            <a:r>
              <a:rPr b="0" lang="ar-SA" sz="2000" spc="-1" strike="noStrike">
                <a:solidFill>
                  <a:srgbClr val="ebd189"/>
                </a:solidFill>
                <a:latin typeface="Arial"/>
              </a:rPr>
              <a:t>تابع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5640" y="5516640"/>
            <a:ext cx="69613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قع مسؤولية تحقيق الجودة في المنشأة الإنتاجية على الجمي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38" name="Object 36"/>
          <p:cNvGraphicFramePr/>
          <p:nvPr/>
        </p:nvGraphicFramePr>
        <p:xfrm>
          <a:off x="3634920" y="5877000"/>
          <a:ext cx="196236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4920" y="5877000"/>
                    <a:ext cx="196236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Group 4"/>
          <p:cNvGrpSpPr/>
          <p:nvPr/>
        </p:nvGrpSpPr>
        <p:grpSpPr>
          <a:xfrm>
            <a:off x="468360" y="1413000"/>
            <a:ext cx="7488360" cy="4185000"/>
            <a:chOff x="468360" y="1413000"/>
            <a:chExt cx="7488360" cy="4185000"/>
          </a:xfrm>
        </p:grpSpPr>
        <p:sp>
          <p:nvSpPr>
            <p:cNvPr id="341" name="Oval 5"/>
            <p:cNvSpPr/>
            <p:nvPr/>
          </p:nvSpPr>
          <p:spPr>
            <a:xfrm>
              <a:off x="3924360" y="2636640"/>
              <a:ext cx="1440000" cy="1294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2" name="Text Box 6"/>
            <p:cNvSpPr/>
            <p:nvPr/>
          </p:nvSpPr>
          <p:spPr>
            <a:xfrm>
              <a:off x="3780000" y="289368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cab40"/>
                  </a:solidFill>
                  <a:latin typeface="Arial Narrow"/>
                </a:rPr>
                <a:t>منتج جيد الجودة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3" name="Text Box 7"/>
            <p:cNvSpPr/>
            <p:nvPr/>
          </p:nvSpPr>
          <p:spPr>
            <a:xfrm>
              <a:off x="3637080" y="1413000"/>
              <a:ext cx="2016000" cy="116748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3006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rial Narrow"/>
                </a:rPr>
                <a:t>العميل / المستهلك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Narrow"/>
                </a:rPr>
                <a:t>Customer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4" name="Text Box 8"/>
            <p:cNvSpPr/>
            <p:nvPr/>
          </p:nvSpPr>
          <p:spPr>
            <a:xfrm>
              <a:off x="6085080" y="2131920"/>
              <a:ext cx="187164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تسويق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Marketing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6085080" y="2923920"/>
              <a:ext cx="187164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تصميم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Design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6" name="Text Box 10"/>
            <p:cNvSpPr/>
            <p:nvPr/>
          </p:nvSpPr>
          <p:spPr>
            <a:xfrm>
              <a:off x="6085080" y="3716280"/>
              <a:ext cx="187164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مشتريات</a:t>
              </a: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Procurement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4211640" y="4589280"/>
              <a:ext cx="1800360" cy="1008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تصميم العمليات</a:t>
              </a: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Process Design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2340000" y="4589280"/>
              <a:ext cx="151128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إنتاج</a:t>
              </a: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Production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468360" y="3725640"/>
              <a:ext cx="251964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فحص و الاختبار</a:t>
              </a: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Inspection and Testing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468360" y="2717640"/>
              <a:ext cx="251964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التغليف و التخزين</a:t>
              </a: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Packaging and Storage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1" name="Text Box 15"/>
            <p:cNvSpPr/>
            <p:nvPr/>
          </p:nvSpPr>
          <p:spPr>
            <a:xfrm>
              <a:off x="682920" y="1709640"/>
              <a:ext cx="1944720" cy="70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eaeaea"/>
                  </a:solidFill>
                  <a:latin typeface="Arial Narrow"/>
                </a:rPr>
                <a:t> خدمة المنتج  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Product Service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V="1">
              <a:off x="4645080" y="2276280"/>
              <a:ext cx="0" cy="36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6948720" y="2563560"/>
              <a:ext cx="0" cy="36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4" name="Line 18"/>
            <p:cNvSpPr/>
            <p:nvPr/>
          </p:nvSpPr>
          <p:spPr>
            <a:xfrm>
              <a:off x="6948720" y="3355920"/>
              <a:ext cx="0" cy="36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 flipH="1">
              <a:off x="3853080" y="4940280"/>
              <a:ext cx="358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 flipV="1">
              <a:off x="1548000" y="3428640"/>
              <a:ext cx="0" cy="287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 flipV="1">
              <a:off x="1548000" y="2420280"/>
              <a:ext cx="0" cy="286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 flipV="1">
              <a:off x="3348360" y="3789000"/>
              <a:ext cx="79200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 flipV="1">
              <a:off x="2988000" y="3571200"/>
              <a:ext cx="100800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2988000" y="3068280"/>
              <a:ext cx="93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>
              <a:off x="2627640" y="2205000"/>
              <a:ext cx="1512720" cy="57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 flipH="1">
              <a:off x="5219640" y="2420640"/>
              <a:ext cx="86508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 flipH="1">
              <a:off x="5364360" y="32130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 flipH="1" flipV="1">
              <a:off x="5219640" y="3716280"/>
              <a:ext cx="865080" cy="36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 flipH="1" flipV="1">
              <a:off x="4787640" y="3931560"/>
              <a:ext cx="144360" cy="64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1979640" y="1447560"/>
              <a:ext cx="1656000" cy="252000"/>
            </a:xfrm>
            <a:custGeom>
              <a:avLst/>
              <a:gdLst/>
              <a:ahLst/>
              <a:rect l="l" t="t" r="r" b="b"/>
              <a:pathLst>
                <a:path w="1043" h="159">
                  <a:moveTo>
                    <a:pt x="0" y="159"/>
                  </a:moveTo>
                  <a:cubicBezTo>
                    <a:pt x="26" y="102"/>
                    <a:pt x="53" y="46"/>
                    <a:pt x="227" y="23"/>
                  </a:cubicBezTo>
                  <a:cubicBezTo>
                    <a:pt x="401" y="0"/>
                    <a:pt x="915" y="23"/>
                    <a:pt x="1043" y="23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5653080" y="1533240"/>
              <a:ext cx="1295640" cy="598320"/>
            </a:xfrm>
            <a:custGeom>
              <a:avLst/>
              <a:gdLst/>
              <a:ahLst/>
              <a:rect l="l" t="t" r="r" b="b"/>
              <a:pathLst>
                <a:path w="816" h="377">
                  <a:moveTo>
                    <a:pt x="0" y="14"/>
                  </a:moveTo>
                  <a:cubicBezTo>
                    <a:pt x="56" y="10"/>
                    <a:pt x="113" y="6"/>
                    <a:pt x="226" y="14"/>
                  </a:cubicBezTo>
                  <a:cubicBezTo>
                    <a:pt x="339" y="22"/>
                    <a:pt x="582" y="0"/>
                    <a:pt x="680" y="60"/>
                  </a:cubicBezTo>
                  <a:cubicBezTo>
                    <a:pt x="778" y="120"/>
                    <a:pt x="797" y="248"/>
                    <a:pt x="816" y="377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8" name="Freeform 32"/>
            <p:cNvSpPr/>
            <p:nvPr/>
          </p:nvSpPr>
          <p:spPr>
            <a:xfrm>
              <a:off x="6012000" y="4437000"/>
              <a:ext cx="960480" cy="502920"/>
            </a:xfrm>
            <a:custGeom>
              <a:avLst/>
              <a:gdLst/>
              <a:ahLst/>
              <a:rect l="l" t="t" r="r" b="b"/>
              <a:pathLst>
                <a:path w="605" h="317">
                  <a:moveTo>
                    <a:pt x="590" y="0"/>
                  </a:moveTo>
                  <a:cubicBezTo>
                    <a:pt x="597" y="45"/>
                    <a:pt x="605" y="91"/>
                    <a:pt x="590" y="136"/>
                  </a:cubicBezTo>
                  <a:cubicBezTo>
                    <a:pt x="575" y="181"/>
                    <a:pt x="597" y="242"/>
                    <a:pt x="499" y="272"/>
                  </a:cubicBezTo>
                  <a:cubicBezTo>
                    <a:pt x="401" y="302"/>
                    <a:pt x="200" y="309"/>
                    <a:pt x="0" y="317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69" name="Freeform 33"/>
            <p:cNvSpPr/>
            <p:nvPr/>
          </p:nvSpPr>
          <p:spPr>
            <a:xfrm>
              <a:off x="1548000" y="4437000"/>
              <a:ext cx="792000" cy="515520"/>
            </a:xfrm>
            <a:custGeom>
              <a:avLst/>
              <a:gdLst/>
              <a:ahLst/>
              <a:rect l="l" t="t" r="r" b="b"/>
              <a:pathLst>
                <a:path w="499" h="325">
                  <a:moveTo>
                    <a:pt x="499" y="317"/>
                  </a:moveTo>
                  <a:cubicBezTo>
                    <a:pt x="442" y="321"/>
                    <a:pt x="386" y="325"/>
                    <a:pt x="318" y="317"/>
                  </a:cubicBezTo>
                  <a:cubicBezTo>
                    <a:pt x="250" y="309"/>
                    <a:pt x="144" y="325"/>
                    <a:pt x="91" y="272"/>
                  </a:cubicBezTo>
                  <a:cubicBezTo>
                    <a:pt x="38" y="219"/>
                    <a:pt x="19" y="109"/>
                    <a:pt x="0" y="0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370" name="Text Box 34"/>
          <p:cNvSpPr/>
          <p:nvPr/>
        </p:nvSpPr>
        <p:spPr>
          <a:xfrm rot="10800000">
            <a:off x="8028000" y="1628280"/>
            <a:ext cx="911880" cy="3241800"/>
          </a:xfrm>
          <a:prstGeom prst="rect">
            <a:avLst/>
          </a:prstGeom>
          <a:noFill/>
          <a:ln w="381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إدارة الجودة الشاملة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otal Quality Managem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371" name="Object 37"/>
          <p:cNvGraphicFramePr/>
          <p:nvPr/>
        </p:nvGraphicFramePr>
        <p:xfrm>
          <a:off x="1692360" y="4508640"/>
          <a:ext cx="803160" cy="80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508640"/>
                    <a:ext cx="803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Object 39" descr=""/>
          <p:cNvPicPr/>
          <p:nvPr/>
        </p:nvPicPr>
        <p:blipFill>
          <a:blip r:embed="rId5"/>
          <a:stretch/>
        </p:blipFill>
        <p:spPr>
          <a:xfrm>
            <a:off x="6300720" y="4653000"/>
            <a:ext cx="8445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C86-4323-4274-8B7A-4BD8E075F804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تطور أنظمة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236000" y="5386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30000"/>
                </a:solidFill>
                <a:latin typeface="Arial Narrow"/>
              </a:rPr>
              <a:t>2000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187280" y="1197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لقد عرفت الجودة تطورات مهمة مع التقدم الصناعي و التكنولوجي المعاصر و بشكل خاص بعد الحرب العالمية الثانية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378" name="Group 19"/>
          <p:cNvGrpSpPr/>
          <p:nvPr/>
        </p:nvGrpSpPr>
        <p:grpSpPr>
          <a:xfrm>
            <a:off x="1862280" y="2060640"/>
            <a:ext cx="5662080" cy="4752720"/>
            <a:chOff x="1862280" y="2060640"/>
            <a:chExt cx="5662080" cy="4752720"/>
          </a:xfrm>
        </p:grpSpPr>
        <p:grpSp>
          <p:nvGrpSpPr>
            <p:cNvPr id="379" name="Group 12"/>
            <p:cNvGrpSpPr/>
            <p:nvPr/>
          </p:nvGrpSpPr>
          <p:grpSpPr>
            <a:xfrm>
              <a:off x="1862280" y="2131920"/>
              <a:ext cx="5662080" cy="4681440"/>
              <a:chOff x="1862280" y="2131920"/>
              <a:chExt cx="5662080" cy="4681440"/>
            </a:xfrm>
          </p:grpSpPr>
          <p:pic>
            <p:nvPicPr>
              <p:cNvPr id="38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862280" y="2131920"/>
                <a:ext cx="5635440" cy="46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Text Box 5"/>
              <p:cNvSpPr/>
              <p:nvPr/>
            </p:nvSpPr>
            <p:spPr>
              <a:xfrm>
                <a:off x="6392160" y="2956680"/>
                <a:ext cx="1132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 Narrow"/>
                  </a:rPr>
                  <a:t>Total Quality Management</a:t>
                </a:r>
                <a:endParaRPr b="0" lang="en-US" sz="10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82" name="Text Box 7"/>
              <p:cNvSpPr/>
              <p:nvPr/>
            </p:nvSpPr>
            <p:spPr>
              <a:xfrm>
                <a:off x="6229440" y="2131920"/>
                <a:ext cx="121428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ff0000"/>
                    </a:solidFill>
                    <a:latin typeface="Arial Narrow"/>
                  </a:rPr>
                  <a:t>إدارة الجودة الشاملة</a:t>
                </a:r>
                <a:endParaRPr b="0" lang="en-US" sz="1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383" name="Picture 15" descr="j0199549"/>
            <p:cNvPicPr/>
            <p:nvPr/>
          </p:nvPicPr>
          <p:blipFill>
            <a:blip r:embed="rId2"/>
            <a:stretch/>
          </p:blipFill>
          <p:spPr>
            <a:xfrm>
              <a:off x="2617920" y="5013360"/>
              <a:ext cx="6336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6" descr="j0195812"/>
            <p:cNvPicPr/>
            <p:nvPr/>
          </p:nvPicPr>
          <p:blipFill>
            <a:blip r:embed="rId3"/>
            <a:stretch/>
          </p:blipFill>
          <p:spPr>
            <a:xfrm>
              <a:off x="3841920" y="3789360"/>
              <a:ext cx="745920" cy="766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5" name="Object 17"/>
            <p:cNvGraphicFramePr/>
            <p:nvPr/>
          </p:nvGraphicFramePr>
          <p:xfrm>
            <a:off x="5210280" y="2060640"/>
            <a:ext cx="1231920" cy="81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86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10280" y="2060640"/>
                      <a:ext cx="123192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9B9-0B2C-46E3-B921-0155589515DA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التقنيات العملية لضبط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7236000" y="5386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30000"/>
                </a:solidFill>
                <a:latin typeface="Arial Narrow"/>
              </a:rPr>
              <a:t>2000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187280" y="1197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مع التطور الذي عرفته أنظمة الجودة مع الوقت انبثقت عنها تقنيات و طرق عدة لضبط جودة المنتجات الصناعية. نذكر فيما يلي أهمها على المستوى الصناعي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572000" y="2579760"/>
            <a:ext cx="42670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ضمان الجودة عن طريق </a:t>
            </a:r>
            <a:r>
              <a:rPr b="1" lang="ar-SA" sz="2400" spc="-1" strike="noStrike">
                <a:solidFill>
                  <a:srgbClr val="eaeaea"/>
                </a:solidFill>
                <a:latin typeface="Arial"/>
              </a:rPr>
              <a:t>ضبط العمليات الإنتاجية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ضمان جودة المنتج النهائي عن طريق</a:t>
            </a:r>
            <a:r>
              <a:rPr b="1" lang="ar-SA" sz="2400" spc="-1" strike="noStrike">
                <a:solidFill>
                  <a:srgbClr val="eaeaea"/>
                </a:solidFill>
                <a:latin typeface="Arial"/>
              </a:rPr>
              <a:t> الفحص و الاختبار 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Inspection and Test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ضمان الجودة عن طريق </a:t>
            </a:r>
            <a:r>
              <a:rPr b="1" lang="ar-SA" sz="2400" spc="-1" strike="noStrike">
                <a:solidFill>
                  <a:srgbClr val="eaeaea"/>
                </a:solidFill>
                <a:latin typeface="Arial"/>
              </a:rPr>
              <a:t>تطبيق مفهوم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دارة الجودة الشاملة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Total Quality Management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1116000" y="2565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900000" y="5589720"/>
            <a:ext cx="3097440" cy="12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 Narrow"/>
              </a:rPr>
              <a:t>خطط الفحص و المعاينة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Acceptance Sampling Plan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898560" y="2373480"/>
            <a:ext cx="3097080" cy="432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 Narrow"/>
              </a:rPr>
              <a:t>ضبط الجودة الإحصائي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d189"/>
                </a:solidFill>
                <a:latin typeface="Arial Narrow"/>
              </a:rPr>
              <a:t>Statistical Quality Contr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r" rtl="1">
              <a:spcBef>
                <a:spcPts val="1125"/>
              </a:spcBef>
              <a:buClr>
                <a:srgbClr val="eaeaea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 التوزيع التكراري 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Histogram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r" rtl="1">
              <a:spcBef>
                <a:spcPts val="1125"/>
              </a:spcBef>
              <a:buClr>
                <a:srgbClr val="eaeaea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 خرائط التحكم للمتغيرات 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Control Charts for Variabl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r" rtl="1">
              <a:spcBef>
                <a:spcPts val="1125"/>
              </a:spcBef>
              <a:buClr>
                <a:srgbClr val="eaeaea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 Narrow"/>
              </a:rPr>
              <a:t> خرائط التحكم للخواص 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Control Charts for Attribut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5" name="AutoShape 18"/>
          <p:cNvSpPr/>
          <p:nvPr/>
        </p:nvSpPr>
        <p:spPr>
          <a:xfrm>
            <a:off x="3995640" y="2852640"/>
            <a:ext cx="719280" cy="289080"/>
          </a:xfrm>
          <a:prstGeom prst="leftArrow">
            <a:avLst>
              <a:gd name="adj1" fmla="val 50000"/>
              <a:gd name="adj2" fmla="val 6220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396" name="Group 23"/>
          <p:cNvGrpSpPr/>
          <p:nvPr/>
        </p:nvGrpSpPr>
        <p:grpSpPr>
          <a:xfrm>
            <a:off x="3995640" y="3933720"/>
            <a:ext cx="647640" cy="2232000"/>
            <a:chOff x="3995640" y="3933720"/>
            <a:chExt cx="647640" cy="2232000"/>
          </a:xfrm>
        </p:grpSpPr>
        <p:sp>
          <p:nvSpPr>
            <p:cNvPr id="397" name="AutoShape 19"/>
            <p:cNvSpPr/>
            <p:nvPr/>
          </p:nvSpPr>
          <p:spPr>
            <a:xfrm>
              <a:off x="3995640" y="5877000"/>
              <a:ext cx="360360" cy="288720"/>
            </a:xfrm>
            <a:prstGeom prst="leftArrow">
              <a:avLst>
                <a:gd name="adj1" fmla="val 50000"/>
                <a:gd name="adj2" fmla="val 312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>
              <a:off x="4211640" y="3933720"/>
              <a:ext cx="43164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99" name="Rectangle 22"/>
            <p:cNvSpPr/>
            <p:nvPr/>
          </p:nvSpPr>
          <p:spPr>
            <a:xfrm>
              <a:off x="4211640" y="4076640"/>
              <a:ext cx="144360" cy="1873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F88-DC34-4969-AD4B-B838E6E591E5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7236000" y="5386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30000"/>
                </a:solidFill>
                <a:latin typeface="Arial Narrow"/>
              </a:rPr>
              <a:t>2000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116000" y="2565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cab40"/>
                </a:solidFill>
                <a:latin typeface="Arial"/>
              </a:rPr>
              <a:t>جزاكم الله خيرا على حسن الاستماع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cab40"/>
                </a:solidFill>
                <a:latin typeface="Arial"/>
              </a:rPr>
              <a:t>هل من أسئلة ؟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bd189"/>
                </a:solidFill>
                <a:latin typeface="Arial"/>
              </a:rPr>
              <a:t>مفهوم الجودة في ديننا الحنيف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971640" y="1844640"/>
            <a:ext cx="793584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تعنى كلمة جودة " </a:t>
            </a:r>
            <a:r>
              <a:rPr b="1" lang="ar-SA" sz="2400" spc="-1" strike="noStrike">
                <a:solidFill>
                  <a:srgbClr val="ccff33"/>
                </a:solidFill>
                <a:latin typeface="Arial"/>
              </a:rPr>
              <a:t>القيام بأداء العمل بإتقان وعلى الوجه المطلوب والمقبول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. كما أمرنا الله ورسوله صلى الله عليه وسلم بذلك في كثير من الآيات والأحاديث كقوله تعالى : </a:t>
            </a:r>
            <a:r>
              <a:rPr b="1" lang="ar-SA" sz="2400" spc="-1" strike="noStrike">
                <a:solidFill>
                  <a:srgbClr val="ccff33"/>
                </a:solidFill>
                <a:latin typeface="Arial"/>
              </a:rPr>
              <a:t>الذي خلق الموت والحياة ليبلوكم أيكم أحسن عملاً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" </a:t>
            </a:r>
            <a:r>
              <a:rPr b="0" i="1" lang="ar-SA" sz="1800" spc="-1" strike="noStrike">
                <a:solidFill>
                  <a:srgbClr val="eaeaea"/>
                </a:solidFill>
                <a:latin typeface="Arial"/>
              </a:rPr>
              <a:t>( سورة الملك آية رقم </a:t>
            </a:r>
            <a:r>
              <a:rPr b="0" i="1" lang="ar-SA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i="1" lang="ar-SA" sz="18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وقوله صلى الله عليه وسلم : </a:t>
            </a:r>
            <a:r>
              <a:rPr b="1" lang="ar-SA" sz="2400" spc="-1" strike="noStrike">
                <a:solidFill>
                  <a:srgbClr val="ccff33"/>
                </a:solidFill>
                <a:latin typeface="Arial"/>
              </a:rPr>
              <a:t>إن الله يحب أحدكم إذا عمل عملاً أن يتقنه</a:t>
            </a: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 " </a:t>
            </a:r>
            <a:r>
              <a:rPr b="0" i="1" lang="ar-SA" sz="1800" spc="-1" strike="noStrike">
                <a:solidFill>
                  <a:srgbClr val="eaeaea"/>
                </a:solidFill>
                <a:latin typeface="Arial"/>
              </a:rPr>
              <a:t>( رواه أبو يعلى والبيهقي ) .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والإتقان أعم وأشمل من كلمة الجودة أو مجرد القيام بعمل جيد. فالإتقان يأتي نتيجة التحسين المستمر ليصل العمل إلى أكمل وجه وأفضل صورة وهو الهدف المنشود من تطبيق الجودة الشاملة 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Arial"/>
              </a:rPr>
              <a:t>ونستنتج من ذلك أن ديننا الحنيف يحثنا ليس على تحقيق الجودة فحسب بل على تحقيق الهدف من عملية الجودة وهو إتقان الأعمال والرقي بها إلى أعلى مستويات الأداء الذي نتمناه 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09" name="Picture 5" descr="j0301050"/>
          <p:cNvPicPr/>
          <p:nvPr/>
        </p:nvPicPr>
        <p:blipFill>
          <a:blip r:embed="rId1"/>
          <a:stretch/>
        </p:blipFill>
        <p:spPr>
          <a:xfrm>
            <a:off x="468360" y="333360"/>
            <a:ext cx="14414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6836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جودة من وجهة نظر تقنية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9640" y="1197000"/>
            <a:ext cx="81518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من وجهة نظر تقنية فإن الجودة هي عبارة عن مجموعة من خواص (مواصفات) المنتج تحدد مدى ملائمة المنتج لكي يقوم بأداء الوظيفة المطلوبة منه كما يتوقعها المستهلك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تعتبر المواصفات </a:t>
            </a:r>
            <a:r>
              <a:rPr b="0" lang="ar-SA" sz="2000" spc="-1" strike="noStrike">
                <a:solidFill>
                  <a:srgbClr val="ebd189"/>
                </a:solidFill>
                <a:latin typeface="Arial"/>
              </a:rPr>
              <a:t>(  </a:t>
            </a:r>
            <a:r>
              <a:rPr b="0" lang="en-US" sz="2000" spc="-1" strike="noStrike">
                <a:solidFill>
                  <a:srgbClr val="ebd189"/>
                </a:solidFill>
                <a:latin typeface="Arial"/>
              </a:rPr>
              <a:t>Specifications</a:t>
            </a:r>
            <a:r>
              <a:rPr b="0" lang="ar-SA" sz="2000" spc="-1" strike="noStrike">
                <a:solidFill>
                  <a:srgbClr val="ebd189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لمحدد الأساسي لجودة المنتج بحيث تعبر عن الخصائص المطلوبة في المنتج لكي يؤدي الغرض المصمم من أجله و المرجو منه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من خلال المواصفات يمكن لجميع الأطراف التفاهم مع بعضها البعض و فض الخلافات في حال نشوبها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5" descr="j0285360"/>
          <p:cNvPicPr/>
          <p:nvPr/>
        </p:nvPicPr>
        <p:blipFill>
          <a:blip r:embed="rId1"/>
          <a:stretch/>
        </p:blipFill>
        <p:spPr>
          <a:xfrm>
            <a:off x="179280" y="11592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C12-0F4E-4958-9CC2-53C38AA96F39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ضبط الجودة – 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604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عرفنا فيما سبق الجودة بأن يكون المنتج مناسبا لأداء الغرض المصمم من أجاه بحيث يلبي رغبات و متطلبات المستهل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لا يمكن تحقيق ذلك إلا بوجود متطلبات معينة (مواصفات قياسية) و متابعة تحقيقها و التدخل لإصلاح أي انحراف و حدوث عيوب في المنتج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منه تعرف ضبط الجودة بأنها مجموعة الأنشطة و الجهود التي يبذلها جميع العاملين و التي تسمح بتحقيق المستويات القياسية للجودة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ليس المقصود من ضبط الجودة انتاج سلعة خالية من العيوب بل وفائها بمتطلبات و رغبات المستهلك و توصيلها إليه و هي بدرجة الجودة المطلوبة حتى تؤدي وظيفتها على الوجه الأكمل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5" descr="j0293844"/>
          <p:cNvPicPr/>
          <p:nvPr/>
        </p:nvPicPr>
        <p:blipFill>
          <a:blip r:embed="rId1"/>
          <a:stretch/>
        </p:blipFill>
        <p:spPr>
          <a:xfrm>
            <a:off x="395280" y="44280"/>
            <a:ext cx="1370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3E1-4119-440A-A6C9-140D6148A9B2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ضبط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غرض الأساسي من ضبط الجودة هو ضمان جودة المنتج بأقل تكلفة ممكنة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عمليا لا يمكن تحقيق ذلك إلا بالتحكم في العمليات الإنتاجية و التقليل من حدوث إنتاج معيب و خارج حدود المواصفات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 algn="r" rtl="1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توجد هناك أربع خطوات عملية لضبط جودة المنتجات الصناعية. </a:t>
            </a:r>
            <a:r>
              <a:rPr b="0" lang="ar-SA" sz="1400" spc="-1" strike="noStrike">
                <a:solidFill>
                  <a:srgbClr val="eaeaea"/>
                </a:solidFill>
                <a:latin typeface="Arial"/>
              </a:rPr>
              <a:t>(سوف نتطرق لها في الشريحة التالية)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Object 5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13654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0CE-B674-4AF8-972D-725237DC76E0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الخطوات العملية لضبط الجود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حديد مستوى الجودة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مطلوب : وهذا من خلال أبحاث السوق و تصاميم المنتج و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وضع المواصفات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قييم المطابقة بين المنتج و المواصفات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: وهذا عن طريق أخذ عينات منتظمة من خط الإنتاج ثم إجراء عمليات قياس على خصائصها. و مقارنة النتائج مع مثيلاتها المحددة في المواصفات و تحديد قيم الاختلافات الموجودة بينهما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قييم و تحليل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أسباب المؤدية الى هذه الاختلافات و اتخاذ الإجراءات التصحيحية و الوقائية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تخطيط للتحسين المستمر للجودة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و هذا عن طريق مراجعة مواصفات المنتج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6948360" y="260280"/>
            <a:ext cx="1552680" cy="1238040"/>
            <a:chOff x="6948360" y="260280"/>
            <a:chExt cx="1552680" cy="1238040"/>
          </a:xfrm>
        </p:grpSpPr>
        <p:sp>
          <p:nvSpPr>
            <p:cNvPr id="125" name="Gear"/>
            <p:cNvSpPr/>
            <p:nvPr/>
          </p:nvSpPr>
          <p:spPr>
            <a:xfrm>
              <a:off x="7809120" y="260280"/>
              <a:ext cx="691920" cy="567720"/>
            </a:xfrm>
            <a:custGeom>
              <a:avLst/>
              <a:gdLst>
                <a:gd name="textAreaLeft" fmla="*/ 140040 w 691920"/>
                <a:gd name="textAreaRight" fmla="*/ 571680 w 691920"/>
                <a:gd name="textAreaTop" fmla="*/ 104040 h 567720"/>
                <a:gd name="textAreaBottom" fmla="*/ 463680 h 56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6948360" y="494280"/>
              <a:ext cx="827280" cy="678960"/>
            </a:xfrm>
            <a:custGeom>
              <a:avLst/>
              <a:gdLst>
                <a:gd name="textAreaLeft" fmla="*/ 167040 w 827280"/>
                <a:gd name="textAreaRight" fmla="*/ 683280 w 827280"/>
                <a:gd name="textAreaTop" fmla="*/ 124560 h 678960"/>
                <a:gd name="textAreaBottom" fmla="*/ 554400 h 67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7484760" y="744480"/>
              <a:ext cx="919440" cy="753840"/>
            </a:xfrm>
            <a:custGeom>
              <a:avLst/>
              <a:gdLst>
                <a:gd name="textAreaLeft" fmla="*/ 186480 w 919440"/>
                <a:gd name="textAreaRight" fmla="*/ 759600 w 919440"/>
                <a:gd name="textAreaTop" fmla="*/ 137880 h 753840"/>
                <a:gd name="textAreaBottom" fmla="*/ 615240 h 75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02A-B262-4124-9EC8-ECC56A8EB110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189"/>
                </a:solidFill>
                <a:latin typeface="Arial"/>
              </a:rPr>
              <a:t>العناصر الأساسية لضبط الجودة</a:t>
            </a:r>
            <a:br>
              <a:rPr sz="4000"/>
            </a:br>
            <a:r>
              <a:rPr b="0" lang="ar-SA" sz="4000" spc="-1" strike="noStrike" u="sng">
                <a:solidFill>
                  <a:srgbClr val="ebd189"/>
                </a:solidFill>
                <a:uFillTx/>
                <a:latin typeface="Arial"/>
              </a:rPr>
              <a:t>مثلث الجودة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1" name="Group 16"/>
          <p:cNvGrpSpPr/>
          <p:nvPr/>
        </p:nvGrpSpPr>
        <p:grpSpPr>
          <a:xfrm>
            <a:off x="1979640" y="1987560"/>
            <a:ext cx="5616360" cy="4425840"/>
            <a:chOff x="1979640" y="1987560"/>
            <a:chExt cx="5616360" cy="4425840"/>
          </a:xfrm>
        </p:grpSpPr>
        <p:sp>
          <p:nvSpPr>
            <p:cNvPr id="132" name="Oval 2"/>
            <p:cNvSpPr/>
            <p:nvPr/>
          </p:nvSpPr>
          <p:spPr>
            <a:xfrm>
              <a:off x="2052360" y="4437000"/>
              <a:ext cx="1944720" cy="18003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3" name="Oval 3"/>
            <p:cNvSpPr/>
            <p:nvPr/>
          </p:nvSpPr>
          <p:spPr>
            <a:xfrm>
              <a:off x="5508360" y="4363920"/>
              <a:ext cx="1943280" cy="187344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>
              <a:off x="3635280" y="1987560"/>
              <a:ext cx="1944720" cy="18003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3492360" y="249228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eaeaea"/>
                  </a:solidFill>
                  <a:latin typeface="Arial Narrow"/>
                </a:rPr>
                <a:t>متطلبات و رغبات المستهلك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1979640" y="5011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eaeaea"/>
                  </a:solidFill>
                  <a:latin typeface="Arial Narrow"/>
                </a:rPr>
                <a:t>خصائص الإنتاج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7" name="Text Box 9"/>
            <p:cNvSpPr/>
            <p:nvPr/>
          </p:nvSpPr>
          <p:spPr>
            <a:xfrm>
              <a:off x="5364000" y="494028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eaeaea"/>
                  </a:solidFill>
                  <a:latin typeface="Arial Narrow"/>
                </a:rPr>
                <a:t>خصائص التصميم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V="1">
              <a:off x="3203640" y="3571560"/>
              <a:ext cx="720720" cy="8650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364000" y="3571920"/>
              <a:ext cx="792360" cy="792000"/>
            </a:xfrm>
            <a:prstGeom prst="line">
              <a:avLst/>
            </a:prstGeom>
            <a:ln w="76320">
              <a:solidFill>
                <a:srgbClr val="cc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995640" y="5445000"/>
              <a:ext cx="1512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3924360" y="5587920"/>
              <a:ext cx="15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0000"/>
                  </a:solidFill>
                  <a:latin typeface="Arial Narrow"/>
                </a:rPr>
                <a:t>جودة التصنيع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 rot="18554400">
              <a:off x="2423160" y="3347640"/>
              <a:ext cx="143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99"/>
                  </a:solidFill>
                  <a:latin typeface="Arial Narrow"/>
                </a:rPr>
                <a:t>جودة الأداء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 rot="2868000">
              <a:off x="5485680" y="316080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ccff33"/>
                  </a:solidFill>
                  <a:latin typeface="Arial Narrow"/>
                </a:rPr>
                <a:t>جودة التصميم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1B21-C52F-47C8-9C8D-0C72865F9BC0}" type="slidenum">
              <a:rPr b="0" lang="ar-SA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189"/>
                </a:solidFill>
                <a:latin typeface="Arial"/>
              </a:rPr>
              <a:t>ما هي نقاط التدخل لضبط جودة المنتج ؟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92360" y="1916280"/>
            <a:ext cx="5113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المواصفات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pecifications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: و هذا بتحديد الخواص المهمة لجودة المنتج و الملبية لرغبات المستهلك, أما الباقي فأولويته ثانوية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التصميم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esign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 : وهذا بتصميم المنتج حسب المواصفات , كل إضافات (تحسينات) قد تكون مضيعة للوقت و المال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مرحلة التصنيع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roduction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 : قم بتصنيع المنتج حسب التصاميم و المواصفات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التفتيش عن الجودة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spection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 للتأكد من مطابقة المنتج مع المواصفات و تصحيح المشاكل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مراجعة المواصفات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view of Specifications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: و هذا قصد مواكبة التطور في رغبات المستهلك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556000" y="119700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Narrow"/>
              </a:rPr>
              <a:t>في كامل المراحل الإنتاجية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2565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611280" y="2637000"/>
            <a:ext cx="2879640" cy="2777400"/>
            <a:chOff x="611280" y="2637000"/>
            <a:chExt cx="2879640" cy="2777400"/>
          </a:xfrm>
        </p:grpSpPr>
        <p:sp>
          <p:nvSpPr>
            <p:cNvPr id="150" name="Oval 7"/>
            <p:cNvSpPr/>
            <p:nvPr/>
          </p:nvSpPr>
          <p:spPr>
            <a:xfrm>
              <a:off x="648360" y="4173120"/>
              <a:ext cx="996840" cy="11289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2420640" y="4127400"/>
              <a:ext cx="996120" cy="117468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2" name="Oval 9"/>
            <p:cNvSpPr/>
            <p:nvPr/>
          </p:nvSpPr>
          <p:spPr>
            <a:xfrm>
              <a:off x="1460160" y="2637000"/>
              <a:ext cx="996840" cy="11289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Text Box 10"/>
            <p:cNvSpPr/>
            <p:nvPr/>
          </p:nvSpPr>
          <p:spPr>
            <a:xfrm>
              <a:off x="1387800" y="2952360"/>
              <a:ext cx="114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eaeaea"/>
                  </a:solidFill>
                  <a:latin typeface="Arial Narrow"/>
                </a:rPr>
                <a:t>رغبات المستهلك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611280" y="4533840"/>
              <a:ext cx="114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eaeaea"/>
                  </a:solidFill>
                  <a:latin typeface="Arial Narrow"/>
                </a:rPr>
                <a:t>خصائص الإنتاج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2346480" y="4489920"/>
              <a:ext cx="114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eaeaea"/>
                  </a:solidFill>
                  <a:latin typeface="Arial Narrow"/>
                </a:rPr>
                <a:t>خصائص التصميم</a:t>
              </a:r>
              <a:endParaRPr b="0" lang="en-US" sz="16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 flipV="1">
              <a:off x="1238760" y="3630240"/>
              <a:ext cx="369360" cy="5425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2346480" y="3630600"/>
              <a:ext cx="406080" cy="496440"/>
            </a:xfrm>
            <a:prstGeom prst="line">
              <a:avLst/>
            </a:prstGeom>
            <a:ln w="76320">
              <a:solidFill>
                <a:srgbClr val="cc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8" name="Line 15"/>
            <p:cNvSpPr/>
            <p:nvPr/>
          </p:nvSpPr>
          <p:spPr>
            <a:xfrm>
              <a:off x="1644840" y="4805280"/>
              <a:ext cx="7754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1608120" y="4894200"/>
              <a:ext cx="8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ff0000"/>
                  </a:solidFill>
                  <a:latin typeface="Arial Narrow"/>
                </a:rPr>
                <a:t>جودة التصنيع</a:t>
              </a:r>
              <a:endParaRPr b="0" lang="en-US" sz="1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 rot="18554400">
              <a:off x="789120" y="3501720"/>
              <a:ext cx="90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ffff99"/>
                  </a:solidFill>
                  <a:latin typeface="Arial Narrow"/>
                </a:rPr>
                <a:t>جودة الأداء</a:t>
              </a:r>
              <a:endParaRPr b="0" lang="en-US" sz="1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 rot="2868000">
              <a:off x="2292120" y="3405240"/>
              <a:ext cx="90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cff33"/>
                  </a:solidFill>
                  <a:latin typeface="Arial Narrow"/>
                </a:rPr>
                <a:t>جودة التصميم</a:t>
              </a:r>
              <a:endParaRPr b="0" lang="en-US" sz="1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62" name="Freeform 19"/>
          <p:cNvSpPr/>
          <p:nvPr/>
        </p:nvSpPr>
        <p:spPr>
          <a:xfrm>
            <a:off x="2556000" y="2492280"/>
            <a:ext cx="1511280" cy="576360"/>
          </a:xfrm>
          <a:custGeom>
            <a:avLst/>
            <a:gdLst/>
            <a:ahLst/>
            <a:rect l="l" t="t" r="r" b="b"/>
            <a:pathLst>
              <a:path w="680" h="363">
                <a:moveTo>
                  <a:pt x="0" y="363"/>
                </a:moveTo>
                <a:cubicBezTo>
                  <a:pt x="34" y="279"/>
                  <a:pt x="68" y="196"/>
                  <a:pt x="181" y="136"/>
                </a:cubicBezTo>
                <a:cubicBezTo>
                  <a:pt x="294" y="76"/>
                  <a:pt x="487" y="38"/>
                  <a:pt x="68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Freeform 20"/>
          <p:cNvSpPr/>
          <p:nvPr/>
        </p:nvSpPr>
        <p:spPr>
          <a:xfrm>
            <a:off x="2987640" y="3141720"/>
            <a:ext cx="1079640" cy="718920"/>
          </a:xfrm>
          <a:custGeom>
            <a:avLst/>
            <a:gdLst/>
            <a:ahLst/>
            <a:rect l="l" t="t" r="r" b="b"/>
            <a:pathLst>
              <a:path w="680" h="363">
                <a:moveTo>
                  <a:pt x="0" y="363"/>
                </a:moveTo>
                <a:cubicBezTo>
                  <a:pt x="34" y="279"/>
                  <a:pt x="68" y="196"/>
                  <a:pt x="181" y="136"/>
                </a:cubicBezTo>
                <a:cubicBezTo>
                  <a:pt x="294" y="76"/>
                  <a:pt x="487" y="38"/>
                  <a:pt x="68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Freeform 21"/>
          <p:cNvSpPr/>
          <p:nvPr/>
        </p:nvSpPr>
        <p:spPr>
          <a:xfrm>
            <a:off x="2124000" y="5013360"/>
            <a:ext cx="1943280" cy="612720"/>
          </a:xfrm>
          <a:custGeom>
            <a:avLst/>
            <a:gdLst/>
            <a:ahLst/>
            <a:rect l="l" t="t" r="r" b="b"/>
            <a:pathLst>
              <a:path w="1497" h="522">
                <a:moveTo>
                  <a:pt x="1497" y="0"/>
                </a:moveTo>
                <a:cubicBezTo>
                  <a:pt x="1417" y="68"/>
                  <a:pt x="1338" y="136"/>
                  <a:pt x="1224" y="181"/>
                </a:cubicBezTo>
                <a:cubicBezTo>
                  <a:pt x="1110" y="226"/>
                  <a:pt x="937" y="219"/>
                  <a:pt x="816" y="272"/>
                </a:cubicBezTo>
                <a:cubicBezTo>
                  <a:pt x="695" y="325"/>
                  <a:pt x="635" y="476"/>
                  <a:pt x="499" y="499"/>
                </a:cubicBezTo>
                <a:cubicBezTo>
                  <a:pt x="363" y="522"/>
                  <a:pt x="181" y="465"/>
                  <a:pt x="0" y="40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Freeform 22"/>
          <p:cNvSpPr/>
          <p:nvPr/>
        </p:nvSpPr>
        <p:spPr>
          <a:xfrm>
            <a:off x="263520" y="3500280"/>
            <a:ext cx="3732120" cy="2953080"/>
          </a:xfrm>
          <a:custGeom>
            <a:avLst/>
            <a:gdLst/>
            <a:ahLst/>
            <a:rect l="l" t="t" r="r" b="b"/>
            <a:pathLst>
              <a:path w="2933" h="1626">
                <a:moveTo>
                  <a:pt x="2895" y="1316"/>
                </a:moveTo>
                <a:cubicBezTo>
                  <a:pt x="2914" y="1361"/>
                  <a:pt x="2933" y="1407"/>
                  <a:pt x="2805" y="1452"/>
                </a:cubicBezTo>
                <a:cubicBezTo>
                  <a:pt x="2677" y="1497"/>
                  <a:pt x="2389" y="1565"/>
                  <a:pt x="2124" y="1588"/>
                </a:cubicBezTo>
                <a:cubicBezTo>
                  <a:pt x="1859" y="1611"/>
                  <a:pt x="1519" y="1626"/>
                  <a:pt x="1217" y="1588"/>
                </a:cubicBezTo>
                <a:cubicBezTo>
                  <a:pt x="915" y="1550"/>
                  <a:pt x="506" y="1542"/>
                  <a:pt x="310" y="1361"/>
                </a:cubicBezTo>
                <a:cubicBezTo>
                  <a:pt x="114" y="1180"/>
                  <a:pt x="0" y="726"/>
                  <a:pt x="38" y="499"/>
                </a:cubicBezTo>
                <a:cubicBezTo>
                  <a:pt x="76" y="272"/>
                  <a:pt x="306" y="136"/>
                  <a:pt x="537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66" name="Object 23"/>
          <p:cNvGraphicFramePr/>
          <p:nvPr/>
        </p:nvGraphicFramePr>
        <p:xfrm>
          <a:off x="250920" y="404640"/>
          <a:ext cx="12240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1224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5:48:43Z</dcterms:created>
  <dc:creator>Srinivasan</dc:creator>
  <dc:description/>
  <dc:language>en-US</dc:language>
  <cp:lastModifiedBy>Faisal</cp:lastModifiedBy>
  <dcterms:modified xsi:type="dcterms:W3CDTF">2019-03-16T16:05:52Z</dcterms:modified>
  <cp:revision>94</cp:revision>
  <dc:subject/>
  <dc:title>Elements of  Computational Metrology</dc:title>
</cp:coreProperties>
</file>