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C52-5E2D-4F1B-8B45-BD4DC3AA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E1D-A535-4AB1-9172-30EE77FE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785-2E7B-4EA7-8339-A43CA6E9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6E9A-0F75-4824-A6B3-CD7C3112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AC2F-BD96-457E-B2E1-9A77C0C3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6C2A-578D-4F99-921F-2918EB08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49A6-CA23-42B0-ADF0-D5069154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BE57-3B6B-48DF-A6CA-5ABC671D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FB8B-6EA2-40A6-8066-97B15B51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1C06-0054-4464-9404-9480F4BB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2229-C7F2-49AC-8B4C-A1A7FBA0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50A-9C06-45D9-A0E0-83CAB1DB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7AEB-BA2E-4972-AFF7-7EFB3C7E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96FE-60CA-4909-915D-801068C2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7BBF-1461-470A-BDDA-EAC65981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5916-1EF5-4A7F-BA78-6CB360F9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7B49-1154-4953-B3AC-AFFF7DA6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0E9-EA95-4DD2-8A4F-127E2CA6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26C-A133-47B3-BD52-24327393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6C8-429B-464D-B60E-831FF8AA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BFA-5EDD-4868-8806-D6E60EF3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014-EA30-46A9-95FB-61D7475D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A9D1-F258-4E7C-88B3-18268B7A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90F-026B-49AF-B37B-04A2D1B6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FEC892A1-915D-460D-A078-D9998D823C7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05551152-0C5C-41C5-9587-F26575318A3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Calibri"/>
              </a:rPr>
              <a:t>Lecture Si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Basic Experimental Desig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ompletely Randomized Design (CRD) </a:t>
            </a:r>
            <a:br>
              <a:rPr sz="4400"/>
            </a:b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One - Way Classific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Mathematical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Estimation of Variance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619640" y="2349000"/>
            <a:ext cx="6242040" cy="86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3073680" y="4114080"/>
            <a:ext cx="1379160" cy="57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2548800" y="4653000"/>
            <a:ext cx="2428560" cy="57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4"/>
          <a:stretch/>
        </p:blipFill>
        <p:spPr>
          <a:xfrm>
            <a:off x="2738160" y="5437080"/>
            <a:ext cx="2050200" cy="75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ompletely Randomized Blocks Design (CRBD)</a:t>
            </a:r>
            <a:br>
              <a:rPr sz="3200"/>
            </a:b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Two - Way Classificatio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Mathematical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34760" y="3951360"/>
            <a:ext cx="3116520" cy="55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459320" y="4117320"/>
            <a:ext cx="27043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Latin Square Design (LSD)</a:t>
            </a:r>
            <a:br>
              <a:rPr sz="4400"/>
            </a:b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Three - Way 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Mathematical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j(k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j(k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;           i, j, k, = 1,2,…..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  <Words>59</Words>
  <Paragraphs>20</Paragraphs>
  <Company>Microsoft (C)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9T16:40:05Z</dcterms:created>
  <dc:creator>DR.Ahmed Saker</dc:creator>
  <dc:description/>
  <dc:language>en-US</dc:language>
  <cp:lastModifiedBy>DR.Ahmed Saker</cp:lastModifiedBy>
  <dcterms:modified xsi:type="dcterms:W3CDTF">2019-03-29T16:49:09Z</dcterms:modified>
  <cp:revision>2</cp:revision>
  <dc:subject/>
  <dc:title>Lecture Si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