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BEF-1198-4993-8E36-33F41EDB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383-6D88-45B3-8F15-CCCF65D8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8BD-68F3-4466-97D4-084FB195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D80-94AF-47FB-B37E-618990AF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491-C145-4FDD-B4B5-8FBA6720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2F7-369A-49CC-B5FD-114D56AB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915-888A-40FF-ABE5-755AFCBC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52C-342E-4694-A829-DDA4F82C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E72-2FDB-4484-88BB-85973A87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0B9-BF7E-479E-A135-749F14C9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A0D-A6F6-475D-BA6A-F03A3AB9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351-4E17-4839-A501-FB56E4B9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9791F19-DF63-428B-8FD7-DBBFF5ADBB7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IQ" sz="4400" spc="-1" strike="noStrike">
                <a:solidFill>
                  <a:srgbClr val="7030a0"/>
                </a:solidFill>
                <a:latin typeface="Calibri"/>
              </a:rPr>
              <a:t>الاحصاء الرياضي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Mathematical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ar-IQ" sz="3200" spc="-1" strike="noStrike">
                <a:solidFill>
                  <a:srgbClr val="ff0000"/>
                </a:solidFill>
                <a:latin typeface="Calibri"/>
              </a:rPr>
              <a:t>الاستاذ المساع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ar-IQ" sz="3200" spc="-1" strike="noStrike">
                <a:solidFill>
                  <a:srgbClr val="ff0000"/>
                </a:solidFill>
                <a:latin typeface="Calibri"/>
              </a:rPr>
              <a:t>د.عمر عبدالمحسن ع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ar-IQ" sz="3200" spc="-1" strike="noStrike">
                <a:solidFill>
                  <a:srgbClr val="ff0000"/>
                </a:solidFill>
                <a:latin typeface="Calibri"/>
              </a:rPr>
              <a:t>قسم الاحص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9</Words>
  <Paragraphs>4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22:06:35Z</dcterms:created>
  <dc:creator>DR.Ahmed Saker</dc:creator>
  <dc:description/>
  <dc:language>en-US</dc:language>
  <cp:lastModifiedBy>DR.Ahmed Saker</cp:lastModifiedBy>
  <dcterms:modified xsi:type="dcterms:W3CDTF">2019-03-25T22:08:00Z</dcterms:modified>
  <cp:revision>1</cp:revision>
  <dc:subject/>
  <dc:title>الاحصاء الرياضي Mathematical Stat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