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0E4-7544-482A-9F01-CE495C6B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427-B02B-49D1-98FF-2E17B1BA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7BF-840B-4FC0-ACDD-19DBFBDC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BCD-7AC4-4D58-90D9-94A6351B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79D6-3D69-4E9E-AC8B-52A5A55B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5AF1-6B13-4E80-B66F-57290643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1006-47A5-46B9-80F8-835696AF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CA74-4008-4AE1-9269-31DC907E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C110-C95E-482C-B7F6-F7C8EE52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E451-04F8-4F9E-9F0A-211CC5E2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193-ABD5-45BD-A306-D062BB5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D3B-4815-4DA6-8DD3-D5D80DC7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50EF-7A29-470B-B622-EEE8E613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A056-3A41-410D-9984-040DA57C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BA9F-7CF9-4B7B-8051-8ED88FA1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2BEE-CEAB-4DAC-BF7E-D0A1A61F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0FCC-DCEA-42AA-A02C-D18DF061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FC1-A7C8-4FCF-8C05-CEDDEB69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93D-71BF-46AB-A788-6A246F6B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B83-5771-4ED3-92BE-0A486398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227-EB47-4CE2-B159-2F52F723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4ED-AD51-4CA8-8843-CBBAE32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579-D90D-4445-8C3A-9328630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F57-6761-45A3-B8FD-0BC07A9B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E4BAF6-6205-4BD1-ADA7-37E26F2EC4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قر لتحرير أنماط النص الرئي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E227D7-9A1E-480F-BEE0-78EA882A8FC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لتفرقة بين المصاريف الايرادية والرأسما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لتفرقة بين المصاريف الايرادية والرأسما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247680" indent="-247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العادة تحصل الوحدة الاقتصادية علي الموجودات الثابتة اما عن طريق الشراء اوالاستبدال او هديا اوتبرعات من الغير.نورد تفصيلها في حين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7680" indent="-247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7680" indent="-247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كلفة الموجود الثاب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7680" indent="-247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تضمن تكلفة الموجود الثابت سعر الشراء الوارد في الفاتورة مضافا إليه كل المصاريف والنفقات لجعل الموجود في وضع التشغي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7680" indent="-247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ثل مصاريف النقل والتركيب والرسوم الجمركية في حالة الاستيراد .ويطرح من هذه القيمة أي خصومات ممنوحة من البائع مثل الخصم التجاري والنقد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7680" indent="-247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ثل سقوط الالة اثناء التركيب وتكبد الشركة مبلغ علي سبيل الاصلاح يدخل ضمن مصاريف صيانة واصلاح ويحمل نهاية العام علي حساب الدخ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7680" indent="-247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ذلك تامين علي الالة ضد الحريق أيضا يحمل علي حساب الدخل . فهو مصروف دوري لايؤثر علي قيمة الموجو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فرقة بين المصروف الايرادي والمصروف الرأسمال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صروف الراسم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 تلك المصاريف التي يكون الهدف منها اقتناء الموجود الثابت وزيادة طاقتها ومقدرتها الانتاجية وعمرها الانتاجي . ويتم تحميلها علي حساب الموجود نفس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ثل النقل والتركيب وتغير محرك للسيارة او عمل عمرة للآل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صروف الايرا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 تلك المصاريف التي يكون الهدف منها ضمان المحافظة علي الموجودات الثابتة صالحة للاستخدام . كمصروفات الصيانة الدورية والتامين ومصروفات التشغيل كالوقود والقوي المحركة كالكهرباء والبنزين والزيو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عايير التفرقة بين المصروف الايرادي والمصروف الراسم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اذا كان الغرض من المصروف اقتناء الموجود وتجهيزه للعمل كالنقل والتركيب فهو مصروف راسمالي . بينما اذا كان الغرض من المصروف ادارة المنشاة وتسيير اعمالها كالايجار والكهرباء فهي مصروف ايرا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92680" indent="-292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اذا كان الغرض من المصروف تحسين الموجود اوزيادة القوة الانتاجية او زيادة عمرة الانتاجي فهو مصروف راسمالي . بينما اذا كان الغرض من المصروف المحافظة علي القوة الانتاجية للموجود مثل الصيانة الدورية فهو مصروف ايرا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2680" indent="-292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اذا كان المصروف كبير نسبيا فهو راسمالي واذا كان صغير نسبيا فهو ايرا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2680" indent="-2926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يمكن ارجاع معيار النسبية هنا الي قيمة المصروف بالنسبة لقيمة الموجود نفسة او قيمة المصروف بالنسبة لحجم النشاط اوبالنسبة لراسمال المشرو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ذا كان المصروف دوري ومتكرر بشكل منتظم فهو ايرادي بينما اذا كان غير متكرر فهو راسم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خيرا اذا كانت الاستفادة منه أي المصروف قاصرة علي فترةمحاسبية واحدة فهو ايرادي اما اذا كانت الاستفادة من المصروف تمتد لاكثر من فترة محاسبية فهو راسمال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261</Words>
  <Paragraphs>22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1T19:52:07Z</dcterms:created>
  <dc:creator>user</dc:creator>
  <dc:description/>
  <dc:language>en-US</dc:language>
  <cp:lastModifiedBy>user</cp:lastModifiedBy>
  <dcterms:modified xsi:type="dcterms:W3CDTF">2019-05-01T20:42:18Z</dcterms:modified>
  <cp:revision>8</cp:revision>
  <dc:subject/>
  <dc:title>طرق الحصول على الموجودات الثابت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7</vt:r8>
  </property>
</Properties>
</file>