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3BD3A4-73F4-4EEA-BB5A-0D234AB83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370E7-A569-41B4-9DAC-D51D35CDE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0DE9D9-B861-4A73-8227-61E711012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403CF-62C2-4129-8C88-2559C81BA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DA7-38A8-434E-9FF7-7773A232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434-2C66-4C1E-AA1B-814E6B6E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0DC-9EC8-4FE5-AAAC-93F3BB7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023-3A04-4A42-83A7-1A4B7BCD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3896E-14AC-4477-86D6-0F04CA89A7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6B407-508D-442D-A649-19438DC75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A21AA-CD67-42E9-AEDF-6DBEBB7A6C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BE368-12BC-4B62-867E-A934AA6835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098C7-6906-4DF5-82A9-1BB8BAD072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4FB7-3748-46B6-B69D-A7135D9F9B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38E43-E897-48DE-8708-74689E531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698-DA41-4309-8CFA-1FB57451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B4474-EC71-4857-951B-3678170F7D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6B4A0-7E7B-4751-95F1-D18676398E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65162-696D-4C1F-AF67-126E53CEF5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50CAE-D425-4E78-9B86-AB1881314C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DD2A6-35E0-4FAB-85EA-AD9A28BAAC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B8B62-F2DB-4923-AF6B-1B6281EEBC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4DAA-0BC0-4AC5-A42E-80873AE6D3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6D939-27B8-4104-9FEA-BDDCEC2A39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6D3BD-C0ED-41C7-B96A-903D67F4FB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73AD4-6BD6-47CC-94E2-095F2B76F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E5A-8CFD-466F-98C8-F4160B3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9996-DBFB-4BA6-AA7C-858426041B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64D62-2A14-4B7E-9F11-D110D08B1B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8B18A-E7FA-4B2B-AFEC-16B4ED3B8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9C152-1E75-4780-90B2-A34B300368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EB871-DAA3-4668-8669-40D42183A4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C3B91-B89E-40AE-BFCB-6C39DADDB6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8795-6492-452E-AE3E-55E2B8DD29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44EB-83EA-473E-ACAE-1BA96B19EE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147-7FDC-48BA-809E-CB5796530A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E5B-D89C-45CE-B00B-90CEF3A66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681-CB9D-406B-99FA-65876A5C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D7FC-2482-4ED1-AE3C-367308D76A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E881-0BAD-4EDF-9937-696603FFD4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2A6D-18A3-42C5-B77E-BA56D3B5E1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8961-6575-4045-9964-63D5CB66ED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A35-49FD-4187-8928-DBA2C7C167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973D-6E1E-4633-90D3-0927149F35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B530-D9AC-4664-B38B-E671C76259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9714-FBA9-4621-B32F-EC8ADDFBAF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B5C2-482C-4036-B40F-CF8D1461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95F-C49E-4A27-B925-71EA3BCC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4E0-4D52-4F34-9E16-23E33A0C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2B2-C2A7-4A95-8EBA-AD95F20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F1D-5F74-43AF-803E-EE01C2C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EAA-894F-4AB7-9246-88555A2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44BF6D-DAD1-420E-9B32-A5132B7D5A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CB420C-0054-4AEA-A739-4B9BAD0D7D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5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95E9A3-A95A-4D4A-AC44-14144D5891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6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BFE55F-8051-415F-9A10-6E7F88EB5D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640" y="476640"/>
            <a:ext cx="7848360" cy="331200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87000"/>
          </a:bodyPr>
          <a:p>
            <a:pPr indent="0" algn="ctr" rtl="1">
              <a:lnSpc>
                <a:spcPct val="115000"/>
              </a:lnSpc>
              <a:buNone/>
            </a:pP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محاضرات مادة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</a:t>
            </a: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محاسبة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متوسطة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لطلبة المرحلة الثا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ني</a:t>
            </a: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ة 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قسم المحاسبة 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الفصل ال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ثاني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 :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كشوفات المالية (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1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03640" y="4293000"/>
            <a:ext cx="6400440" cy="16560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17375e"/>
                </a:solidFill>
                <a:latin typeface="Calibri"/>
              </a:rPr>
              <a:t>م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د. بشرى </a:t>
            </a:r>
            <a:r>
              <a:rPr b="1" lang="ar-SA" sz="2800" spc="-1" strike="noStrike">
                <a:solidFill>
                  <a:srgbClr val="17375e"/>
                </a:solidFill>
                <a:latin typeface="Calibri"/>
              </a:rPr>
              <a:t>فاضل خضير الط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17375e"/>
                </a:solidFill>
                <a:latin typeface="Calibri"/>
              </a:rPr>
              <a:t>جامعة بغداد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17375e"/>
                </a:solidFill>
                <a:latin typeface="Calibri"/>
              </a:rPr>
              <a:t>كلية الإدارة والاقتصاد – قسم المحاس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640" y="228600"/>
            <a:ext cx="4392000" cy="111168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شف الدخ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1640" y="1423800"/>
            <a:ext cx="8280720" cy="4937040"/>
          </a:xfrm>
          <a:prstGeom prst="rect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بارة عن كشف أو تقرير أو بيان يهدف إلى التعرف على إيرادات ومصروفات الشركة خلال فترة زمنية معينة، وذلك بهدف التوصل إلى نتيجة أعمال المنشأة من ربح أو خس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ويستند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كشف الدخل على مقابلة إيرادات الشركة بالمصروفات والأعباء التي ساهمت في تحقيق تلك الإيرادات. وتكون نتيجة هذه المقابلة هو ما تحققه الشركة من صافي ربح أو خس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022640" y="83880"/>
            <a:ext cx="109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0" y="401040"/>
            <a:ext cx="184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1"/>
          <p:cNvSpPr/>
          <p:nvPr/>
        </p:nvSpPr>
        <p:spPr>
          <a:xfrm>
            <a:off x="1979640" y="1443960"/>
            <a:ext cx="428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10"/>
          </p:nvPr>
        </p:nvSpPr>
        <p:spPr>
          <a:xfrm>
            <a:off x="4592520" y="637704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4AB019-9A57-415D-BCA3-E889188C8C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51440" y="907920"/>
            <a:ext cx="8374320" cy="5162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1f497d"/>
            </a:solidFill>
            <a:miter/>
          </a:ln>
          <a:effectLst>
            <a:outerShdw algn="ctr" rotWithShape="0" sx="999" sy="999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  <a:spcBef>
                <a:spcPts val="1400"/>
              </a:spcBef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عادلات المستخدمة لإعداد كشف الدخ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451440" y="1641600"/>
            <a:ext cx="83743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افي المبيعات = المبيعات 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}  مردودات المبيعات +مسموحات المبيعات +الخصم المسموح به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صافي المشتريات = } المشتريات + مصروفات المشتريات {-} مردودات المشتريات + مسموحات المشتريات + الخصم المكتسب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كلفة البضاعة المعدة للبيع = بضاعة أول المدة + صافي المشتر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كلفة البضاعة المباعة = كلفة البضاعة المعدة للبيع – بضاعة آخر الم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مجمل الربح = صافي المبيعات – كلفة البضاعة المبا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المصاريف التشغيلية= المصاريف التسويقية+ المصاريف الا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صافي الربح التشغيلي = مجمل الربح – المصاريف التشغي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صافي الربح قبل الضريبة= صافي الربح التشغيلي + ايرادات اخرى – مصاريف ا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مبلغ الضريبة= صافي الربح قبل الضريبة × نسبة الضري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صافي الربح بعد الضريبة= صافي الربح قبل الضريبة – مبلغ الضري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11"/>
          </p:nvPr>
        </p:nvSpPr>
        <p:spPr>
          <a:xfrm>
            <a:off x="4592520" y="637704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02CF071-1C48-4A5D-995D-9012F21844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1440" y="907920"/>
            <a:ext cx="8374320" cy="5162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1f497d"/>
            </a:solidFill>
            <a:miter/>
          </a:ln>
          <a:effectLst>
            <a:outerShdw algn="ctr" rotWithShape="0" sx="999" sy="999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كشف الدخل في الشركات التج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50520" y="1773360"/>
            <a:ext cx="777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80000"/>
              </a:lnSpc>
            </a:pPr>
            <a:endParaRPr b="1" lang="en-US" sz="2000" spc="-1" strike="noStrike" u="sng">
              <a:solidFill>
                <a:srgbClr val="ff3300"/>
              </a:solidFill>
              <a:uFillTx/>
              <a:latin typeface="Calibri"/>
            </a:endParaRPr>
          </a:p>
        </p:txBody>
      </p:sp>
      <p:graphicFrame>
        <p:nvGraphicFramePr>
          <p:cNvPr id="189" name="Table 5"/>
          <p:cNvGraphicFramePr/>
          <p:nvPr/>
        </p:nvGraphicFramePr>
        <p:xfrm>
          <a:off x="2767320" y="1707840"/>
          <a:ext cx="3543120" cy="5701680"/>
        </p:xfrm>
        <a:graphic>
          <a:graphicData uri="http://schemas.openxmlformats.org/drawingml/2006/table">
            <a:tbl>
              <a:tblPr/>
              <a:tblGrid>
                <a:gridCol w="1582920"/>
                <a:gridCol w="681480"/>
                <a:gridCol w="567000"/>
                <a:gridCol w="711360"/>
              </a:tblGrid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اصي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بال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بال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بال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بيع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ردودات المبيع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الخصم المسموح ب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سموحات المبيع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صافي المبيع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كلفة البضاعة المعدة للبي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بضاعة أول المد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المشتري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مصروفات المشتري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ردودات المشتري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سموحات المشتري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الخصم المكتس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صافي المشتريا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تكلفة البضاعة المتاحة للبي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بضاعة آخر المد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تكلفة البضاعة المباع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جمل الربح (الخسارة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صروفات تشغيلية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جموع المصروفات التسويقي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جموع المصروفات الاداري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جموع المصروفات التشغيلي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صافي الربح التشغيلي (الخسارة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إيرادات اخر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صروفات اخر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صافي الربح قبل الضريب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مبلغ الضريب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×××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51840" rIns="5184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صافي الربح(الخسارة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×××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AutoShape 6"/>
          <p:cNvSpPr/>
          <p:nvPr/>
        </p:nvSpPr>
        <p:spPr>
          <a:xfrm>
            <a:off x="3027240" y="1668600"/>
            <a:ext cx="360000" cy="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2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14593C-1B11-4532-B535-3FF0BDECE8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251640" y="2277000"/>
            <a:ext cx="82144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800" spc="-1" strike="noStrike">
                <a:solidFill>
                  <a:srgbClr val="c00000"/>
                </a:solidFill>
                <a:latin typeface="Calibri"/>
                <a:cs typeface="Arial"/>
              </a:rPr>
              <a:t>مع تمنياتي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SA" sz="4800" spc="-1" strike="noStrike">
                <a:solidFill>
                  <a:srgbClr val="c00000"/>
                </a:solidFill>
                <a:latin typeface="Calibri"/>
                <a:cs typeface="Arial"/>
              </a:rPr>
              <a:t>للجميع بالنجاح و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othecary</Template>
  <TotalTime>855</TotalTime>
  <Application>LibreOffice/7.4.7.2$Linux_X86_64 LibreOffice_project/40$Build-2</Application>
  <AppVersion>15.0000</AppVersion>
  <Words>328</Words>
  <Paragraphs>148</Paragraphs>
  <Company>Enjoy My Fine Releases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4T16:34:00Z</dcterms:created>
  <dc:creator>win7</dc:creator>
  <dc:description/>
  <dc:language>en-US</dc:language>
  <cp:lastModifiedBy>Dr. Bushra</cp:lastModifiedBy>
  <dcterms:modified xsi:type="dcterms:W3CDTF">2019-04-02T18:14:49Z</dcterms:modified>
  <cp:revision>71</cp:revision>
  <dc:subject/>
  <dc:title>تطوير القاعدة المحاسبية العراقية "1" على وفق متطلبات معيار الإبلاغ المالي الدولي  15 IFRS " الإيرادات من العقود من الزبائن" Develop the Iraqi Accounting Rule 1 According to the requirements of International Financial Reporting Standards IFRS 15 "Revenues from Contracts with Customers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