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D00016-4400-4CC4-94C5-B2BC44FC9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E3FB33-BF92-42DB-823A-FA5F3DF1B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CE4-5838-4BE6-ABED-32C985FD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E68-2143-4FBC-BB86-F57094A8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2CD6-DEE3-48EE-A42D-F8CC67EE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9BD-1CFB-4679-95B9-D737EF12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D016-CB3B-419A-BB63-428DF36D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A8C4-7B44-48DE-9523-2E189026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A656-4EF3-4D9A-9F00-C5276F08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A762-ADEA-47E3-B39E-69E969CA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188C-9C11-4AD5-AA14-7E1BF03A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54F9-7732-4190-8C4C-BDB5481D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08C3-77F0-40B2-ACAF-414ADCF3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EC66-01AB-4919-8049-C1B831A5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2FB3-CDEF-4F9B-8E52-10BC453E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BEE1-6BE7-48A8-B5BD-A2B724DA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5CD5-053C-4724-8100-08E0F1B3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7794-025B-486E-91AE-A7AD6A9F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81DC-8D67-429F-9BD3-2C536D7D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E65099-1FF8-4700-B242-0F46F03F79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B617FC-3117-47DD-9FBC-C9F61DD64B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8296A8-9B95-46E5-BF0A-A6C80C1204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EA702F-8DC6-4C89-A081-FF1AC87857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6D53AB-3CB1-4191-907F-5531B93030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27B2-2C9C-4D68-8F6C-28FF4A14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5C9128-8750-4AE1-A37F-C21B0E48D7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B843C4-D027-4110-B967-24B9D1843F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5DB146-AC78-4B49-A03B-1BFD88CCE7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19498B-954C-4CC9-A90D-99B44A7541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D16663-3CE0-4C8F-A5E8-6C525E18EE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4E9DD8-2792-4090-B7B9-F123F8E06D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22C2CE-EA4A-4279-A33C-40C78CF82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4315-7F83-474E-9315-5681FF9B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319-F399-4CF8-9B16-03A06428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292-6056-470F-88E8-BD45D9FD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320-85F3-4ACF-B0CC-27718A79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545-9C80-4DAC-B225-779CA457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058-9146-441C-BEB9-AE37A85D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2518BA-0565-4B01-BCD1-621354986B4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3CE740-59E7-4A97-BF86-620E8597853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8700120" y="281160"/>
            <a:ext cx="281160" cy="555120"/>
          </a:xfrm>
          <a:prstGeom prst="rect">
            <a:avLst/>
          </a:prstGeom>
          <a:solidFill>
            <a:schemeClr val="accent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8700120" y="0"/>
            <a:ext cx="281160" cy="3013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506480" y="6367320"/>
            <a:ext cx="67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Connector 11"/>
          <p:cNvCxnSpPr/>
          <p:nvPr/>
        </p:nvCxnSpPr>
        <p:spPr>
          <a:xfrm>
            <a:off x="383760" y="830160"/>
            <a:ext cx="8581680" cy="64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13e36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13e36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300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13e36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002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74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13e36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7"/>
          </p:nvPr>
        </p:nvSpPr>
        <p:spPr>
          <a:xfrm>
            <a:off x="4592520" y="635652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1325DE2-7A55-4CD9-BAA0-E987D82E83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640" y="476640"/>
            <a:ext cx="7848360" cy="331200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87000"/>
          </a:bodyPr>
          <a:p>
            <a:pPr indent="0" algn="ctr" rtl="1">
              <a:lnSpc>
                <a:spcPct val="115000"/>
              </a:lnSpc>
              <a:buNone/>
            </a:pPr>
            <a:r>
              <a:rPr b="1" lang="ar-IQ" sz="4000" spc="-1" strike="noStrike">
                <a:solidFill>
                  <a:schemeClr val="dk1"/>
                </a:solidFill>
                <a:latin typeface="Calibri"/>
              </a:rPr>
              <a:t>محاضرات مادة </a:t>
            </a:r>
            <a:r>
              <a:rPr b="1" lang="ar-SA" sz="4000" spc="-1" strike="noStrike">
                <a:solidFill>
                  <a:schemeClr val="dk1"/>
                </a:solidFill>
                <a:latin typeface="Calibri"/>
              </a:rPr>
              <a:t>ال</a:t>
            </a:r>
            <a:r>
              <a:rPr b="1" lang="ar-IQ" sz="4000" spc="-1" strike="noStrike">
                <a:solidFill>
                  <a:schemeClr val="dk1"/>
                </a:solidFill>
                <a:latin typeface="Calibri"/>
              </a:rPr>
              <a:t>محاسبة </a:t>
            </a:r>
            <a:r>
              <a:rPr b="1" lang="ar-SA" sz="4000" spc="-1" strike="noStrike">
                <a:solidFill>
                  <a:schemeClr val="dk1"/>
                </a:solidFill>
                <a:latin typeface="Calibri"/>
              </a:rPr>
              <a:t>المتوسطة</a:t>
            </a:r>
            <a:br>
              <a:rPr sz="4000"/>
            </a:br>
            <a:r>
              <a:rPr b="1" lang="ar-IQ" sz="4000" spc="-1" strike="noStrike">
                <a:solidFill>
                  <a:schemeClr val="dk1"/>
                </a:solidFill>
                <a:latin typeface="Calibri"/>
              </a:rPr>
              <a:t>لطلبة المرحلة الثا</a:t>
            </a:r>
            <a:r>
              <a:rPr b="1" lang="ar-SA" sz="4000" spc="-1" strike="noStrike">
                <a:solidFill>
                  <a:schemeClr val="dk1"/>
                </a:solidFill>
                <a:latin typeface="Calibri"/>
              </a:rPr>
              <a:t>ني</a:t>
            </a:r>
            <a:r>
              <a:rPr b="1" lang="ar-IQ" sz="4000" spc="-1" strike="noStrike">
                <a:solidFill>
                  <a:schemeClr val="dk1"/>
                </a:solidFill>
                <a:latin typeface="Calibri"/>
              </a:rPr>
              <a:t>ة </a:t>
            </a:r>
            <a:br>
              <a:rPr sz="4000"/>
            </a:br>
            <a:r>
              <a:rPr b="1" lang="ar-IQ" sz="4000" spc="-1" strike="noStrike">
                <a:solidFill>
                  <a:schemeClr val="dk1"/>
                </a:solidFill>
                <a:latin typeface="Calibri"/>
              </a:rPr>
              <a:t>قسم المحاسبة </a:t>
            </a:r>
            <a:br>
              <a:rPr sz="4000"/>
            </a:br>
            <a:r>
              <a:rPr b="1" lang="ar-IQ" sz="4000" spc="-1" strike="noStrike">
                <a:solidFill>
                  <a:schemeClr val="dk1"/>
                </a:solidFill>
                <a:latin typeface="Calibri"/>
              </a:rPr>
              <a:t>الفصل ال</a:t>
            </a:r>
            <a:r>
              <a:rPr b="1" lang="ar-SA" sz="4000" spc="-1" strike="noStrike">
                <a:solidFill>
                  <a:schemeClr val="dk1"/>
                </a:solidFill>
                <a:latin typeface="Calibri"/>
              </a:rPr>
              <a:t>ثاني</a:t>
            </a:r>
            <a:r>
              <a:rPr b="1" lang="en-US" sz="4000" spc="-1" strike="noStrike">
                <a:solidFill>
                  <a:schemeClr val="dk1"/>
                </a:solidFill>
                <a:latin typeface="Calibri"/>
              </a:rPr>
              <a:t> : </a:t>
            </a:r>
            <a:r>
              <a:rPr b="1" lang="ar-SA" sz="4000" spc="-1" strike="noStrike">
                <a:solidFill>
                  <a:schemeClr val="dk1"/>
                </a:solidFill>
                <a:latin typeface="Calibri"/>
              </a:rPr>
              <a:t>الكشوفات المالية (</a:t>
            </a:r>
            <a:r>
              <a:rPr b="1" lang="en-US" sz="4000" spc="-1" strike="noStrike">
                <a:solidFill>
                  <a:schemeClr val="dk1"/>
                </a:solidFill>
                <a:latin typeface="Calibri"/>
              </a:rPr>
              <a:t>3</a:t>
            </a:r>
            <a:r>
              <a:rPr b="1" lang="en-US" sz="4000" spc="-1" strike="noStrike">
                <a:solidFill>
                  <a:schemeClr val="dk1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03640" y="4293000"/>
            <a:ext cx="6400440" cy="165600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ar-SA" sz="2800" spc="-1" strike="noStrike">
                <a:solidFill>
                  <a:srgbClr val="17375e"/>
                </a:solidFill>
                <a:latin typeface="Calibri"/>
              </a:rPr>
              <a:t>م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.د. بشرى </a:t>
            </a:r>
            <a:r>
              <a:rPr b="1" lang="ar-SA" sz="2800" spc="-1" strike="noStrike">
                <a:solidFill>
                  <a:srgbClr val="17375e"/>
                </a:solidFill>
                <a:latin typeface="Calibri"/>
              </a:rPr>
              <a:t>فاضل خضير الطائ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ar-IQ" sz="2800" spc="-1" strike="noStrike">
                <a:solidFill>
                  <a:srgbClr val="17375e"/>
                </a:solidFill>
                <a:latin typeface="Calibri"/>
              </a:rPr>
              <a:t>جامعة بغداد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ar-IQ" sz="2800" spc="-1" strike="noStrike">
                <a:solidFill>
                  <a:srgbClr val="17375e"/>
                </a:solidFill>
                <a:latin typeface="Calibri"/>
              </a:rPr>
              <a:t>كلية الإدارة والاقتصاد – قسم المحاس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03400" y="228600"/>
            <a:ext cx="4392000" cy="111168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599"/>
              </a:spcBef>
              <a:buNone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قائمة المركز الما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31640" y="1443960"/>
            <a:ext cx="8280720" cy="4937040"/>
          </a:xfrm>
          <a:prstGeom prst="rect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* هي قائمة تفصح قائمة المركز المالي عن المركز المالي للمنشأة في تاريخ مع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* هي تقرير يوضح المعلومات الخاصة بقيمة استثمارات الشركة الممتثلة في الموجودات ومصادر هذه الاستثمارات الممتثلة في المطلوبات وحقوق الملك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 هي ملخصاً تاريخياً لكل من الموجودات والمطلوبات وكذلك حقوق الملك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 هي تقريرًا تاريخيًا نظرا لأنها تعكس الآثار التراكمية للأحداث والعمليات التي تمت في الماض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4022640" y="83880"/>
            <a:ext cx="1098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0" y="401040"/>
            <a:ext cx="184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1"/>
          <p:cNvSpPr/>
          <p:nvPr/>
        </p:nvSpPr>
        <p:spPr>
          <a:xfrm>
            <a:off x="1979640" y="1443960"/>
            <a:ext cx="42865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7640" y="1268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تساهم قائمة المركز المالي في عملية التقرير المالي من خلال تقديم الأسس الخاصة بكل من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ـ حساب معدلات العائد على الاستثمار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ـ تقييم هيكل رأس المال في المنشأة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ـ تقدير درجة السيولة والمرونة المالية في المنشأة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السيولة 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Liquidity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تعبر عن مقدار الوقت المتوقع مروره قبل أن يتحقق أصل معين أو يتحول إلى نقدية أو قبل أن يسدد التزام معين . فنسب السيولة تقيس مدى قدرة المنشأة على الوفاء بالالتزامات الجارية والمستحقة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المرونة المالية 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nancial Flexibility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تعبر عن قدرة المنشأة على اتخاذ إجراءات فعالة لتعديل مقدار وتوقيت التدفقات النقدية حتى يمكنها الاستجابة للاحتياطيات والفرص غير المتوقعة  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3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دلالة قائمة المركز المالي وأهميتها</a:t>
            </a:r>
            <a:r>
              <a:rPr b="0" lang="en-US" sz="3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640" y="1196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 rtl="1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هناك هدفان في المعلومات المعروضة بالقائمة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 rtl="1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 rtl="1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ـ الوضوح </a:t>
            </a:r>
            <a:r>
              <a:rPr b="0" lang="en-US" sz="2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Clarity</a:t>
            </a:r>
            <a:r>
              <a:rPr b="0" lang="en-US" sz="2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والقابلية للقراءة </a:t>
            </a:r>
            <a:r>
              <a:rPr b="0" lang="en-US" sz="2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Readability</a:t>
            </a:r>
            <a:r>
              <a:rPr b="0" lang="en-US" sz="2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 rtl="1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عني ان المعلومات لابد ان تكون قابلة للفهم ,ومفيدة لمستخدمي القوائم الما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 rtl="1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حيث تكون ملائمة لاتخاذ القرارات وامكانية الاعتماد علي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 rtl="1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 rtl="1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2</a:t>
            </a:r>
            <a:r>
              <a:rPr b="0" lang="ar-SA" sz="2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ـ الإفصاح  </a:t>
            </a:r>
            <a:r>
              <a:rPr b="0" lang="en-US" sz="2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Disclosure</a:t>
            </a:r>
            <a:r>
              <a:rPr b="0" lang="en-US" sz="2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 rtl="1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عني الافصاح عن جميع المعلومات في صلب القوائم المالية أو المرفق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 rtl="1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حيث تكون هذه المعلومات ملائمة لاتخاذ القرارات , سواء كانت معلومات         تاريخية او مستقبل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3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كيفية عرض وتبويب عناصر قائمة المركز المالي</a:t>
            </a:r>
            <a:r>
              <a:rPr b="0" lang="en-US" sz="3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69264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تبويب المجموعات الرئيسية في قائمة المركز المالي</a:t>
            </a:r>
            <a:br>
              <a:rPr sz="3200"/>
            </a:br>
            <a:r>
              <a:rPr b="0" lang="ar-SA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قائمة المركز المالي</a:t>
            </a:r>
            <a:br>
              <a:rPr sz="3200"/>
            </a:br>
            <a:r>
              <a:rPr b="0" lang="ar-SA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في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12/30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/......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مربع نص 4"/>
          <p:cNvSpPr/>
          <p:nvPr/>
        </p:nvSpPr>
        <p:spPr>
          <a:xfrm>
            <a:off x="755640" y="3141000"/>
            <a:ext cx="69123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Group 229"/>
          <p:cNvGraphicFramePr/>
          <p:nvPr/>
        </p:nvGraphicFramePr>
        <p:xfrm>
          <a:off x="179640" y="2467800"/>
          <a:ext cx="8769240" cy="4955760"/>
        </p:xfrm>
        <a:graphic>
          <a:graphicData uri="http://schemas.openxmlformats.org/drawingml/2006/table">
            <a:tbl>
              <a:tblPr/>
              <a:tblGrid>
                <a:gridCol w="649080"/>
                <a:gridCol w="3384360"/>
                <a:gridCol w="647640"/>
                <a:gridCol w="4087800"/>
              </a:tblGrid>
              <a:tr h="44784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وجو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طلوب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وجودات المتداو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طلوبات المتداو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ar-SA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الموجودات غير المتداولة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طلوبات طويلة الأج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استثمارات المال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وجودات الثابت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ar-SA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حقوق الملكية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وجودات غير الملموس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رأس المال المدفو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موجودات الاخر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رأس المالي الإضاف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الأرباح المحتجز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إجمالي الموجو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إجمالي المطلوبات وحقوق الملك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Num" idx="11"/>
          </p:nvPr>
        </p:nvSpPr>
        <p:spPr>
          <a:xfrm>
            <a:off x="4592520" y="6356520"/>
            <a:ext cx="444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08BCA70-6F41-4A3D-9BE9-979156C9C0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251640" y="2277000"/>
            <a:ext cx="82144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ar-SA" sz="4800" spc="-1" strike="noStrike">
                <a:solidFill>
                  <a:srgbClr val="c00000"/>
                </a:solidFill>
                <a:latin typeface="Calibri"/>
                <a:cs typeface="Arial"/>
              </a:rPr>
              <a:t>مع تمنياتي</a:t>
            </a: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ar-SA" sz="4800" spc="-1" strike="noStrike">
                <a:solidFill>
                  <a:srgbClr val="c00000"/>
                </a:solidFill>
                <a:latin typeface="Calibri"/>
                <a:cs typeface="Arial"/>
              </a:rPr>
              <a:t>للجميع بالنجاح والتوفي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othecary</Template>
  <TotalTime>872</TotalTime>
  <Application>LibreOffice/7.4.7.2$Linux_X86_64 LibreOffice_project/40$Build-2</Application>
  <AppVersion>15.0000</AppVersion>
  <Words>338</Words>
  <Paragraphs>67</Paragraphs>
  <Company>Enjoy My Fine Releases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4T16:34:00Z</dcterms:created>
  <dc:creator>win7</dc:creator>
  <dc:description/>
  <dc:language>en-US</dc:language>
  <cp:lastModifiedBy>Dr. Bushra</cp:lastModifiedBy>
  <dcterms:modified xsi:type="dcterms:W3CDTF">2019-04-02T18:14:08Z</dcterms:modified>
  <cp:revision>72</cp:revision>
  <dc:subject/>
  <dc:title>تطوير القاعدة المحاسبية العراقية "1" على وفق متطلبات معيار الإبلاغ المالي الدولي  15 IFRS " الإيرادات من العقود من الزبائن" Develop the Iraqi Accounting Rule 1 According to the requirements of International Financial Reporting Standards IFRS 15 "Revenues from Contracts with Customers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6</vt:r8>
  </property>
</Properties>
</file>