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A42-37D0-4D45-B48D-399E831D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0372-4D75-4F15-8AF6-C00C5DEE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D0A-F56D-4616-9E8C-A686844D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53C-0BEA-4CD4-8443-816D50D1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862B-74F0-4D58-89E0-28550E7B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1A61-8701-4EFC-8047-95A75E95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5617-2DE3-4EBF-9E87-B9A9AD53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3B02-14B7-45D2-8F2A-ED5B58FA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29AD-5D1A-468D-9DF2-C10A7995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45CE-726C-49D6-AD3E-D167B6E5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1A1D-FBF4-44D9-BFCE-C6753B7E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604-55CC-4779-AE5F-0DB409ED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8A40-B9FD-499D-9D6C-801D82F7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5601-38D8-40AC-B96E-AD5CE49B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7134-36A9-4392-8135-367E1F04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1016-BE10-42FE-8C3E-4AFC19F9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7ACA-38CA-4AAC-83CC-BF8A88FB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8C3-6851-446C-831D-AEB16662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64A-4CB9-4608-B436-801A7978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5AB-906E-49AE-B517-9F5B2E2D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43C-E9A2-4DDE-8D77-C3E8AA4B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4B5-EE7A-4F7E-8B1E-5CCA0E4D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65AE-EB0F-4876-9B3C-7C4FF3CE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3EC-3EAC-48DB-881B-6CB29103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8EFC7D-0F1D-48C5-88C7-10BAC04ECE0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نقر لتحرير أنماط النص الرئيس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891DFC-510B-4510-9B70-9347C820CB3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IQ" sz="4400" spc="-1" strike="noStrike">
                <a:solidFill>
                  <a:srgbClr val="000000"/>
                </a:solidFill>
                <a:latin typeface="Calibri"/>
              </a:rPr>
              <a:t>التخلص من الموجودات الثابت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ar-IQ" sz="3200" spc="-1" strike="noStrike">
                <a:solidFill>
                  <a:srgbClr val="8b8b8b"/>
                </a:solidFill>
                <a:latin typeface="Calibri"/>
              </a:rPr>
              <a:t>اولاً: بيع الموجود الثاب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ar-IQ" sz="3200" spc="-1" strike="noStrike">
                <a:solidFill>
                  <a:srgbClr val="8b8b8b"/>
                </a:solidFill>
                <a:latin typeface="Calibri"/>
              </a:rPr>
              <a:t>عند بيع الموجود الثابت يت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ar-IQ" sz="3200" spc="-1" strike="noStrike">
                <a:solidFill>
                  <a:srgbClr val="8b8b8b"/>
                </a:solidFill>
                <a:latin typeface="Calibri"/>
              </a:rPr>
              <a:t>اولاً: اثبات قيد الاندثار للفترة من بداية السنة لغاية تاريخ البيع ثانياً: الاعتراف بالمكاسب او الخسائر الناتجة عن عملية البيع بعد اجراء الاحتساب الآ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ar-IQ" sz="3200" spc="-1" strike="noStrike">
                <a:solidFill>
                  <a:srgbClr val="8b8b8b"/>
                </a:solidFill>
                <a:latin typeface="Calibri"/>
              </a:rPr>
              <a:t>مكاسب (خسائر) البيع = سعر بيع الموجود – صافي القيمة الدفترية له في تاريخ البي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240" cy="58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مثا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باعت شركة رتاج ماكنة بمبلغ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5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دينار نقدا علما ان كلفة الماكنة تبلغ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5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دينار ومخصص الاندثار المتراكم له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0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دينار ، المطلوب تسجيل قيد البي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الحل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1" lang="ar-IQ" sz="1800" spc="-1" strike="noStrike">
                <a:solidFill>
                  <a:srgbClr val="000000"/>
                </a:solidFill>
                <a:latin typeface="Calibri"/>
              </a:rPr>
              <a:t>مكاسب أو خسائر التخلص = سعر بيع الموجود الثابت – صافي القيمة الدفترية له في تاريخ البي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(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5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ar-IQ" sz="1800" spc="-1" strike="noStrike">
                <a:solidFill>
                  <a:srgbClr val="000000"/>
                </a:solidFill>
                <a:latin typeface="Calibri"/>
              </a:rPr>
              <a:t>قيد البي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ar-IQ" sz="1800" spc="-1" strike="noStrike">
                <a:solidFill>
                  <a:srgbClr val="000000"/>
                </a:solidFill>
                <a:latin typeface="Calibri"/>
              </a:rPr>
              <a:t>من مذكور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ح/ الصندو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ح/ مخصص اندثار متراكم – الماكن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الى مذكور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5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ح/ الماكن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ح/ مكاسب التخلص من الموجود الثاب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ـــــــــــــــــــ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نسق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نسق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  <Words>154</Words>
  <Paragraphs>18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5T18:34:26Z</dcterms:created>
  <dc:creator>user</dc:creator>
  <dc:description/>
  <dc:language>en-US</dc:language>
  <cp:lastModifiedBy>user</cp:lastModifiedBy>
  <dcterms:modified xsi:type="dcterms:W3CDTF">2019-04-25T19:13:43Z</dcterms:modified>
  <cp:revision>4</cp:revision>
  <dc:subject/>
  <dc:title>التخلص من الموجودات الثابت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عرض على الشاشة (3:4)‏</vt:lpwstr>
  </property>
  <property fmtid="{D5CDD505-2E9C-101B-9397-08002B2CF9AE}" pid="3" name="Slides">
    <vt:r8>2</vt:r8>
  </property>
</Properties>
</file>