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A39C-2906-417D-B00B-673C7A84F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3E61-16D0-48A1-B5CF-BCA235CBF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2FFD-5189-4F0D-9077-0F49D913C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AE64-017E-4396-A3CD-EA09F4351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3EAE7-A21C-4BC4-800F-153D68E3C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321D5-45B4-4160-961D-E4AE80211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A5FDA-BF8D-4C5F-9AB0-BA2E91770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2E532-2A9F-49A8-A181-92FF9128E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661C0-578E-40CB-8793-CC314C9F1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B71D1-C342-47A8-A7BF-B88479E4D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36219-67F0-4A7C-8C04-21A99702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9C70-F00F-436D-8DE3-85806B2F9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FB00B-E429-409A-BD05-CB410B10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804DE-0FB7-41F4-85ED-A6FB490D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2DB27-7501-41C3-8CBE-7833322F5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9F79B-8351-4F3C-8F28-336D8FD33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B4E51-8406-4508-932C-F0052674A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D334-C07F-49A7-A221-6845FF1DA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D574-F3CE-4757-9511-FB85D11D1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D0ED-D958-40CC-9E60-003F5BEBB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322E-2D13-41E0-A294-80A70F648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EFE7-F02F-4E20-8A64-ECF053C0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2D89-3002-4135-B984-2F6ECE36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7E32-771E-453F-9EF7-4AA2205A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ec9e5"/>
            </a:gs>
            <a:gs pos="100000">
              <a:srgbClr val="00224d"/>
            </a:gs>
          </a:gsLst>
          <a:path path="circle">
            <a:fillToRect l="50000" t="0" r="50000" b="10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2317E9B8-254A-48D8-BE4F-738500F90A0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864000" indent="-324000" algn="r" rtl="1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296000" indent="-288000" algn="r" rtl="1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728000" indent="-216000" algn="r" rtl="1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4" marL="2160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5" marL="2592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6" marL="3024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ec9e5"/>
            </a:gs>
            <a:gs pos="100000">
              <a:srgbClr val="00224d"/>
            </a:gs>
          </a:gsLst>
          <a:path path="circle">
            <a:fillToRect l="50000" t="0" r="50000" b="10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 algn="r" rtl="1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527BDCE1-3153-4C00-B501-29D41FAF9FA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100000"/>
              </a:lnSpc>
              <a:buNone/>
            </a:pPr>
            <a:r>
              <a:rPr b="0" lang="ar-SA" sz="8000" spc="-1" strike="noStrike">
                <a:solidFill>
                  <a:srgbClr val="ffffff"/>
                </a:solidFill>
                <a:latin typeface="Calibri"/>
              </a:rPr>
              <a:t>تخطيط المشاريع</a:t>
            </a:r>
            <a:endParaRPr b="0" lang="en-US" sz="8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845000"/>
            <a:ext cx="7772040" cy="23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0" lang="ar-SA" sz="4400" spc="-1" strike="noStrike">
                <a:solidFill>
                  <a:srgbClr val="ffffff"/>
                </a:solidFill>
                <a:latin typeface="Calibri"/>
              </a:rPr>
              <a:t>يعرف التخطيط ببساطة هو توقع ما سيحدث او يقع في المستقبل بالاعتماد على عوامل انية متعلقة بالمشروع او البيئة المحيطة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90864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0" lang="ar-SA" sz="4400" spc="-1" strike="noStrike">
                <a:solidFill>
                  <a:srgbClr val="ffffff"/>
                </a:solidFill>
                <a:latin typeface="Calibri"/>
              </a:rPr>
              <a:t>فوائد التخطيط في المشاريع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2493000"/>
            <a:ext cx="6400440" cy="314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alibri"/>
              </a:rPr>
              <a:t>يمكن تلخيص فوائد التخطيط في النقاط التال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alibri"/>
              </a:rPr>
              <a:t>لمعرفة التتابع الزمني للفعاليا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alibri"/>
              </a:rPr>
              <a:t>تحديد زمن الفعاليا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alibri"/>
              </a:rPr>
              <a:t>متابعة التنفي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alibri"/>
              </a:rPr>
              <a:t>تحديد الموارد المطلوب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 rtl="1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 rtl="1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5640" y="47664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100000"/>
              </a:lnSpc>
              <a:buNone/>
            </a:pPr>
            <a:r>
              <a:rPr b="0" lang="ar-SA" sz="5400" spc="-1" strike="noStrike">
                <a:solidFill>
                  <a:srgbClr val="ffffff"/>
                </a:solidFill>
                <a:latin typeface="Calibri"/>
              </a:rPr>
              <a:t>خطوات التخطيط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971640" y="2277000"/>
            <a:ext cx="7272360" cy="336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Calibri"/>
              </a:rPr>
              <a:t>يمكن تلخيص خطوات التخطيط في النقاط التال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Calibri"/>
              </a:rPr>
              <a:t>لاعداد جدول الكميات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Calibri"/>
              </a:rPr>
              <a:t>ايجاد العلاقة المنطقية بين الفعاليات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Calibri"/>
              </a:rPr>
              <a:t>معرفة الوقت المناسب لتنفيذ كل فعالي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Calibri"/>
              </a:rPr>
              <a:t>اختيار طريقة من طرق التخطيط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4676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100000"/>
              </a:lnSpc>
              <a:buNone/>
            </a:pPr>
            <a:r>
              <a:rPr b="0" lang="ar-SA" sz="7200" spc="-1" strike="noStrike">
                <a:solidFill>
                  <a:srgbClr val="ffffff"/>
                </a:solidFill>
                <a:latin typeface="Calibri"/>
              </a:rPr>
              <a:t>طرق التخطيط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43640" y="2277000"/>
            <a:ext cx="7272360" cy="336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indent="0" algn="r" rtl="1">
              <a:lnSpc>
                <a:spcPct val="100000"/>
              </a:lnSpc>
              <a:spcBef>
                <a:spcPts val="1040"/>
              </a:spcBef>
              <a:buNone/>
              <a:tabLst>
                <a:tab algn="l" pos="0"/>
              </a:tabLst>
            </a:pPr>
            <a:r>
              <a:rPr b="0" lang="ar-SA" sz="5200" spc="-1" strike="noStrike">
                <a:solidFill>
                  <a:srgbClr val="ffffff"/>
                </a:solidFill>
                <a:latin typeface="Calibri"/>
              </a:rPr>
              <a:t>ادناه مجموعة من طرق التخطيط المعتمدة: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359640" indent="-359640" algn="just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ar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9640" indent="-359640" algn="just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inked Bar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9640" indent="-359640" algn="just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ime Gr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9640" indent="-359640" algn="just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inked Time Gr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9640" indent="-359640" algn="just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9640" indent="-359640" algn="just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9640" indent="-359640" algn="just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ine of Bal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0" lang="ar-SA" sz="4400" spc="-1" strike="noStrike">
                <a:solidFill>
                  <a:srgbClr val="ffffff"/>
                </a:solidFill>
                <a:latin typeface="Calibri"/>
              </a:rPr>
              <a:t>العوامل المؤثرة في اختيار طريقة التخطيط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alibri"/>
              </a:rPr>
              <a:t>ادناه مجموعة من العوامل المؤثرة في اختيار طرق التخطيط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alibri"/>
              </a:rPr>
              <a:t>المدة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alibri"/>
              </a:rPr>
              <a:t>حجم المشروع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alibri"/>
              </a:rPr>
              <a:t>الاستراتيجية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alibri"/>
              </a:rPr>
              <a:t>توفر البيانات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alibri"/>
              </a:rPr>
              <a:t>الكلف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alibri"/>
              </a:rPr>
              <a:t>مستوى المعرفة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r" rtl="1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  <Words>139</Words>
  <Paragraphs>31</Paragraphs>
  <Company>Hewlett-Packard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1T14:54:20Z</dcterms:created>
  <dc:creator>HP</dc:creator>
  <dc:description/>
  <dc:language>en-US</dc:language>
  <cp:lastModifiedBy>HP</cp:lastModifiedBy>
  <dcterms:modified xsi:type="dcterms:W3CDTF">2019-05-21T15:14:52Z</dcterms:modified>
  <cp:revision>3</cp:revision>
  <dc:subject/>
  <dc:title>تخطيط المشاري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6</vt:r8>
  </property>
</Properties>
</file>