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07CBF-DBAD-41AA-B6F7-D26B8E5D4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6A13-28EA-4C39-BFB7-43C272B5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AC4D8-F69B-460D-938E-4088A786A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25616-4958-4C07-A57C-ECEF607B7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1D322-573B-47DD-9EDB-4F606AE22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573EC-45D1-4792-9B94-995A1B619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C72A1-A88A-4C82-A092-4015CF537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E34B6-1F88-481E-AFD0-E56B6C29C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7FDDC-4CC4-4462-AEAE-A1D3CB265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AE018-1CCF-4216-AABA-6EF247E3C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BBAC5-4E5E-4010-9977-05BE23A7B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8875-8E2A-49BF-A60D-D5E381FFA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84F53-FF32-476D-9DAA-9144C3A65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18E82-F18A-421A-8C17-564134FED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58574-5897-4000-8C26-CE7FA23F4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AAE6F-1A26-4576-BD8D-4D19FA1E4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C43C7-CABD-478B-A940-4C2D6FD3F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72781-603E-4780-A390-0ACBB858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8815F-84E8-4797-A9E4-3116D7EEA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64227-3C60-4624-890B-AE89FE781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A94E8-D7D0-4015-9CB5-C4605D45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24F5-00AA-423E-B252-77E5ACC9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B52A-4195-4709-A137-088922AC3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36AB-C903-40C1-B31B-6BE3C5345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8"/>
          <p:cNvGrpSpPr/>
          <p:nvPr/>
        </p:nvGrpSpPr>
        <p:grpSpPr>
          <a:xfrm>
            <a:off x="0" y="-8640"/>
            <a:ext cx="12191760" cy="6866640"/>
            <a:chOff x="0" y="-8640"/>
            <a:chExt cx="12191760" cy="6866640"/>
          </a:xfrm>
        </p:grpSpPr>
        <p:cxnSp>
          <p:nvCxnSpPr>
            <p:cNvPr id="1"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2"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15"/>
          <p:cNvGrpSpPr/>
          <p:nvPr/>
        </p:nvGrpSpPr>
        <p:grpSpPr>
          <a:xfrm>
            <a:off x="360" y="-8640"/>
            <a:ext cx="12191400" cy="6866640"/>
            <a:chOff x="360" y="-8640"/>
            <a:chExt cx="12191400" cy="6866640"/>
          </a:xfrm>
        </p:grpSpPr>
        <p:cxnSp>
          <p:nvCxnSpPr>
            <p:cNvPr id="12"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13"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28"/>
            <p:cNvSpPr/>
            <p:nvPr/>
          </p:nvSpPr>
          <p:spPr>
            <a:xfrm rot="10800000">
              <a:off x="360" y="360"/>
              <a:ext cx="842400" cy="5665680"/>
            </a:xfrm>
            <a:prstGeom prst="triangle">
              <a:avLst>
                <a:gd name="adj" fmla="val 10000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lumMod val="75000"/>
                  </a:schemeClr>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6D56FCBA-7F1C-4FC6-8272-7C640E164A03}"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8"/>
          <p:cNvGrpSpPr/>
          <p:nvPr/>
        </p:nvGrpSpPr>
        <p:grpSpPr>
          <a:xfrm>
            <a:off x="0" y="-8640"/>
            <a:ext cx="12191760" cy="6866640"/>
            <a:chOff x="0" y="-8640"/>
            <a:chExt cx="12191760" cy="6866640"/>
          </a:xfrm>
        </p:grpSpPr>
        <p:cxnSp>
          <p:nvCxnSpPr>
            <p:cNvPr id="64" name="Straight Connector 18"/>
            <p:cNvCxnSpPr/>
            <p:nvPr/>
          </p:nvCxnSpPr>
          <p:spPr>
            <a:xfrm>
              <a:off x="9370800" y="0"/>
              <a:ext cx="1219680" cy="6858360"/>
            </a:xfrm>
            <a:prstGeom prst="straightConnector1">
              <a:avLst/>
            </a:prstGeom>
            <a:ln cap="rnd" w="9525">
              <a:solidFill>
                <a:srgbClr val="f496cb">
                  <a:alpha val="70000"/>
                </a:srgbClr>
              </a:solidFill>
              <a:round/>
            </a:ln>
          </p:spPr>
        </p:cxnSp>
        <p:cxnSp>
          <p:nvCxnSpPr>
            <p:cNvPr id="65" name="Straight Connector 19"/>
            <p:cNvCxnSpPr/>
            <p:nvPr/>
          </p:nvCxnSpPr>
          <p:spPr>
            <a:xfrm flipH="1">
              <a:off x="7425000" y="3681360"/>
              <a:ext cx="4763880" cy="3177000"/>
            </a:xfrm>
            <a:prstGeom prst="straightConnector1">
              <a:avLst/>
            </a:prstGeom>
            <a:ln cap="rnd" w="9525">
              <a:solidFill>
                <a:srgbClr val="f496cb">
                  <a:alpha val="70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2"/>
            <p:cNvSpPr/>
            <p:nvPr/>
          </p:nvSpPr>
          <p:spPr>
            <a:xfrm>
              <a:off x="8932320" y="3048120"/>
              <a:ext cx="3259440" cy="3809520"/>
            </a:xfrm>
            <a:prstGeom prst="triangle">
              <a:avLst>
                <a:gd name="adj" fmla="val 100000"/>
              </a:avLst>
            </a:prstGeom>
            <a:solidFill>
              <a:schemeClr val="accent1">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1">
                <a:lumMod val="75000"/>
                <a:alpha val="5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lumMod val="50000"/>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6"/>
            <p:cNvSpPr/>
            <p:nvPr/>
          </p:nvSpPr>
          <p:spPr>
            <a:xfrm>
              <a:off x="10371600" y="3589920"/>
              <a:ext cx="1816920" cy="3267720"/>
            </a:xfrm>
            <a:prstGeom prst="triangle">
              <a:avLst>
                <a:gd name="adj" fmla="val 100000"/>
              </a:avLst>
            </a:prstGeom>
            <a:solidFill>
              <a:schemeClr val="accent1">
                <a:lumMod val="50000"/>
                <a:alpha val="66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7"/>
            <p:cNvSpPr/>
            <p:nvPr/>
          </p:nvSpPr>
          <p:spPr>
            <a:xfrm>
              <a:off x="0" y="4013280"/>
              <a:ext cx="448200" cy="2844360"/>
            </a:xfrm>
            <a:prstGeom prst="triangle">
              <a:avLst>
                <a:gd name="adj" fmla="val 0"/>
              </a:avLst>
            </a:prstGeom>
            <a:solidFill>
              <a:schemeClr val="accent1">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lumMod val="75000"/>
                  </a:schemeClr>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lumMod val="75000"/>
                  </a:schemeClr>
                </a:solidFill>
                <a:latin typeface="Trebuchet MS"/>
              </a:defRPr>
            </a:lvl1pPr>
          </a:lstStyle>
          <a:p>
            <a:pPr indent="0" algn="r">
              <a:lnSpc>
                <a:spcPct val="100000"/>
              </a:lnSpc>
              <a:buNone/>
            </a:pPr>
            <a:fld id="{C6EE371A-272E-41E9-8578-28003B942B23}" type="slidenum">
              <a:rPr b="0" lang="en-US" sz="900" spc="-1" strike="noStrike">
                <a:solidFill>
                  <a:schemeClr val="accent1">
                    <a:lumMod val="75000"/>
                  </a:schemeClr>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233532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حقوق الانسان</a:t>
            </a:r>
            <a:br>
              <a:rPr sz="8800"/>
            </a:br>
            <a:r>
              <a:rPr b="0" lang="ar-SA" sz="8800" spc="-1" strike="noStrike">
                <a:solidFill>
                  <a:srgbClr val="7030a0"/>
                </a:solidFill>
                <a:latin typeface="Bahij Helvetica Neue 75 Bold"/>
                <a:cs typeface="Bahij Helvetica Neue 75 Bold"/>
              </a:rPr>
              <a:t>والحريات العامة</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6321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4"/>
          <p:cNvSpPr/>
          <p:nvPr/>
        </p:nvSpPr>
        <p:spPr>
          <a:xfrm>
            <a:off x="11304360" y="572904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19"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معنى الحريات العامة</a:t>
            </a:r>
            <a:endParaRPr b="0" lang="en-US" sz="4600" spc="-1" strike="noStrike">
              <a:solidFill>
                <a:srgbClr val="000000"/>
              </a:solidFill>
              <a:latin typeface="Arial"/>
            </a:endParaRPr>
          </a:p>
        </p:txBody>
      </p:sp>
      <p:sp>
        <p:nvSpPr>
          <p:cNvPr id="120"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تعددت تعريفات الحقوق والحريات العامة وهذا راجع الى اختلاف نظرة الفقه لهذا المفهوم حيث نجد ان البعض عرف الحقوق والحريات العامة بانها : امكانيات يتمتع بها الفرد بسبب طبيعته البشرية وبسبب عضويته في المجتمع وهذه الحريات كثيرا ما يطلق عليها الحقوق الفردية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كما يذهب آخرون في تعريفها بأنها " الحقوق والحريات الأساسية والمعترف بها دستوريا وتشريعية والتي لا يستغني عنها الانسان في حياته وتكفلها الدولة وتحميها وتنظم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2"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معنى الحريات العامة</a:t>
            </a:r>
            <a:endParaRPr b="0" lang="en-US" sz="4600" spc="-1" strike="noStrike">
              <a:solidFill>
                <a:srgbClr val="000000"/>
              </a:solidFill>
              <a:latin typeface="Arial"/>
            </a:endParaRPr>
          </a:p>
        </p:txBody>
      </p:sp>
      <p:sp>
        <p:nvSpPr>
          <p:cNvPr id="123"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200" spc="-1" strike="noStrike">
                <a:solidFill>
                  <a:srgbClr val="000000"/>
                </a:solidFill>
                <a:latin typeface="Calibri"/>
                <a:cs typeface="Calibri"/>
              </a:rPr>
              <a:t>وهناك من عرفها ايضا بانها قدرة الإنسان على اختيار سلوكه بنفسه في اطار مذهبي متوازن قادر على ضبط الحركة الاجتماعية في مفهومها الواسع بين الفرد والجماعة بلا افراط او تفريط</a:t>
            </a:r>
            <a:endParaRPr b="0" lang="en-US" sz="3200" spc="-1" strike="noStrike">
              <a:solidFill>
                <a:srgbClr val="000000"/>
              </a:solidFill>
              <a:latin typeface="Arial"/>
            </a:endParaRPr>
          </a:p>
          <a:p>
            <a:pPr algn="r" rtl="1">
              <a:lnSpc>
                <a:spcPct val="100000"/>
              </a:lnSpc>
            </a:pPr>
            <a:r>
              <a:rPr b="0" lang="ar-SA" sz="3200" spc="-1" strike="noStrike">
                <a:solidFill>
                  <a:srgbClr val="000000"/>
                </a:solidFill>
                <a:latin typeface="Calibri"/>
                <a:cs typeface="Calibri"/>
              </a:rPr>
              <a:t>وعلى ضوء ما تقدم نجد ان من الصعوبة وضع تعريف عام وشامل ومحدد للحقوق والحريات وهذا يرجع الى اختلاف النظرة لهذا المفهوم من قبل الفقه والتي اشرنا اليه فيما سبق مما يدل عل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IQ" sz="3200" spc="-1" strike="noStrike">
                <a:solidFill>
                  <a:srgbClr val="ff0000"/>
                </a:solidFill>
                <a:latin typeface="Bahij Helvetica Neue 75 Bold"/>
                <a:cs typeface="Bahij Helvetica Neue 75 Bold"/>
              </a:rPr>
              <a:t>حقوق الانسان والحريات العامة</a:t>
            </a:r>
            <a:endParaRPr b="0" lang="en-US" sz="3200" spc="-1" strike="noStrike">
              <a:solidFill>
                <a:srgbClr val="000000"/>
              </a:solidFill>
              <a:latin typeface="Trebuchet MS"/>
            </a:endParaRPr>
          </a:p>
        </p:txBody>
      </p:sp>
      <p:sp>
        <p:nvSpPr>
          <p:cNvPr id="125" name="Subtitle 2"/>
          <p:cNvSpPr/>
          <p:nvPr/>
        </p:nvSpPr>
        <p:spPr>
          <a:xfrm>
            <a:off x="1800720" y="1405800"/>
            <a:ext cx="8024040" cy="668160"/>
          </a:xfrm>
          <a:prstGeom prst="rect">
            <a:avLst/>
          </a:prstGeom>
          <a:noFill/>
          <a:ln w="0">
            <a:noFill/>
          </a:ln>
        </p:spPr>
        <p:style>
          <a:lnRef idx="0"/>
          <a:fillRef idx="0"/>
          <a:effectRef idx="0"/>
          <a:fontRef idx="minor"/>
        </p:style>
        <p:txBody>
          <a:bodyPr anchor="t">
            <a:normAutofit fontScale="82000"/>
          </a:bodyPr>
          <a:p>
            <a:pPr algn="r">
              <a:lnSpc>
                <a:spcPct val="100000"/>
              </a:lnSpc>
            </a:pPr>
            <a:r>
              <a:rPr b="0" lang="ar-SA" sz="4600" spc="-1" strike="noStrike">
                <a:solidFill>
                  <a:srgbClr val="7030a0"/>
                </a:solidFill>
                <a:latin typeface="Bahij Helvetica Neue 75 Bold"/>
                <a:cs typeface="Bahij Helvetica Neue 75 Bold"/>
              </a:rPr>
              <a:t>معنى الحريات العامة</a:t>
            </a:r>
            <a:endParaRPr b="0" lang="en-US" sz="4600" spc="-1" strike="noStrike">
              <a:solidFill>
                <a:srgbClr val="000000"/>
              </a:solidFill>
              <a:latin typeface="Arial"/>
            </a:endParaRPr>
          </a:p>
        </p:txBody>
      </p:sp>
      <p:sp>
        <p:nvSpPr>
          <p:cNvPr id="126" name="Subtitle 2"/>
          <p:cNvSpPr/>
          <p:nvPr/>
        </p:nvSpPr>
        <p:spPr>
          <a:xfrm>
            <a:off x="335880" y="2267280"/>
            <a:ext cx="9423720" cy="4046040"/>
          </a:xfrm>
          <a:prstGeom prst="rect">
            <a:avLst/>
          </a:prstGeom>
          <a:noFill/>
          <a:ln w="0">
            <a:noFill/>
          </a:ln>
        </p:spPr>
        <p:style>
          <a:lnRef idx="0"/>
          <a:fillRef idx="0"/>
          <a:effectRef idx="0"/>
          <a:fontRef idx="minor"/>
        </p:style>
        <p:txBody>
          <a:bodyPr anchor="t">
            <a:noAutofit/>
          </a:bodyPr>
          <a:p>
            <a:pPr algn="r" rtl="1">
              <a:lnSpc>
                <a:spcPct val="100000"/>
              </a:lnSpc>
            </a:pPr>
            <a:r>
              <a:rPr b="0" lang="en-US" sz="3200" spc="-1" strike="noStrike">
                <a:solidFill>
                  <a:srgbClr val="000000"/>
                </a:solidFill>
                <a:latin typeface="Calibri"/>
              </a:rPr>
              <a:t>1</a:t>
            </a:r>
            <a:r>
              <a:rPr b="0" lang="en-US" sz="3200" spc="-1" strike="noStrike">
                <a:solidFill>
                  <a:srgbClr val="000000"/>
                </a:solidFill>
                <a:latin typeface="Calibri"/>
              </a:rPr>
              <a:t>- بدقة متناهية ومعقولة مع ضرورة مراعاة الغاية التي تستهدف من اقرارها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 </a:t>
            </a:r>
            <a:r>
              <a:rPr b="0" lang="en-US" sz="3200" spc="-1" strike="noStrike">
                <a:solidFill>
                  <a:srgbClr val="000000"/>
                </a:solidFill>
                <a:latin typeface="Calibri"/>
              </a:rPr>
              <a:t>2</a:t>
            </a:r>
            <a:r>
              <a:rPr b="0" lang="en-US" sz="3200" spc="-1" strike="noStrike">
                <a:solidFill>
                  <a:srgbClr val="000000"/>
                </a:solidFill>
                <a:latin typeface="Calibri"/>
              </a:rPr>
              <a:t>- الدستور لا يعرف اي تدرج بين القواعد الدستورية ولا بين الحقوق والحريات .</a:t>
            </a:r>
            <a:endParaRPr b="0" lang="en-US" sz="3200" spc="-1" strike="noStrike">
              <a:solidFill>
                <a:srgbClr val="000000"/>
              </a:solidFill>
              <a:latin typeface="Arial"/>
            </a:endParaRPr>
          </a:p>
          <a:p>
            <a:pPr algn="r" rtl="1">
              <a:lnSpc>
                <a:spcPct val="100000"/>
              </a:lnSpc>
            </a:pPr>
            <a:r>
              <a:rPr b="0" lang="en-US" sz="3200" spc="-1" strike="noStrike">
                <a:solidFill>
                  <a:srgbClr val="000000"/>
                </a:solidFill>
                <a:latin typeface="Calibri"/>
              </a:rPr>
              <a:t>3</a:t>
            </a:r>
            <a:r>
              <a:rPr b="0" lang="en-US" sz="3200" spc="-1" strike="noStrike">
                <a:solidFill>
                  <a:srgbClr val="000000"/>
                </a:solidFill>
                <a:latin typeface="Calibri"/>
              </a:rPr>
              <a:t>-لايمكن ان يكون هنالك تنازع بين الحقوق والحريات في نصوص الدستور واي تنازع يمكن حله ورفع هذا التنازع من خلال النظام القائم على وحدة الدستور ووحدة الجماعة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f496cb"/>
      </a:accent1>
      <a:accent2>
        <a:srgbClr val="bc356f"/>
      </a:accent2>
      <a:accent3>
        <a:srgbClr val="e65331"/>
      </a:accent3>
      <a:accent4>
        <a:srgbClr val="f27e19"/>
      </a:accent4>
      <a:accent5>
        <a:srgbClr val="f2ac19"/>
      </a:accent5>
      <a:accent6>
        <a:srgbClr val="bc80e0"/>
      </a:accent6>
      <a:hlink>
        <a:srgbClr val="ef5285"/>
      </a:hlink>
      <a:folHlink>
        <a:srgbClr val="f77f9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62</TotalTime>
  <Application>LibreOffice/7.4.7.2$Linux_X86_64 LibreOffice_project/40$Build-2</Application>
  <AppVersion>15.0000</AppVersion>
  <Words>222</Words>
  <Paragraphs>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20:52:57Z</dcterms:modified>
  <cp:revision>25</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vt:r8>
  </property>
</Properties>
</file>