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6AF-5C86-47A6-B374-BA21CAF7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A29-AA81-4CB0-ADC5-6D275C84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C7E-6832-47CB-BB68-51010DDD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8CA-10D4-4E5C-8588-9994CACF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55A1-C64F-4E64-B22F-4388C271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272D-5C32-4E81-8353-FBC02365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F1F2-9F87-4446-AE0E-50B9B828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0B22-0914-4131-A2DE-928BBD92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697C-6F4E-4B49-93C4-99DBA9F6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9717-F018-41CB-8AC8-8905D171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F3E5-916A-4D54-A178-8B54B9E3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4CE-75DE-4FF5-B7D6-995B5840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27F1-C8E0-40BA-8467-55712DBF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71A9-A195-41E6-AFAD-D45A5004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EB18-02F3-459A-B27A-7BFC753F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86D7-5266-4C52-9469-8F649BBB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AA4B-909B-4AAA-BA64-7ED8BC83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535-A43D-4D1E-BCC0-025DA8EC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B8C-424B-43D3-98B3-6C856294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70A-A7FA-43CA-9F42-535C1AFF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B3E-E5BE-4065-A296-C6B3F020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CD7-535D-4619-A5A4-995CF7CF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2B2-DD3F-4F6B-AC55-E7A5ADFC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CC2-A164-45EB-97DC-47742A1B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7DC7B7-FC21-48D6-A809-DD7E498ACFA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نقر لتحرير أنماط النص الرئيس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C95A20-7C43-4619-AA29-6070B0F4E6B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304920"/>
            <a:ext cx="8381520" cy="60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 rtl="1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ar-IQ" sz="2800" spc="-1" strike="noStrike">
                <a:solidFill>
                  <a:srgbClr val="8b8b8b"/>
                </a:solidFill>
                <a:latin typeface="Calibri"/>
              </a:rPr>
              <a:t>ثالثاً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: </a:t>
            </a:r>
            <a:r>
              <a:rPr b="0" lang="ar-IQ" sz="2400" spc="-1" strike="noStrike">
                <a:solidFill>
                  <a:srgbClr val="8b8b8b"/>
                </a:solidFill>
                <a:latin typeface="Calibri"/>
              </a:rPr>
              <a:t>طريقة مجموع سنوات العمر الانتاج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ar-IQ" sz="2000" spc="-1" strike="noStrike">
                <a:solidFill>
                  <a:srgbClr val="8b8b8b"/>
                </a:solidFill>
                <a:latin typeface="Calibri"/>
              </a:rPr>
              <a:t>قسط اندثار السنة الاولى= (الكلفة – الانقاض) × </a:t>
            </a:r>
            <a:r>
              <a:rPr b="0" lang="ar-IQ" sz="2000" spc="-1" strike="noStrike" u="sng">
                <a:solidFill>
                  <a:srgbClr val="8b8b8b"/>
                </a:solidFill>
                <a:uFillTx/>
                <a:latin typeface="Calibri"/>
              </a:rPr>
              <a:t>العمر الانتاجي المتبقي في بداية السن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                                                                      مج أرقام سنوات العم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ar-IQ" sz="2000" spc="-1" strike="noStrike">
                <a:solidFill>
                  <a:srgbClr val="8b8b8b"/>
                </a:solidFill>
                <a:latin typeface="Calibri"/>
              </a:rPr>
              <a:t>قسط اندثار السنة الثانية= (الكلفة – الانقاض) × </a:t>
            </a:r>
            <a:r>
              <a:rPr b="0" lang="ar-IQ" sz="2000" spc="-1" strike="noStrike" u="sng">
                <a:solidFill>
                  <a:srgbClr val="8b8b8b"/>
                </a:solidFill>
                <a:uFillTx/>
                <a:latin typeface="Calibri"/>
              </a:rPr>
              <a:t>العمر الانتاجي المتبقي في بداية السنة - </a:t>
            </a:r>
            <a:r>
              <a:rPr b="0" lang="en-US" sz="2000" spc="-1" strike="noStrike" u="sng">
                <a:solidFill>
                  <a:srgbClr val="8b8b8b"/>
                </a:solidFill>
                <a:uFillTx/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                                                                      مج أرقام سنوات العم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ar-IQ" sz="2000" spc="-1" strike="noStrike">
                <a:solidFill>
                  <a:srgbClr val="8b8b8b"/>
                </a:solidFill>
                <a:latin typeface="Calibri"/>
              </a:rPr>
              <a:t>ويتم احتساب مج أرقام سنوات العمر الانتاجي كما يأتي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ar-IQ" sz="2000" spc="-1" strike="noStrike">
                <a:solidFill>
                  <a:srgbClr val="8b8b8b"/>
                </a:solidFill>
                <a:latin typeface="Calibri"/>
              </a:rPr>
              <a:t>مج أرقام سنوات العمر الانتاجي = </a:t>
            </a:r>
            <a:r>
              <a:rPr b="0" lang="ar-IQ" sz="2000" spc="-1" strike="noStrike" u="sng">
                <a:solidFill>
                  <a:srgbClr val="8b8b8b"/>
                </a:solidFill>
                <a:uFillTx/>
                <a:latin typeface="Calibri"/>
              </a:rPr>
              <a:t>ن(ن + </a:t>
            </a:r>
            <a:r>
              <a:rPr b="0" lang="en-US" sz="2000" spc="-1" strike="noStrike" u="sng">
                <a:solidFill>
                  <a:srgbClr val="8b8b8b"/>
                </a:solidFill>
                <a:uFillTx/>
                <a:latin typeface="Calibri"/>
              </a:rPr>
              <a:t>1</a:t>
            </a:r>
            <a:r>
              <a:rPr b="0" lang="en-US" sz="2000" spc="-1" strike="noStrike" u="sng">
                <a:solidFill>
                  <a:srgbClr val="8b8b8b"/>
                </a:solidFill>
                <a:uFillTx/>
                <a:latin typeface="Calibri"/>
              </a:rPr>
              <a:t>)    </a:t>
            </a:r>
            <a:r>
              <a:rPr b="0" lang="ar-IQ" sz="2000" spc="-1" strike="noStrike">
                <a:solidFill>
                  <a:srgbClr val="8b8b8b"/>
                </a:solidFill>
                <a:latin typeface="Calibri"/>
              </a:rPr>
              <a:t>حيث أن  ( ن ) تمثل العم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                                              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ar-IQ" sz="2400" spc="-1" strike="noStrike">
                <a:solidFill>
                  <a:srgbClr val="8b8b8b"/>
                </a:solidFill>
                <a:latin typeface="Calibri"/>
              </a:rPr>
              <a:t>مثال: 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 في 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2016/1/1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 اشترت احدى الشركات ماكنة بمبلغ 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325000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 دينار وقد قدرت قيمة الانقاض بمبلغ 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25000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 دينار في نهاية العمر الانتاجي البالغ 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 سنوات، المطلوب احتساب قسط الاندثار بطريقة مجموع أرقام سنوات العمر الانتاج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240" cy="59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3200" spc="-1" strike="noStrike">
                <a:solidFill>
                  <a:srgbClr val="000000"/>
                </a:solidFill>
                <a:latin typeface="Calibri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1800" spc="-1" strike="noStrike">
                <a:solidFill>
                  <a:srgbClr val="000000"/>
                </a:solidFill>
                <a:latin typeface="Calibri"/>
              </a:rPr>
              <a:t>مج أرقام سنوات العمر الانتاجي = </a:t>
            </a:r>
            <a:r>
              <a:rPr b="0" lang="ar-IQ" sz="1800" spc="-1" strike="noStrike" u="sng">
                <a:solidFill>
                  <a:srgbClr val="000000"/>
                </a:solidFill>
                <a:uFillTx/>
                <a:latin typeface="Calibri"/>
              </a:rPr>
              <a:t>ن(ن +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)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)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1800" spc="-1" strike="noStrike">
                <a:solidFill>
                  <a:srgbClr val="000000"/>
                </a:solidFill>
                <a:latin typeface="Calibri"/>
              </a:rPr>
              <a:t>قسط اندثار السنة الاولى= (الكلفة – الانقاض) × </a:t>
            </a:r>
            <a:r>
              <a:rPr b="0" lang="ar-IQ" sz="1800" spc="-1" strike="noStrike" u="sng">
                <a:solidFill>
                  <a:srgbClr val="000000"/>
                </a:solidFill>
                <a:uFillTx/>
                <a:latin typeface="Calibri"/>
              </a:rPr>
              <a:t>العمر الانتاجي المتبقي في بداية السن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مج أرقام سنوات العم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= (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25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 ×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0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قسط اندثار السنة الثانية = (الكلفة – الانقاض) × </a:t>
            </a:r>
            <a:r>
              <a:rPr b="0" lang="ar-IQ" sz="1800" spc="-1" strike="noStrike" u="sng">
                <a:solidFill>
                  <a:srgbClr val="000000"/>
                </a:solidFill>
                <a:uFillTx/>
                <a:latin typeface="Calibri"/>
              </a:rPr>
              <a:t>العمر الانتاجي المتبقي في بداية السنة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مج أرقام سنوات العم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= (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25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 ×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0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ar-IQ" sz="1800" spc="-1" strike="noStrike">
                <a:solidFill>
                  <a:srgbClr val="000000"/>
                </a:solidFill>
                <a:latin typeface="Calibri"/>
              </a:rPr>
              <a:t>قسط اندثار السنة الثالثة = (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25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 ×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ar-IQ" sz="1800" spc="-1" strike="noStrike">
                <a:solidFill>
                  <a:srgbClr val="000000"/>
                </a:solidFill>
                <a:latin typeface="Calibri"/>
              </a:rPr>
              <a:t>قسط اندثار السنة الرابعة = (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25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 ×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0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قوس كبير أيسر 4"/>
          <p:cNvSpPr/>
          <p:nvPr/>
        </p:nvSpPr>
        <p:spPr>
          <a:xfrm>
            <a:off x="1143000" y="2666880"/>
            <a:ext cx="1371240" cy="289512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560" cy="61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لو افترضنا ان الشركة قد اشترت الماكنة في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6/4/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وليس في بداية السنة وعليه سيتم احتساب اقساط الاندثار كما يأت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قسط اندثار السنة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×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×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9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=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0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قسط اندثار السنة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×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×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+                    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×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×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9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=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675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75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قسط اندثار السنة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×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×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25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+                       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×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×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9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45000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75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قسط اندثار السنة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9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×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×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=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×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×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9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225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75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قسط اندثار سنة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×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×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=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75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0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قوس كبير أيسر 4"/>
          <p:cNvSpPr/>
          <p:nvPr/>
        </p:nvSpPr>
        <p:spPr>
          <a:xfrm>
            <a:off x="457200" y="914400"/>
            <a:ext cx="1371240" cy="4723920"/>
          </a:xfrm>
          <a:prstGeom prst="leftBrace">
            <a:avLst>
              <a:gd name="adj1" fmla="val 8333"/>
              <a:gd name="adj2" fmla="val 49688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قوس كبير أيسر 5"/>
          <p:cNvSpPr/>
          <p:nvPr/>
        </p:nvSpPr>
        <p:spPr>
          <a:xfrm>
            <a:off x="2514600" y="1600200"/>
            <a:ext cx="304560" cy="76176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قوس كبير أيسر 6"/>
          <p:cNvSpPr/>
          <p:nvPr/>
        </p:nvSpPr>
        <p:spPr>
          <a:xfrm>
            <a:off x="2514600" y="2895480"/>
            <a:ext cx="304560" cy="6854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قوس كبير أيسر 7"/>
          <p:cNvSpPr/>
          <p:nvPr/>
        </p:nvSpPr>
        <p:spPr>
          <a:xfrm>
            <a:off x="2514600" y="4191120"/>
            <a:ext cx="304560" cy="6854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نسق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نسق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392</Words>
  <Paragraphs>43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18:23:09Z</dcterms:created>
  <dc:creator>user</dc:creator>
  <dc:description/>
  <dc:language>en-US</dc:language>
  <cp:lastModifiedBy>user</cp:lastModifiedBy>
  <dcterms:modified xsi:type="dcterms:W3CDTF">2019-04-25T18:32:41Z</dcterms:modified>
  <cp:revision>4</cp:revision>
  <dc:subject/>
  <dc:title>عرض تقديمي في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عرض على الشاشة (3:4)‏</vt:lpwstr>
  </property>
  <property fmtid="{D5CDD505-2E9C-101B-9397-08002B2CF9AE}" pid="3" name="Slides">
    <vt:r8>3</vt:r8>
  </property>
</Properties>
</file>