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51977F-17C7-4802-8C0D-3C21C132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FA060B-CC28-4CB0-9830-56B94CEA0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5ACEFC-D913-44D2-9DCD-5074A36C7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501FF-DEC3-4A71-B726-6BB970D1F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5E0152-A5E5-4742-A633-158720D7E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2E48F6-D5EB-4D9F-A9D5-FB58E9640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A1D522-3863-4E3D-87B0-0E8CFED3B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7E8311-EECD-4F4C-A47B-BB8A3304A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A4A3CC-9825-4F54-8AD8-811100293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10D537-D493-4DE3-A9B2-DD61E5DE1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AAB-E625-41EA-A701-63F08EB8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028-FA45-47D2-B006-8AD28DA7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1EB8CB-225D-4BB9-A561-93F9A4BE10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00B0A-2FD6-4904-9032-B08F0E1C1AF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CA054-A6DD-4F83-8037-9D5C8332EB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8B99C-C32F-4387-B57A-7339786B4DE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9F9F3-BA4C-422C-8A22-D0CC3752BAF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46F8C-70D4-4EB2-831E-9C27405B6B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C00FB-57AD-4934-A900-3B0016463BA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190B8-57B4-4D79-89D1-68FAF95164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2A057-6975-462E-8FA2-28ED4A762D5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865D-B929-4A16-8BCB-5BB66D146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299-CD75-4F65-8330-CDA75733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6AEF-AE2E-4493-9B27-14D467F0A61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A609-1C49-47B8-9811-71559D6E5A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7848-181E-402E-A29D-BBD52C3BF0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BA119-2764-4CDE-BB79-E9A48F1ACD0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38F8A-83A5-4AD9-A8E7-A020603F234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F507-0194-4D8A-8273-27CB894A29B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4BB8-51B8-4E0F-91E6-690C4A7AC68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153A-5D29-46F0-9DB1-F5304FC38FA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8266-1649-41BC-8B9B-A1F5E45828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1A144-56E1-4200-95C1-C611F0436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35E-8412-4F71-8C85-39D153D4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92C9-2157-4367-9503-43F390A00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A8E2B-8317-41D5-8F01-0D78A997E7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532D9-A3F4-4586-B822-7FB227FDAD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F938E-C2A9-4A3C-8D52-133171BECB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CC80E-A649-432F-9BD0-50DEBC4686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F4DA4-F805-4AB1-97EB-D2D1A172A8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87266-94E8-43EF-8B00-7CDB0D449D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48D47-D5B4-46BF-89CB-5E8785042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4BE-06E6-4751-A091-B83CC170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A2483-79A6-4B54-8153-7CD23A35E5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A4F4A-3D6F-4FE6-A283-61C0F368AD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A9DE1-4DAA-46D5-B5A0-D5138BD137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334D3-0BF3-4EA4-BB25-B70D29DAF5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C4274-46E5-4F48-B0DC-6E1CBC8EA1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1D189-5FF6-495C-9717-F785D71576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93B27-09B5-4757-85DB-20017B0008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35574-F524-4E0C-AAD5-B89CB0B1A2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3112B-E83A-4FAC-B1C1-53686AE57C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3374A-5FC1-4248-B604-07078D1CE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5BE-01DD-4E4F-A0CA-24E02EB5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F74CC-67D7-43CF-80FB-D714F1C6AA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E78DA-D84B-4073-B4C6-0F36A9A361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C033F-A9A2-4102-849A-EC10386321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3DC35-1178-4610-B1EA-CEC9EDB5CE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C6520-F13A-4C78-B750-D0C3487542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DB3B3-8C79-466E-9AAC-8CA88F90E5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6CC7F-F7BE-419A-826B-33F746B3F3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B011-E2EC-4A23-845A-F5AA5F320C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3B3A-ABFC-48DF-A146-B64137D976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B659-BBF4-462C-96BB-ECDE7784E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EBA-5946-4490-9C72-7B110701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1696-5828-4AE0-A651-A8D887DDFD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7EE-9970-47F5-A58C-BDFFA3FE1D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0615-F98D-4537-A8C3-069C578F43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FC5E-0E1B-43EB-8F65-9DA0DE186D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FDC7-2010-4DAE-8D9F-5385F8420C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ACB4-950E-4EFE-A0EA-601562D186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576E-C21F-4F67-95BA-586B87B610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2296-F9A1-40DA-960F-FF98227082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9A6B-C9C1-474D-B1F2-26E1395C95D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38CED-B1DC-4CA8-BC57-67B7E4859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73B-0A10-43E6-8EC0-FDFC9271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6AA31-AD4C-4BFA-BEBF-84E7873352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D0FD5-0508-4B47-ABCB-1CCB0416C72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3BFFB-726B-44EA-BF20-4A9646E490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992B6-F3E7-47AB-B691-C74530BCDE2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7E590F-7D76-4ADA-A789-CB003D3A3F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56046-1313-4C4B-A525-DA0524FAE88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3DC22-6624-4377-97A0-3090A8CFCC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2E563-6610-4063-B39F-DA579ED0E9E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77DE6-41FA-43AA-99AE-51F957A7E30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69484-9755-4843-8536-7F5A90390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09D-05D7-44CB-8095-0A7477A8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8B8BDC-EC1B-4604-80C4-8BB8281B6D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B60CA-4CF1-44E9-AA2F-4337D87E5F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3E4D2-67CC-4093-94E1-800064F3F4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05C83-A956-426E-B76F-5E694020E6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2C41C-D01B-4972-A7D2-89FE2A164D2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EAB98-5419-447B-9ED4-0F24D5628A7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2301C-273B-40CC-9CD2-E2CF65293D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E3EB9-D1CE-4F28-AC72-9A0104316E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2BBA7-EFE2-4211-91FB-81B72DCA1EE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2627B-3BAA-4893-92B6-709E16D0B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45A-FD8D-4DC7-BA07-CE5FC784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19D62-C31B-4798-A1F4-CB6E3AA6A5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1F556-99D4-4AB6-B5A8-DC1A1DA9DF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7CCC2-E83A-4059-BF9D-FD4BC81A6F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2411-934D-4A9A-889F-CC610CA9312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9037-9457-43E3-A859-4C39E0FD5D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C13C-D4C8-4C30-A9FE-EF2BFE2B10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DA9B-6B7A-4F04-8A8D-64FF44BD889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DC70-6A09-42F0-A065-11C14B5BB9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FB20-ECBE-4AA8-A476-6335C1F0A9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ED73-A7E5-4111-997A-AC6CB07E1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672-97BB-40B0-BA36-1765EE6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62E5-25D7-4C78-84F6-FA5F12617D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5A86-630E-43E3-BE4C-F87D25F811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EECD-3710-477C-81B5-55937525EE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29D8-0890-41F2-A99A-E00D8474EA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3466-F4B5-4239-9367-6D1B089A4F2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60515-AEB9-49F5-BC29-C333177637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0D8F1A-55DB-483F-A4FD-34CC100D33C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F1A2B-C3EB-4A20-89B1-D439B048285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824DB-8055-43EE-922F-308A26C1E3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FE7B4-AB12-4767-B491-EEB3E763F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9C3-D7EF-4FEB-B550-DA3FBD5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37417-A8AB-4C37-88CD-8C3778165F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25C89-87DC-4AEE-BDE6-DAA0C03E52B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0A8AE-D084-482E-92BA-8F5592D12F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8A9BC-B489-4793-93A7-B432434E1BF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A338F-B0B9-4781-A0DF-0ADD80CD8BB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389BB-358B-4301-9A76-70E20FDD0A3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C6596-0618-4ED8-A3BA-E54B83294A3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20948-A41B-4FB1-97F9-79AFDF1776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89770-0D9D-4F46-B429-C9C4ABAD745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34D3D-9DAF-4BCB-AE29-50FC08C36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5C95AA-EB36-49B1-A335-AD9B245A646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Num" idx="12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ACCF60D-D931-4CC8-AA6A-D638792EF4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84AC6C-A973-43AC-ADF0-04143E635B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5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5B427BC-822F-4147-8FA0-841A9AC6E3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6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B44A52D-63D3-41D3-A277-ECA87BE1A5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7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359F8B0-5D12-4550-B92F-EC72F18B3A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Num" idx="8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E9AB786-DA96-4A9D-B2AD-03A65BFA99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Num" idx="9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266316-9002-46C9-92DF-E103044DF0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10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654AD1-548F-4C6F-AF1B-264F9D3F0D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Num" idx="11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7A950B-2FB8-4FDA-AEDA-CCE11582C8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640" y="476640"/>
            <a:ext cx="7848360" cy="331200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89000"/>
          </a:bodyPr>
          <a:p>
            <a:pPr indent="0" algn="ctr" rtl="1">
              <a:lnSpc>
                <a:spcPct val="115000"/>
              </a:lnSpc>
              <a:buNone/>
            </a:pP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محاضرات مادة 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ال</a:t>
            </a: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محاسبة 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المتوسطة</a:t>
            </a:r>
            <a:br>
              <a:rPr sz="4000"/>
            </a:b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لطلبة المرحلة الثا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ني</a:t>
            </a: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ة </a:t>
            </a:r>
            <a:br>
              <a:rPr sz="4000"/>
            </a:b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قسم المحاسبة </a:t>
            </a:r>
            <a:br>
              <a:rPr sz="4000"/>
            </a:b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الفصل ال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رابع</a:t>
            </a:r>
            <a:r>
              <a:rPr b="1" lang="en-US" sz="4000" spc="-1" strike="noStrike">
                <a:solidFill>
                  <a:schemeClr val="dk1"/>
                </a:solidFill>
                <a:latin typeface="Calibri"/>
              </a:rPr>
              <a:t> : 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كشف مطابقة حساب البنك(</a:t>
            </a:r>
            <a:r>
              <a:rPr b="1" lang="en-US" sz="4000" spc="-1" strike="noStrike">
                <a:solidFill>
                  <a:schemeClr val="dk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chemeClr val="dk1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403640" y="4293000"/>
            <a:ext cx="6400440" cy="16560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ar-SA" sz="2800" spc="-1" strike="noStrike">
                <a:solidFill>
                  <a:srgbClr val="17375e"/>
                </a:solidFill>
                <a:latin typeface="Calibri"/>
              </a:rPr>
              <a:t>م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د. بشرى </a:t>
            </a:r>
            <a:r>
              <a:rPr b="1" lang="ar-SA" sz="2800" spc="-1" strike="noStrike">
                <a:solidFill>
                  <a:srgbClr val="17375e"/>
                </a:solidFill>
                <a:latin typeface="Calibri"/>
              </a:rPr>
              <a:t>فاضل خضير الط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17375e"/>
                </a:solidFill>
                <a:latin typeface="Calibri"/>
              </a:rPr>
              <a:t>جامعة بغداد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17375e"/>
                </a:solidFill>
                <a:latin typeface="Calibri"/>
              </a:rPr>
              <a:t>كلية الإدارة والاقتصاد – قسم المحاس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Num" idx="23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6D2C0F-9E43-4D0E-BC95-D9201121A6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itle 1"/>
          <p:cNvSpPr/>
          <p:nvPr/>
        </p:nvSpPr>
        <p:spPr>
          <a:xfrm>
            <a:off x="251640" y="2277000"/>
            <a:ext cx="82144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ar-SA" sz="4800" spc="-1" strike="noStrike">
                <a:solidFill>
                  <a:srgbClr val="c00000"/>
                </a:solidFill>
                <a:latin typeface="Calibri"/>
                <a:cs typeface="Arial"/>
              </a:rPr>
              <a:t>مع تمنياتي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r-SA" sz="4800" spc="-1" strike="noStrike">
                <a:solidFill>
                  <a:srgbClr val="c00000"/>
                </a:solidFill>
                <a:latin typeface="Calibri"/>
                <a:cs typeface="Arial"/>
              </a:rPr>
              <a:t>للجميع بالنجاح و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Num" idx="16"/>
          </p:nvPr>
        </p:nvSpPr>
        <p:spPr>
          <a:xfrm>
            <a:off x="4592520" y="637704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7FEFDE0-2DA2-4487-B799-2B7512523C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itle 1"/>
          <p:cNvSpPr/>
          <p:nvPr/>
        </p:nvSpPr>
        <p:spPr>
          <a:xfrm>
            <a:off x="317880" y="276120"/>
            <a:ext cx="8229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مثال توضيحي عن موضوع كشف مطابقة البنك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451440" y="1166760"/>
            <a:ext cx="837432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لغ رصيد حساب البنك المستخرج من دفتر الأستاذ في شركة الرافدين لشهر اب في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مبل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0,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دينار، في حين بلغ رصيد حساب البنك الوارد  بكشف البن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,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دينار فإذا علمت أن أسباب الفروق بين الرصيدين كانت بسبب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هناك شيكات إيداع أرسلت بالبريد إلى البنك يوم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8/8/3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بمبل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دينار ولم تظهر في كشف الحسا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هناك شيك بمبل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دينار حررته الشركة لأحد الدائنين ولم يتقدم للصرف حتى نهاية الشه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هناك شيكات مسحوبة على بعض عملاء الشركة ردها البنك مع كشف الحساب بمبل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7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دينار لعدم كفاية الرص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مصاريف البنك بمبل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دينار خصمها البنك من الرص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هناك كمبيالات قام البنك بتحصيلها نيابة عن الشركة بمبل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,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دين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هناك شيك بمبل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4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دينار صرف لأحد الدائنين الشركة واثبت في الدفاتر بالخطأ بمبل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5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دينار وورد الشيك مخصوماً في كشف الحساب بالقيمة الصحيح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buClr>
                <a:srgbClr val="ff33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rgbClr val="ff3300"/>
                </a:solidFill>
                <a:latin typeface="Calibri"/>
              </a:rPr>
              <a:t>المطلوب : اعداد كشف مطابقة حساب البنك وتسجيل قيود التسوية اللاز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Num" idx="17"/>
          </p:nvPr>
        </p:nvSpPr>
        <p:spPr>
          <a:xfrm>
            <a:off x="4592520" y="637704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1255CE-C351-45E3-8D63-E0AF05FE30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itle 1"/>
          <p:cNvSpPr/>
          <p:nvPr/>
        </p:nvSpPr>
        <p:spPr>
          <a:xfrm>
            <a:off x="317880" y="276120"/>
            <a:ext cx="8229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كشف مطابقة حساب البنك لشركة الرافدين لشهر اب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Group 84"/>
          <p:cNvGraphicFramePr/>
          <p:nvPr/>
        </p:nvGraphicFramePr>
        <p:xfrm>
          <a:off x="281520" y="987480"/>
          <a:ext cx="8580960" cy="5870160"/>
        </p:xfrm>
        <a:graphic>
          <a:graphicData uri="http://schemas.openxmlformats.org/drawingml/2006/table">
            <a:tbl>
              <a:tblPr/>
              <a:tblGrid>
                <a:gridCol w="3235320"/>
                <a:gridCol w="914400"/>
                <a:gridCol w="3348360"/>
                <a:gridCol w="1082880"/>
              </a:tblGrid>
              <a:tr h="866880">
                <a:tc>
                  <a:txBody>
                    <a:bodyPr lIns="84240" rIns="8424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رصيد البنك بكشف الحسا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chemeClr val="accent2">
                        <a:lumMod val="75000"/>
                      </a:schemeClr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chemeClr val="accent2">
                        <a:lumMod val="75000"/>
                      </a:schemeClr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رصيد البنك بالسجل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chemeClr val="accent2">
                        <a:lumMod val="75000"/>
                      </a:schemeClr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chemeClr val="accent2">
                        <a:lumMod val="75000"/>
                      </a:schemeClr>
                    </a:solidFill>
                  </a:tcPr>
                </a:tc>
              </a:tr>
              <a:tr h="444960">
                <a:tc>
                  <a:txBody>
                    <a:bodyPr lIns="84240" rIns="84240" anchor="ctr">
                      <a:noAutofit/>
                    </a:bodyPr>
                    <a:p>
                      <a:pPr marL="533520" indent="-533520"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3300"/>
                          </a:solidFill>
                          <a:uFillTx/>
                          <a:latin typeface="Calibri"/>
                          <a:cs typeface="Arial"/>
                        </a:rPr>
                        <a:t>يضاف اليه </a:t>
                      </a:r>
                      <a:r>
                        <a:rPr b="1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GB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3300"/>
                          </a:solidFill>
                          <a:uFillTx/>
                          <a:latin typeface="Calibri"/>
                          <a:cs typeface="Arial"/>
                        </a:rPr>
                        <a:t>يضاف اليه </a:t>
                      </a:r>
                      <a:r>
                        <a:rPr b="1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GB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713520">
                <a:tc>
                  <a:txBody>
                    <a:bodyPr lIns="84240" rIns="84240" anchor="ctr">
                      <a:noAutofit/>
                    </a:bodyPr>
                    <a:p>
                      <a:pPr marL="533520" indent="-533520" algn="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إيداعات بالطري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أوراق القبض المحص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3520">
                <a:tc>
                  <a:txBody>
                    <a:bodyPr lIns="84240" rIns="84240" anchor="ctr">
                      <a:noAutofit/>
                    </a:bodyPr>
                    <a:p>
                      <a:pPr marL="533520" indent="-533520"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600" spc="-1" strike="noStrike" u="sng">
                          <a:solidFill>
                            <a:srgbClr val="ff3300"/>
                          </a:solidFill>
                          <a:uFillTx/>
                          <a:latin typeface="Calibri"/>
                          <a:cs typeface="Arial"/>
                        </a:rPr>
                        <a:t>يطرح منه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1" lang="en-GB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600" spc="-1" strike="noStrike" u="sng">
                          <a:solidFill>
                            <a:srgbClr val="ff3300"/>
                          </a:solidFill>
                          <a:uFillTx/>
                          <a:latin typeface="Calibri"/>
                          <a:cs typeface="Arial"/>
                        </a:rPr>
                        <a:t>يطرح منه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1" lang="en-GB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713520">
                <a:tc>
                  <a:txBody>
                    <a:bodyPr lIns="84240" rIns="84240" anchor="ctr">
                      <a:noAutofit/>
                    </a:bodyPr>
                    <a:p>
                      <a:pPr marL="533520" indent="-533520"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صكوك الموقو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GB" sz="1600" spc="-1" strike="noStrike">
                          <a:solidFill>
                            <a:schemeClr val="accent1"/>
                          </a:solidFill>
                          <a:latin typeface="Arial"/>
                        </a:rPr>
                        <a:t>20000</a:t>
                      </a:r>
                      <a:r>
                        <a:rPr b="1" lang="en-GB" sz="1600" spc="-1" strike="noStrike">
                          <a:solidFill>
                            <a:schemeClr val="accent1"/>
                          </a:solidFill>
                          <a:latin typeface="Arial"/>
                        </a:rPr>
                        <a:t>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شيكات المرفوضة (لعدم كفاية الرصيد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GB" sz="1800" spc="-1" strike="noStrike">
                          <a:solidFill>
                            <a:schemeClr val="accent1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1800" spc="-1" strike="noStrike">
                          <a:solidFill>
                            <a:schemeClr val="accent1"/>
                          </a:solidFill>
                          <a:latin typeface="Arial"/>
                        </a:rPr>
                        <a:t>18700</a:t>
                      </a:r>
                      <a:r>
                        <a:rPr b="1" lang="en-GB" sz="1800" spc="-1" strike="noStrike">
                          <a:solidFill>
                            <a:schemeClr val="accent1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040">
                <a:tc>
                  <a:txBody>
                    <a:bodyPr lIns="84240" rIns="84240" anchor="ctr">
                      <a:noAutofit/>
                    </a:bodyPr>
                    <a:p>
                      <a:pPr marL="533520" indent="-533520"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1" lang="en-GB" sz="1600" spc="-1" strike="noStrike" u="sng">
                        <a:solidFill>
                          <a:srgbClr val="ff3300"/>
                        </a:solidFill>
                        <a:uFillTx/>
                        <a:latin typeface="Calibri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صاريف وعمولة البن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chemeClr val="accent1"/>
                          </a:solidFill>
                          <a:latin typeface="Arial"/>
                        </a:rPr>
                        <a:t>(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3520">
                <a:tc>
                  <a:txBody>
                    <a:bodyPr lIns="84240" rIns="84240" anchor="ctr">
                      <a:noAutofit/>
                    </a:bodyPr>
                    <a:p>
                      <a:pPr marL="533520" indent="-533520"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1" lang="en-GB" sz="1600" spc="-1" strike="noStrike" u="sng">
                        <a:solidFill>
                          <a:srgbClr val="ff3300"/>
                        </a:solidFill>
                        <a:uFillTx/>
                        <a:latin typeface="Calibri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1" lang="en-GB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قيمة الخطأ في تسجيل قيمة الشيكات المسحوبة لصالح دائنى المنشأ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(الدائنون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GB" sz="1800" spc="-1" strike="noStrike">
                          <a:solidFill>
                            <a:schemeClr val="accent1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1800" spc="-1" strike="noStrike">
                          <a:solidFill>
                            <a:schemeClr val="accent1"/>
                          </a:solidFill>
                          <a:latin typeface="Arial"/>
                        </a:rPr>
                        <a:t>900</a:t>
                      </a:r>
                      <a:r>
                        <a:rPr b="1" lang="en-GB" sz="1800" spc="-1" strike="noStrike">
                          <a:solidFill>
                            <a:schemeClr val="accent1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480">
                <a:tc>
                  <a:txBody>
                    <a:bodyPr lIns="84240" rIns="84240" anchor="ctr">
                      <a:noAutofit/>
                    </a:bodyPr>
                    <a:p>
                      <a:pPr marL="533520" indent="-533520"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رصيد الصحي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chemeClr val="accent2">
                        <a:lumMod val="75000"/>
                      </a:schemeClr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chemeClr val="accent2">
                        <a:lumMod val="75000"/>
                      </a:schemeClr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رصيد الصحي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chemeClr val="accent2">
                        <a:lumMod val="75000"/>
                      </a:schemeClr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chemeClr val="accent2">
                        <a:lumMod val="75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6"/>
          <p:cNvSpPr/>
          <p:nvPr/>
        </p:nvSpPr>
        <p:spPr>
          <a:xfrm>
            <a:off x="951120" y="981000"/>
            <a:ext cx="6963120" cy="1064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1f497d"/>
            </a:solidFill>
            <a:miter/>
          </a:ln>
          <a:effectLst>
            <a:outerShdw algn="ctr" rotWithShape="0" sx="999" sy="999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r>
              <a:rPr b="1" lang="ar-SA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  <a:cs typeface="Arial"/>
              </a:rPr>
              <a:t>قيود التسوية اللازمة على حساب لبن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317880" y="1773360"/>
            <a:ext cx="82292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  <a:spcBef>
                <a:spcPts val="360"/>
              </a:spcBef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Calibri"/>
              </a:rPr>
              <a:t>1- </a:t>
            </a:r>
            <a:r>
              <a:rPr b="1" lang="ar-SA" sz="1800" spc="-1" strike="noStrike" u="sng">
                <a:solidFill>
                  <a:srgbClr val="ff3300"/>
                </a:solidFill>
                <a:uFillTx/>
                <a:latin typeface="Calibri"/>
              </a:rPr>
              <a:t>إثبات العمليات التي تمثل اضافة على حساب البنك بالسج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0000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من حـ/ البن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80000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إلى حـ/ أوراق القب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761760" y="2925000"/>
            <a:ext cx="78436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8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- إثبات العمليات التي تمثل خصم من حساب البنك بالدفات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من مذكو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70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حـ/ المدينون (الشيكات المرفوض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0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حـ/ مصاريف وعمولات البن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0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حـ/ الدائنين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200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إلى حـ/ البن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Num" idx="18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89AD44-440D-4D9D-A880-C34DF43D35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1436040" y="1413000"/>
            <a:ext cx="6330240" cy="4225680"/>
          </a:xfrm>
          <a:prstGeom prst="star24">
            <a:avLst>
              <a:gd name="adj" fmla="val 37500"/>
            </a:avLst>
          </a:prstGeom>
          <a:solidFill>
            <a:srgbClr val="ffff00"/>
          </a:solidFill>
          <a:ln w="762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5500" spc="-1" strike="noStrike">
                <a:solidFill>
                  <a:srgbClr val="000000"/>
                </a:solidFill>
                <a:latin typeface="Calibri"/>
              </a:rPr>
              <a:t>والان</a:t>
            </a:r>
            <a:r>
              <a:rPr b="1" lang="en-US" sz="5500" spc="-1" strike="noStrike">
                <a:solidFill>
                  <a:srgbClr val="000000"/>
                </a:solidFill>
                <a:latin typeface="Calibri"/>
              </a:rPr>
              <a:t>.........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r-SA" sz="55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1" lang="ar-JO" sz="5500" spc="-1" strike="noStrike">
                <a:solidFill>
                  <a:srgbClr val="000000"/>
                </a:solidFill>
                <a:latin typeface="Calibri"/>
              </a:rPr>
              <a:t>ختبر نفسك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Num" idx="19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1AC220-EF6D-41A2-90C2-AB94097722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844200" y="907920"/>
            <a:ext cx="7174080" cy="6472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ختر الاجابة الصحيح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tle 1"/>
          <p:cNvSpPr/>
          <p:nvPr/>
        </p:nvSpPr>
        <p:spPr>
          <a:xfrm>
            <a:off x="492480" y="1773360"/>
            <a:ext cx="8229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- عادة </a:t>
            </a:r>
            <a:r>
              <a:rPr b="1" lang="ar-SA" sz="2400" spc="-1" strike="noStrike" u="sng">
                <a:solidFill>
                  <a:srgbClr val="4b16aa"/>
                </a:solidFill>
                <a:uFillTx/>
                <a:latin typeface="Calibri"/>
                <a:cs typeface="Arial"/>
              </a:rPr>
              <a:t>لا يتطابق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رصيد حساب البنك الوارد بكشف حساب البنك مع رصيد حساب البنك المستخرج من السجلات المحاسبية بسب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172160" y="2924280"/>
            <a:ext cx="68457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أ- وجود عمليات مثبتة في السجلات ولم تثبت بكشف حساب البن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ب- وجود عمليات مثبتة بكشف حساب البنك ولم تقيد بسجلات الشرك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ج- وجود أخطاء تسجيل مرتكبة في سجلات الشركةوسجلات البن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د- كل ما سبق صحي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5292000" y="4797000"/>
            <a:ext cx="284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لإجابة الصحيحة  (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Num" idx="20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DB3DBA-AA69-44E9-996C-820376A3CD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itle 1"/>
          <p:cNvSpPr/>
          <p:nvPr/>
        </p:nvSpPr>
        <p:spPr>
          <a:xfrm>
            <a:off x="844200" y="907920"/>
            <a:ext cx="7174080" cy="6472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ختر الاجابة الصحيح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itle 1"/>
          <p:cNvSpPr/>
          <p:nvPr/>
        </p:nvSpPr>
        <p:spPr>
          <a:xfrm>
            <a:off x="492480" y="1773360"/>
            <a:ext cx="8229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- عند إعداد كشف مطابقة حساب البنك يتم إجراء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قيود تسوية لتلك العمليات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172160" y="2924280"/>
            <a:ext cx="684576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أ- التي سجلتها الشركةفي سجلاتها ولم يسجلها البن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ب- التي سجلها كلا من البنك والشركة في سجلاتهما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ج-التي سجلها البنك في سجلاته ولم تسجلها الشرك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د- التي لم تسجل في سجلات البنك أو الشرك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5364000" y="4911840"/>
            <a:ext cx="284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لإجابة الصحيحة  (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Num" idx="21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28B67B6-82BB-4C71-B361-B88E52CF89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itle 1"/>
          <p:cNvSpPr/>
          <p:nvPr/>
        </p:nvSpPr>
        <p:spPr>
          <a:xfrm>
            <a:off x="844200" y="907920"/>
            <a:ext cx="7174080" cy="6472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ختر الاجابة الصحيح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tle 1"/>
          <p:cNvSpPr/>
          <p:nvPr/>
        </p:nvSpPr>
        <p:spPr>
          <a:xfrm>
            <a:off x="492480" y="2090880"/>
            <a:ext cx="8229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- عند إعداد كشف مطابقة حساب البنك فإن الايداعات بالطريق المرسلة للبن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1172160" y="2924280"/>
            <a:ext cx="684576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أ- تطرح من الرصيد الوارد بكشف حساب البن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ب- تطرح من رصيد البنك المستخرج من سجلات الشرك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ج- تضاف إلى الرصيد الوارد بكشف حساب البن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د- تضاف إلى رصيد البنك المستخرج من سجلات الشرك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5207760" y="4911840"/>
            <a:ext cx="284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لإجابة الصحيحة  (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Num" idx="22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6849D84-E58A-4B7C-A7D1-A68275EE6C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itle 1"/>
          <p:cNvSpPr/>
          <p:nvPr/>
        </p:nvSpPr>
        <p:spPr>
          <a:xfrm>
            <a:off x="844200" y="907920"/>
            <a:ext cx="7174080" cy="6472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ختر الاجابة الصحيح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tle 1"/>
          <p:cNvSpPr/>
          <p:nvPr/>
        </p:nvSpPr>
        <p:spPr>
          <a:xfrm>
            <a:off x="492480" y="1773360"/>
            <a:ext cx="8229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- عند إعداد كشف مطابقة حساب البنك فإن </a:t>
            </a:r>
            <a:r>
              <a:rPr b="1" lang="ar-SA" sz="2400" spc="-1" strike="noStrike" u="sng">
                <a:solidFill>
                  <a:srgbClr val="17375e"/>
                </a:solidFill>
                <a:uFillTx/>
                <a:latin typeface="Calibri"/>
                <a:cs typeface="Arial"/>
              </a:rPr>
              <a:t>الشيكات المحررة للمستفيدين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(للموردين أو الدائنيين) ولم يتقدموا بعد لصرفه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1172160" y="2924280"/>
            <a:ext cx="684576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أ- تطرح من الرصيد الوارد بكشف حساب البن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ب- تطرح من رصيد البنك المستخرج من سجلات الشرك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ج- تضاف إلى الرصيد الوارد بكشف حساب البن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ar-SA" sz="2000" spc="-1" strike="noStrike">
                <a:solidFill>
                  <a:srgbClr val="013e36"/>
                </a:solidFill>
                <a:latin typeface="Calibri"/>
              </a:rPr>
              <a:t>د- تضاف إلى رصيد البنك المستخرج من سجلات الشرك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174280" y="4911840"/>
            <a:ext cx="284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لإجابة الصحيحة  (أ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othecary</Template>
  <TotalTime>680</TotalTime>
  <Application>LibreOffice/7.4.7.2$Linux_X86_64 LibreOffice_project/40$Build-2</Application>
  <AppVersion>15.0000</AppVersion>
  <Words>559</Words>
  <Paragraphs>106</Paragraphs>
  <Company>Enjoy My Fine Releases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4T16:34:00Z</dcterms:created>
  <dc:creator>win7</dc:creator>
  <dc:description/>
  <dc:language>en-US</dc:language>
  <cp:lastModifiedBy>Dr. Bushra</cp:lastModifiedBy>
  <dcterms:modified xsi:type="dcterms:W3CDTF">2019-04-02T18:19:30Z</dcterms:modified>
  <cp:revision>62</cp:revision>
  <dc:subject/>
  <dc:title>تطوير القاعدة المحاسبية العراقية "1" على وفق متطلبات معيار الإبلاغ المالي الدولي  15 IFRS " الإيرادات من العقود من الزبائن" Develop the Iraqi Accounting Rule 1 According to the requirements of International Financial Reporting Standards IFRS 15 "Revenues from Contracts with Customers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