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33A-E4F5-490C-BD54-348A7AFA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D50-7068-4382-9114-C93DDA4D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DA1-192F-4FF0-86DB-C5376F81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704-885A-4FF9-AE97-8B2ED2D6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964B-B3E2-4CFF-82BB-DD3A78A5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9251-B96B-465D-A900-6AB9D930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8DD0-BE1B-4037-9FFF-C3C06851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C3EE-5375-4655-AB03-61284DA5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2C32-A3CF-4F26-AAF6-E70573AD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CF4C-0670-458A-B4A3-39B43F49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08C7-1820-42FA-87C6-C7E2D09B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B37-4A21-484C-8955-CEEBE3C6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29AE-F7B8-415B-A960-262FA623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DB44-9596-4E32-A316-7E9EDCAC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53AB-4B4D-4ED5-A783-F78FBC20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C6FA-B56E-4159-B4E9-30CCF65A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E57C-8DF6-4103-94C2-9A9E5400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421-F8AA-4532-978D-32F2C940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465-05D1-4787-85F9-CDFCD59D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374-9506-4F92-855D-AD6E3878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338-41EC-44E1-B62E-ABEF0893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263-E92A-4451-A942-7879F400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C9B-60A2-43E1-A60F-B5E562F9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493-36EF-4C8C-B83E-EB917F24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0C09D4-E10C-4C51-9309-3DDE2FA1106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A9DEDF-64FF-48D2-AF8E-05644419FC6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77720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4400" spc="-1" strike="noStrike">
                <a:solidFill>
                  <a:srgbClr val="000000"/>
                </a:solidFill>
                <a:latin typeface="Calibri"/>
              </a:rPr>
              <a:t>مبادئ المحاسبة </a:t>
            </a:r>
            <a:br>
              <a:rPr sz="4400"/>
            </a:br>
            <a:r>
              <a:rPr b="0" lang="ar-IQ" sz="4400" spc="-1" strike="noStrike">
                <a:solidFill>
                  <a:srgbClr val="000000"/>
                </a:solidFill>
                <a:latin typeface="Calibri"/>
              </a:rPr>
              <a:t>المرحلة الاول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4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م. سهاد كشكول عب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قسم الادارة الصن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الكورس الاول-مادة محاسبة-قسم ادارة صناعية.doc [Compatibility Mode] - Microsoft Word"/>
          <p:cNvPicPr/>
          <p:nvPr/>
        </p:nvPicPr>
        <p:blipFill>
          <a:blip r:embed="rId1"/>
          <a:srcRect l="27369" t="30086" r="27367" b="34495"/>
          <a:stretch/>
        </p:blipFill>
        <p:spPr>
          <a:xfrm>
            <a:off x="838080" y="914400"/>
            <a:ext cx="7314840" cy="167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الكورس الاول-مادة محاسبة-قسم ادارة صناعية.doc [Compatibility Mode] - Microsoft Word"/>
          <p:cNvPicPr/>
          <p:nvPr/>
        </p:nvPicPr>
        <p:blipFill>
          <a:blip r:embed="rId2"/>
          <a:srcRect l="31053" t="25966" r="30878" b="17331"/>
          <a:stretch/>
        </p:blipFill>
        <p:spPr>
          <a:xfrm>
            <a:off x="1295280" y="3124080"/>
            <a:ext cx="64767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6139" t="21080" r="29122" b="4292"/>
          <a:stretch/>
        </p:blipFill>
        <p:spPr>
          <a:xfrm>
            <a:off x="685800" y="838080"/>
            <a:ext cx="769572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الكورس الاول-مادة محاسبة-قسم ادارة صناعية.doc [Compatibility Mode] - Microsoft Word"/>
          <p:cNvPicPr/>
          <p:nvPr/>
        </p:nvPicPr>
        <p:blipFill>
          <a:blip r:embed="rId1"/>
          <a:srcRect l="26317" t="19774" r="30000" b="4947"/>
          <a:stretch/>
        </p:blipFill>
        <p:spPr>
          <a:xfrm>
            <a:off x="914400" y="762120"/>
            <a:ext cx="7009920" cy="5257440"/>
          </a:xfrm>
          <a:prstGeom prst="rect">
            <a:avLst/>
          </a:prstGeom>
          <a:ln w="0">
            <a:solidFill>
              <a:srgbClr val="ffffff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8947" t="33464" r="31756" b="7228"/>
          <a:stretch/>
        </p:blipFill>
        <p:spPr>
          <a:xfrm>
            <a:off x="380880" y="838080"/>
            <a:ext cx="7695720" cy="51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الكورس الاول-مادة محاسبة-قسم ادارة صناعية.doc [Compatibility Mode] - Microsoft Word"/>
          <p:cNvPicPr/>
          <p:nvPr/>
        </p:nvPicPr>
        <p:blipFill>
          <a:blip r:embed="rId1"/>
          <a:srcRect l="25439" t="25316" r="29122" b="32321"/>
          <a:stretch/>
        </p:blipFill>
        <p:spPr>
          <a:xfrm>
            <a:off x="380880" y="685800"/>
            <a:ext cx="7772040" cy="50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  <Words>9</Words>
  <Paragraphs>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hp 620</dc:creator>
  <dc:description/>
  <dc:language>en-US</dc:language>
  <cp:lastModifiedBy>DR.Ahmed Saker 2o1O</cp:lastModifiedBy>
  <dcterms:modified xsi:type="dcterms:W3CDTF">2019-02-27T18:31:19Z</dcterms:modified>
  <cp:revision>4</cp:revision>
  <dc:subject/>
  <dc:title>  مبادئ المحاسبة  المرحلة الاول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