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F1D-D3EC-43F7-8D26-0CF8361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0CA-6528-48F4-8499-89F62D7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9F0-00BD-4563-B502-5BE97E42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A8D-1905-4821-BC2C-218093D9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2B5F-F3EB-4A82-B53C-9EEFB631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247-198E-4AF5-87E6-102265A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CC79-025F-4D9D-8846-306455DA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2840-1D83-450F-90F5-18F03D1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9CA-124A-40E8-9C63-E8FA53D9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213-D68B-4327-B4EF-CB0B2BA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950A-F55C-4A36-A62E-4354E0B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882-E54E-4CDA-84FB-0C248C4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A2E-C547-4463-8697-0474149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142B-1B8A-4761-8183-2BB043D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E3FF-3A11-4677-ACFF-B2F942D6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E6F8-5126-440C-8569-F6CAAE72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E1B-5AC8-447B-8DF0-1D2A487D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FA7-FD83-4F95-AE23-45AC132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DA2-180C-4A3A-8970-EF39D2AA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874-C5DA-4E40-9251-94D1F8E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72D-84C8-4A41-A218-8A56B3F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F05-2DC8-4F2C-93D9-6927B64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8E0-E066-472B-983D-130F1BB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004-AE76-4154-B962-4E45A92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A0B850-BB21-4F19-BC9D-E06C920DF5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A1A0BC-07CF-4566-A46B-D7BF23123F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7720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الكورس الاول-مادة محاسبة-قسم ادارة صناعية.doc [Compatibility Mode] - Microsoft Word"/>
          <p:cNvPicPr/>
          <p:nvPr/>
        </p:nvPicPr>
        <p:blipFill>
          <a:blip r:embed="rId1"/>
          <a:srcRect l="27369" t="30086" r="27367" b="34495"/>
          <a:stretch/>
        </p:blipFill>
        <p:spPr>
          <a:xfrm>
            <a:off x="838080" y="914400"/>
            <a:ext cx="7314840" cy="167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الكورس الاول-مادة محاسبة-قسم ادارة صناعية.doc [Compatibility Mode] - Microsoft Word"/>
          <p:cNvPicPr/>
          <p:nvPr/>
        </p:nvPicPr>
        <p:blipFill>
          <a:blip r:embed="rId2"/>
          <a:srcRect l="31053" t="25966" r="30878" b="17331"/>
          <a:stretch/>
        </p:blipFill>
        <p:spPr>
          <a:xfrm>
            <a:off x="1295280" y="3124080"/>
            <a:ext cx="6476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139" t="21080" r="29122" b="4292"/>
          <a:stretch/>
        </p:blipFill>
        <p:spPr>
          <a:xfrm>
            <a:off x="685800" y="838080"/>
            <a:ext cx="76957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الكورس الاول-مادة محاسبة-قسم ادارة صناعية.doc [Compatibility Mode] - Microsoft Word"/>
          <p:cNvPicPr/>
          <p:nvPr/>
        </p:nvPicPr>
        <p:blipFill>
          <a:blip r:embed="rId1"/>
          <a:srcRect l="26317" t="19774" r="30000" b="4947"/>
          <a:stretch/>
        </p:blipFill>
        <p:spPr>
          <a:xfrm>
            <a:off x="914400" y="762120"/>
            <a:ext cx="7009920" cy="525744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8947" t="33464" r="31756" b="7228"/>
          <a:stretch/>
        </p:blipFill>
        <p:spPr>
          <a:xfrm>
            <a:off x="380880" y="838080"/>
            <a:ext cx="769572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5439" t="25316" r="29122" b="32321"/>
          <a:stretch/>
        </p:blipFill>
        <p:spPr>
          <a:xfrm>
            <a:off x="380880" y="685800"/>
            <a:ext cx="777204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  <Words>9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18:31:19Z</dcterms:modified>
  <cp:revision>4</cp:revision>
  <dc:subject/>
  <dc:title>  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