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267-E52C-4CC0-8B3C-E881E024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C17-FFF2-4F4E-BAEA-5D9B66A3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8DF-6814-41F1-B9D2-38CB875D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99FC-1D50-4D2F-B995-B8FB37B6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8C8C-DD1B-4207-AE4D-3559988F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2D31-B1C1-4DCC-908C-C48326D8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DFA0-93B6-486A-AF0D-842406E0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7105-A4EE-4BD8-B3CE-7E468EF6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110E-504A-4C6B-A7B0-EB9A2431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4AE3-07E6-4C3A-BA5C-76F599E0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FF63-979A-43C0-9631-E9562026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D821-0DFD-4D05-91B4-07E1B366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8E06-A407-44D8-ACBD-99A1F772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FE2A-3DC1-4340-9C7D-0276D307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0B45-00CF-4517-AD23-F84E2049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5B71-5719-4215-86DC-E4671AF4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A485-6BC7-4FE0-84CD-AB51C82E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6AD1-553D-4B8D-9DCE-433EEA0A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1FD3-75CA-46C3-8F22-11A17C0C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6F61-83E4-4CA2-A736-2C2445E8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69C0-7A4E-429F-AD36-2992F19D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0F77-648A-467B-97F5-3FACD363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F833-9D7B-41F7-A4B5-13B06DCC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963E-0D17-4E65-A544-D2C1C291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9EF313-5B8A-472A-93DD-155B3984716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281D65-9D39-497B-882D-4332EA888B2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IQ" sz="4400" spc="-1" strike="noStrike">
                <a:solidFill>
                  <a:srgbClr val="000000"/>
                </a:solidFill>
                <a:latin typeface="Calibri"/>
              </a:rPr>
              <a:t>مبادئ المحاسبة </a:t>
            </a:r>
            <a:br>
              <a:rPr sz="4400"/>
            </a:br>
            <a:r>
              <a:rPr b="0" lang="ar-IQ" sz="4400" spc="-1" strike="noStrike">
                <a:solidFill>
                  <a:srgbClr val="000000"/>
                </a:solidFill>
                <a:latin typeface="Calibri"/>
              </a:rPr>
              <a:t>المرحلة الاول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م. سهاد كشكول عب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قسم الادارة الصنا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الكورس الاول-مادة محاسبة-قسم ادارة صناعية.doc [Compatibility Mode] - Microsoft Word"/>
          <p:cNvPicPr/>
          <p:nvPr/>
        </p:nvPicPr>
        <p:blipFill>
          <a:blip r:embed="rId1"/>
          <a:srcRect l="31053" t="24661" r="32456" b="11464"/>
          <a:stretch/>
        </p:blipFill>
        <p:spPr>
          <a:xfrm>
            <a:off x="1066680" y="762120"/>
            <a:ext cx="716256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الكورس الاول-مادة محاسبة-قسم ادارة صناعية.doc [Compatibility Mode] - Microsoft Word"/>
          <p:cNvPicPr/>
          <p:nvPr/>
        </p:nvPicPr>
        <p:blipFill>
          <a:blip r:embed="rId1"/>
          <a:srcRect l="27192" t="23356" r="28247" b="16026"/>
          <a:stretch/>
        </p:blipFill>
        <p:spPr>
          <a:xfrm>
            <a:off x="152280" y="990720"/>
            <a:ext cx="85341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الكورس الاول-مادة محاسبة-قسم ادارة صناعية.doc [Compatibility Mode] - Microsoft Word"/>
          <p:cNvPicPr/>
          <p:nvPr/>
        </p:nvPicPr>
        <p:blipFill>
          <a:blip r:embed="rId1"/>
          <a:srcRect l="25964" t="30528" r="30000" b="31996"/>
          <a:stretch/>
        </p:blipFill>
        <p:spPr>
          <a:xfrm>
            <a:off x="533520" y="990720"/>
            <a:ext cx="7619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الكورس الاول-مادة محاسبة-قسم ادارة صناعية.doc [Compatibility Mode] - Microsoft Word"/>
          <p:cNvPicPr/>
          <p:nvPr/>
        </p:nvPicPr>
        <p:blipFill>
          <a:blip r:embed="rId1"/>
          <a:srcRect l="25264" t="27272" r="31053" b="20262"/>
          <a:stretch/>
        </p:blipFill>
        <p:spPr>
          <a:xfrm>
            <a:off x="380880" y="1219320"/>
            <a:ext cx="7619760" cy="43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الكورس الاول-مادة محاسبة-قسم ادارة صناعية.doc [Compatibility Mode] - Microsoft Word"/>
          <p:cNvPicPr/>
          <p:nvPr/>
        </p:nvPicPr>
        <p:blipFill>
          <a:blip r:embed="rId1"/>
          <a:srcRect l="26139" t="27597" r="33508" b="33296"/>
          <a:stretch/>
        </p:blipFill>
        <p:spPr>
          <a:xfrm>
            <a:off x="533520" y="990720"/>
            <a:ext cx="7009920" cy="42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الكورس الاول-مادة محاسبة-قسم ادارة صناعية.doc [Compatibility Mode] - Microsoft Word"/>
          <p:cNvPicPr/>
          <p:nvPr/>
        </p:nvPicPr>
        <p:blipFill>
          <a:blip r:embed="rId1"/>
          <a:srcRect l="25439" t="22055" r="30350" b="33626"/>
          <a:stretch/>
        </p:blipFill>
        <p:spPr>
          <a:xfrm>
            <a:off x="457200" y="685800"/>
            <a:ext cx="7619760" cy="47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الكورس الاول-مادة محاسبة-قسم ادارة صناعية.doc [Compatibility Mode] - Microsoft Word"/>
          <p:cNvPicPr/>
          <p:nvPr/>
        </p:nvPicPr>
        <p:blipFill>
          <a:blip r:embed="rId1"/>
          <a:srcRect l="27367" t="30528" r="27544" b="31996"/>
          <a:stretch/>
        </p:blipFill>
        <p:spPr>
          <a:xfrm>
            <a:off x="762120" y="990720"/>
            <a:ext cx="7772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الكورس الاول-مادة محاسبة-قسم ادارة صناعية.doc [Compatibility Mode] - Microsoft Word"/>
          <p:cNvPicPr/>
          <p:nvPr/>
        </p:nvPicPr>
        <p:blipFill>
          <a:blip r:embed="rId1"/>
          <a:srcRect l="26842" t="28247" r="28247" b="31020"/>
          <a:stretch/>
        </p:blipFill>
        <p:spPr>
          <a:xfrm>
            <a:off x="685800" y="685800"/>
            <a:ext cx="71625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الكورس الاول-مادة محاسبة-قسم ادارة صناعية.doc [Compatibility Mode] - Microsoft Word"/>
          <p:cNvPicPr/>
          <p:nvPr/>
        </p:nvPicPr>
        <p:blipFill>
          <a:blip r:embed="rId1"/>
          <a:srcRect l="28597" t="23686" r="30175" b="20917"/>
          <a:stretch/>
        </p:blipFill>
        <p:spPr>
          <a:xfrm>
            <a:off x="685800" y="838080"/>
            <a:ext cx="74671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  <Words>12</Words>
  <Paragraphs>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hp 620</dc:creator>
  <dc:description/>
  <dc:language>en-US</dc:language>
  <cp:lastModifiedBy>DR.Ahmed Saker 2o1O</cp:lastModifiedBy>
  <dcterms:modified xsi:type="dcterms:W3CDTF">2019-02-27T18:59:23Z</dcterms:modified>
  <cp:revision>3</cp:revision>
  <dc:subject/>
  <dc:title> مبادئ المحاسبة  المرحلة الاول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0</vt:r8>
  </property>
</Properties>
</file>