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E35-7EB4-43FB-8966-269A5005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397-A51E-4514-9B01-C1B7AC2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FDD-4197-4774-B01F-00B206C2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DFC-06E7-476F-B3AF-28C19A1B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3FC-F7F9-4BBB-BBE0-A6196EA5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156-090B-4065-AC9D-CA4E49FD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7708-974D-4523-8899-3297512A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ACD2-9F05-40C9-A478-376D38B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810B-C9E8-4746-8FB0-BB9DB81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94BE-63AB-4DC1-8888-4F9AC5D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02A2-EF47-410D-9DD6-BA858CE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2B7-8F26-42D2-B5D0-234E1E8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E33-08BF-4DFF-B61C-887F964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083-A719-4E5A-9633-248AC7D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ADF7-FDE2-4700-9E02-EA53C6A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E07-0B66-4E11-94B7-4DA185F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A9BD-2B01-4E6C-8893-4F8649D0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5B8-CCC6-43D4-A2D3-B3577DDD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733-57FB-4320-A912-55F961CF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522-69C5-42C0-BB8D-8918FAA6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BE2-D2D8-4008-8346-30A1181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D2E-869A-48B2-948E-18C388E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C8B-4378-49CA-A325-07EF61E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BB9-21E6-42B1-90A5-41B247F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7A943A-C1C2-448C-AF5B-57C5FA26E8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02050-F04C-486D-ADBF-257FE64DF94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19475" t="32483" r="54211" b="6248"/>
          <a:stretch/>
        </p:blipFill>
        <p:spPr>
          <a:xfrm>
            <a:off x="1295280" y="1058760"/>
            <a:ext cx="73911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317" t="27922" r="30525" b="26454"/>
          <a:stretch/>
        </p:blipFill>
        <p:spPr>
          <a:xfrm>
            <a:off x="609480" y="838080"/>
            <a:ext cx="7314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12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20:18:16Z</dcterms:modified>
  <cp:revision>2</cp:revision>
  <dc:subject/>
  <dc:title> 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