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E9A-D071-48FE-A7B4-D5EABD2D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8A1-10B5-4340-82EF-7CBFFF67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345-D923-47BA-804D-9333FD22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2F9B-D22C-4BF7-B820-14F4CA1D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7C3C-782B-46AF-8CE5-E73ACEF3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F549-3D86-47D2-9925-240A5F97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D35D-DFB8-48CE-A886-08968F45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0002-E934-409C-BBBC-1D18DA97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BCCB-0EFA-4554-8AC6-75D98C0E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BF8A-9A55-406F-81E7-B23C7AAC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9378-487A-4F75-AD99-826E7B05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EF7-2407-44D8-A506-44453B67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451D-BE72-4E3F-A1DC-B9E0CEA9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242F-6075-4896-975D-C9CBA243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DE8E-1AD4-451A-95F6-F2D9AB8C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B370-E0F3-4EC3-82E2-1ACD39E4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E6C0-A893-490D-B29A-BD8347AB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EDC-1313-411F-9277-FD169892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F9B-6406-47B2-A266-31558214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1D66-A17F-4777-8356-B5FBCE5A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46DE-B426-4DE7-81F1-F1B6D7AF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6349-70FD-413B-BB31-4EF7EBF8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520-E81A-4B33-A29B-D8D72A9A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E19-51B1-47AF-87EB-7A4FB79E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517AE9-409B-48D7-9112-D63C71063ED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6494CA-EF74-42E2-8960-9A4B388FAF3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IQ" sz="4400" spc="-1" strike="noStrike">
                <a:solidFill>
                  <a:srgbClr val="000000"/>
                </a:solidFill>
                <a:latin typeface="Calibri"/>
              </a:rPr>
              <a:t>مبادئ المحاسبة </a:t>
            </a:r>
            <a:br>
              <a:rPr sz="4400"/>
            </a:br>
            <a:r>
              <a:rPr b="0" lang="ar-IQ" sz="4400" spc="-1" strike="noStrike">
                <a:solidFill>
                  <a:srgbClr val="000000"/>
                </a:solidFill>
                <a:latin typeface="Calibri"/>
              </a:rPr>
              <a:t>المرحلة الاول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م. سهاد كشكول عب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قسم الادارة الصنا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19475" t="32483" r="54211" b="6248"/>
          <a:stretch/>
        </p:blipFill>
        <p:spPr>
          <a:xfrm>
            <a:off x="1295280" y="1058760"/>
            <a:ext cx="739116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26317" t="27922" r="30525" b="26454"/>
          <a:stretch/>
        </p:blipFill>
        <p:spPr>
          <a:xfrm>
            <a:off x="609480" y="838080"/>
            <a:ext cx="73148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  <Words>12</Words>
  <Paragraphs>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hp 620</dc:creator>
  <dc:description/>
  <dc:language>en-US</dc:language>
  <cp:lastModifiedBy>DR.Ahmed Saker 2o1O</cp:lastModifiedBy>
  <dcterms:modified xsi:type="dcterms:W3CDTF">2019-02-27T20:18:16Z</dcterms:modified>
  <cp:revision>2</cp:revision>
  <dc:subject/>
  <dc:title> مبادئ المحاسبة  المرحلة الاول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</vt:r8>
  </property>
</Properties>
</file>