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328-7DE6-4F81-8EFD-71B23C29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DB0-A0A8-4773-951C-003B339F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162-6519-4106-9C92-BA4C18DC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5A0-ECDB-4287-B8F7-5F9F0656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E212-9BE7-4399-8904-FE94C1F8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7D11-C30A-4341-8CAB-5B647DB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F17F-6CC8-4462-97F6-EEA72691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3A1A-D87A-4307-832D-1C95F6A0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2D52-2B16-4914-A00D-DDE9C7AB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5045-A778-426E-B16D-3D845DD3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6A44-1C1B-4271-953E-1524BCD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2C0-2D1D-4AE1-8612-2D8D6E1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2E46-CB77-43F4-84DA-0527206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0C4E-83F4-4A5D-ACE5-938A6009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3672-0299-4400-8234-2A970D8F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363F-1FA0-478F-92D5-38A8E269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21E7-6AEE-4A76-A5AA-713456DD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277-24A7-41CD-AD76-88DC54E2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840-D321-4765-97BC-0433A5F6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6DE-7360-47DB-A1FD-62FA6AA6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419-BF1E-48CE-8B8B-A148466F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1E7-1C88-4EF7-8DBF-8B17C5F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352-503E-4935-A694-62F4F747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595-06CF-45D8-AB1D-A692BAB5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1DBDE0-53EB-4327-B3DC-3A5ED08E2C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733E49-2C01-456A-A68B-DE643DF245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مبادئ المحاسبة </a:t>
            </a:r>
            <a:br>
              <a:rPr sz="4400"/>
            </a:b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مرحلة الا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م. سهاد كشكول عب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قسم الادارة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33858" t="41281" r="32283" b="10489"/>
          <a:stretch/>
        </p:blipFill>
        <p:spPr>
          <a:xfrm>
            <a:off x="1295280" y="1143000"/>
            <a:ext cx="6857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8772" t="34764" r="29650" b="19287"/>
          <a:stretch/>
        </p:blipFill>
        <p:spPr>
          <a:xfrm>
            <a:off x="838080" y="914400"/>
            <a:ext cx="7009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8422" t="28897" r="29297" b="6578"/>
          <a:stretch/>
        </p:blipFill>
        <p:spPr>
          <a:xfrm>
            <a:off x="685800" y="762120"/>
            <a:ext cx="7238520" cy="48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30528" t="27267" r="28597" b="11464"/>
          <a:stretch/>
        </p:blipFill>
        <p:spPr>
          <a:xfrm>
            <a:off x="914400" y="685800"/>
            <a:ext cx="746712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  <Words>11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p 620</dc:creator>
  <dc:description/>
  <dc:language>en-US</dc:language>
  <cp:lastModifiedBy>DR.Ahmed Saker 2o1O</cp:lastModifiedBy>
  <dcterms:modified xsi:type="dcterms:W3CDTF">2019-02-27T21:13:05Z</dcterms:modified>
  <cp:revision>3</cp:revision>
  <dc:subject/>
  <dc:title>مبادئ المحاسبة  المرحلة الاول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