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673-0661-45D4-BF09-6EF27311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06D-2EFC-4D0D-9A6D-8E249464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31D-5B80-43BD-A87A-D31B04B6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FB6-E5D6-41C4-87A6-A3DAA211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EC00-BCC9-4887-A9AB-FDB1F154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D998-C11A-43CD-A4F9-3FFFFD06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48B5-4B91-4EC8-BE67-A5DE075D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F13B-CA57-40D9-B3A4-2D4A1FF8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7281-827F-415C-90B3-BE6A6ABA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83D7-3B0B-4A82-80AB-D5D49702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00FA-3739-464A-AC82-8E038F5A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F21-9479-4C0A-9337-31DEF747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295B-404F-42AA-AF3D-7B4C9598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D5F4-4123-4B87-BA34-16C2AFA2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3728-DF53-46C5-A2D5-B6E872DB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52D3-C64E-410A-AD2F-C564354B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E51E-4A72-49D8-8D80-E93F9C7B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B95B-5DCD-438C-AA10-29FAC097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B11B-433D-4BAA-BD37-05689111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C86D-7200-4E1F-8A40-097A1C30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4B86-1BB5-457D-B12F-3EE1CFB8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A9DA7-7F74-4613-9C94-74EE3943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518-C763-436A-A1AE-8AC8E516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916B-1459-42AB-B820-1C89EACB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CC7B7-BBF5-4034-918C-3821F003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D0A4-23BE-4C78-B953-7573C270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B8374-06A8-45E0-AC95-63F4FB1D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87EDE-8E0B-4532-815E-86962950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A426-EFDC-4713-92E0-3AACFD77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3B69-680B-4A46-B9D3-7EC1B780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FB3-C9A2-40FE-9591-3617931E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6EA-F8B8-4ADF-9CDB-4BF56F90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682-176E-4B87-A6C1-07D4FB25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DCD-27D8-4481-BED3-41DFE883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567-4AEB-41D8-9EE3-E333F077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2DD-2FDD-4D9F-8483-B23404F0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A86F50A1-44A1-4A16-829E-4587EE47397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FAA77A8-5D2B-47F8-AC73-F1E3D7B80A4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788CF1E-E57A-4495-BBFC-000FD4C97C5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دخل الى المشاريع 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جزء الاو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40640"/>
            <a:ext cx="777204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4400" spc="-1" strike="noStrike">
                <a:solidFill>
                  <a:srgbClr val="000000"/>
                </a:solidFill>
                <a:latin typeface="Calibri"/>
                <a:cs typeface="Arial"/>
              </a:rPr>
              <a:t>تعتبر إدارة المشاريع في الوقت الحاضر ذات أولوية عالية للغاية حيث أن جميع المنظمات، سواء كانت صغيرة أو كبيرة ، تشارك في وقت أو آخر في تنفيذ مشاريع وابتكارات وتغييرات جديدة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72640"/>
            <a:ext cx="777204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4000" spc="-1" strike="noStrike">
                <a:solidFill>
                  <a:srgbClr val="000000"/>
                </a:solidFill>
                <a:latin typeface="Calibri"/>
              </a:rPr>
              <a:t>المشروع هو مسعى مؤقت يتخذ من أجل إنشاء منتج فريد أو نتيجة فريدة. وتشير الطبيعة المؤقتة للمشروعات إلى أن المشروع يكون له بداية ونهاية محددة. و يتم الوصول إلى نهاية المشروع عندما تتحقق أهدافه أو قد يتم إنهاء المشروع لأن أهدافه لن يتم تحقيقها أو لا يمكن تحقيقها، أو عندما لا تكون هناك حاجة إلى المشروع 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403640" y="764640"/>
            <a:ext cx="525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IQ" sz="4800" spc="-1" strike="noStrike">
                <a:solidFill>
                  <a:srgbClr val="000000"/>
                </a:solidFill>
                <a:latin typeface="Calibri"/>
              </a:rPr>
              <a:t>مفهوم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 المشرو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04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ويمكن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أيض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أن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يت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إنهائه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إذ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كان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الزبون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أو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راعي المشروع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يرغب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في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الإنهاء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وكلم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"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مؤقت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"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ل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تعني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بالضرور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أن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مد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قصير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فهي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تشير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إل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المشارك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في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وطول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عمره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ول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تنطب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كلم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"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مؤقت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مؤقت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"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عاد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عل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المنتج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أو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الخدم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أو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النتيج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التي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أنشأه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؛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حيث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يت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القيا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بمعظ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ات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من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أجل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إنشاء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نتائج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  <a:cs typeface="Arial"/>
              </a:rPr>
              <a:t>دائم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040" cy="475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ويمكن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أن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ينشئ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م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يلي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نتجً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يمك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أ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يكو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إم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كونً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سلع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أخرى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حسينً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سلعة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سلع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نهائ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ح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ذات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خدم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قدر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أدا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خدم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سبي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مثال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وظيف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جار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دع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إنتا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توزي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68640"/>
            <a:ext cx="7772040" cy="49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 تحسينً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منت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موجو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بالفع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خطو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خدما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قائم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سبي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مثال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شرو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Six Sigm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أقي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لح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خل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نتيجة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كمُخرَ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وثيق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سبي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مثال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شرو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بحث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يطو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عرف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يمك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ستخدام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تحدي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إذ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كا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هنا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تجا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قائ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مل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جديد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سو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عو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بالفائد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مجتم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68640"/>
            <a:ext cx="7772040" cy="49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</a:rPr>
              <a:t>تشترك المشاريع بثلاث اهداف رئيسية ( الوقت و الكلفة و الجودة ) و تختلف الأهمية النسبية لكل هدف لمشاريع مختلفة.  بعض مشاريع الفضاء الجوي ، مثل تطوير طائرة جديدة ، والتي تؤثر على سلامة الركاب ، سوف تركز بشكل كبير على أهداف الجودة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411640" y="476640"/>
            <a:ext cx="5688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IQ" sz="4000" spc="-1" strike="noStrike">
                <a:solidFill>
                  <a:srgbClr val="000000"/>
                </a:solidFill>
                <a:latin typeface="Calibri"/>
              </a:rPr>
              <a:t>اهداف المشرو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040" cy="49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</a:rPr>
              <a:t>مشروع بحثي يتم تمويله من خلال منحة حكومية ثابتة ، قد تكون التكلفة هي السائدة. وتؤكد مشاريع أخر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عل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الوقت: على سبيل المثال ، يجب تنظيم مهرجان للموسيقى في الهواء الطلق في تاريخ معين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هنا الوقت مهم من اجل ان </a:t>
            </a:r>
            <a:r>
              <a:rPr b="1" lang="ar-IQ" sz="4000" spc="-1" strike="noStrike">
                <a:solidFill>
                  <a:srgbClr val="000000"/>
                </a:solidFill>
                <a:latin typeface="Calibri"/>
              </a:rPr>
              <a:t>يحق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المشروع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أهدافه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45000"/>
            <a:ext cx="7772040" cy="453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*Project management institute(2013), project management body of knowledge, fifth edition, library of congress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A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*Slack, Nigel &amp; Brandon-Jones, Alistair &amp; Johnston, Robert(2013), Operation Management, Seventh Edition,UK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ysocki , Robert K.(2009)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ffective Project Management: Traditional, Agile, Extre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Fifth Edition, Wiley Publishing, Inc., USA.</a:t>
            </a:r>
            <a:br>
              <a:rPr sz="2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907640" y="548640"/>
            <a:ext cx="3672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صا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Austin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Theme">
  <a:themeElements>
    <a:clrScheme name="Austin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Theme">
  <a:themeElements>
    <a:clrScheme name="Austin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  <Words>286</Words>
  <Paragraphs>12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1T15:53:54Z</dcterms:created>
  <dc:creator>HP</dc:creator>
  <dc:description/>
  <dc:language>en-US</dc:language>
  <cp:lastModifiedBy>HP</cp:lastModifiedBy>
  <dcterms:modified xsi:type="dcterms:W3CDTF">2019-05-22T00:22:4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