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0E5B0-FC56-4646-91A1-8AF6FB017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46DE-C17A-4AFF-A402-18C46AF9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F092E-4BFD-40B0-B801-08CC204A2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4195E-706E-417E-933F-63A89F202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818FE-5334-420D-81CA-41B632A3E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81CED-7757-453F-A192-267A6D355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47018-8FED-4E2E-BA96-6F168D12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9A58F-C7A3-46EF-B52F-83D319953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EFD0C-E43D-45D9-AE24-13D04E439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4C68-70EF-4784-B669-474D27F47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E31B-3085-4348-B1C0-96D887D46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FB224-E6DF-4E9F-B718-8C7BCAA6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40B3B-F25C-4A93-8476-D791D9A0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ADB45-77A7-43DB-8A45-580DD4FC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0C1DE-F688-4B6D-9653-4B75BB3F2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B7236-0CB9-4693-A895-61BB3AD9B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654BD-2156-42EB-9C7F-D0D25B143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D0BB-7B20-4A3C-8C5C-F0D756DB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74FD-8763-4984-A11D-B8247619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8E26-6B4B-4365-BBB8-10673DD2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FFF5-528C-4A2D-A432-2868B7B1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AA57-7B3E-49DB-80C7-BB415862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4CBA-264F-494D-AE51-9E27170A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0217-D1C7-40E3-A17D-191E8C3E3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6D4E6B6-9263-4D95-B31E-EBFB7C8F737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B3AF6EF-C0B5-4F94-97CE-A0808AE7C99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057400"/>
            <a:ext cx="7772040" cy="146952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مفهوم وصفات الموجودات الثابتة وانواع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الموجودات الثابتة وطرق الحصول عليها</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مفهوم الموجودات الثابتة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للموجودات الثابتة تعريفات عدة نستخلص أهمها فيما يلي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 الموجودات الثابتة هي تلك الموجودات التي يتم اقتنائها من قبل الوحدة الاقتصادية ليس بغرض إعادة البيع وتحويلها الي نقدية خلال الفترة المحاسبية ولكن للمساعدة في العملية الانتاجية لعدة فترات محاسبية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الموجودات الثابتة وطرق الحصول عليها</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240" cy="4525560"/>
          </a:xfrm>
          <a:prstGeom prst="rect">
            <a:avLst/>
          </a:prstGeom>
          <a:noFill/>
          <a:ln w="0">
            <a:noFill/>
          </a:ln>
        </p:spPr>
        <p:txBody>
          <a:bodyPr anchor="t">
            <a:normAutofit fontScale="82000"/>
          </a:bodyPr>
          <a:p>
            <a:pPr marL="281160" indent="-28116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 عرفها معهد المحاسبين القانونيين بانجلترا وويلز : بانها تلك الموجودات التي تستخدم من قبل الوحدة الاقتصادية بقصد الحصول علي ايراد وليس بقصد بيعها خلال دورة النشاط الواحدة</a:t>
            </a:r>
            <a:endParaRPr b="0" lang="en-US" sz="3200" spc="-1" strike="noStrike">
              <a:solidFill>
                <a:srgbClr val="000000"/>
              </a:solidFill>
              <a:latin typeface="Calibri"/>
            </a:endParaRPr>
          </a:p>
          <a:p>
            <a:pPr marL="281160" indent="-281160" algn="just" rtl="1">
              <a:lnSpc>
                <a:spcPct val="100000"/>
              </a:lnSpc>
              <a:spcBef>
                <a:spcPts val="641"/>
              </a:spcBef>
              <a:buClr>
                <a:srgbClr val="000000"/>
              </a:buClr>
              <a:buFont typeface="Arial"/>
              <a:buChar char="•"/>
            </a:pPr>
            <a:r>
              <a:rPr b="1" lang="ar-SA" sz="3200" spc="-1" strike="noStrike">
                <a:solidFill>
                  <a:srgbClr val="000000"/>
                </a:solidFill>
                <a:latin typeface="Calibri"/>
                <a:cs typeface="Simplified Arabic"/>
              </a:rPr>
              <a:t>إذن الموجودات الثابتة هي تلك الموجودات التي تقوم الشركة بشرائها بهدف استخدامها ومساعدتها في مزاولة نشاطها لعدة سنوات, وليس الهدف من شراءها هو إعادة بيعها, مثل شراء الأراضي والمباني وآلات الإنتاج والسيارات والأثاث وغير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 </a:t>
            </a:r>
            <a:r>
              <a:rPr b="0" lang="ar-IQ" sz="4400" spc="-1" strike="noStrike">
                <a:solidFill>
                  <a:srgbClr val="000000"/>
                </a:solidFill>
                <a:latin typeface="Calibri"/>
              </a:rPr>
              <a:t>الصفات المميزة للموجودات الثابتة</a:t>
            </a:r>
            <a:r>
              <a:rPr b="0" lang="en-US" sz="4400" spc="-1" strike="noStrike">
                <a:solidFill>
                  <a:srgbClr val="000000"/>
                </a:solidFill>
                <a:latin typeface="Calibri"/>
              </a:rPr>
              <a:t> </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1</a:t>
            </a:r>
            <a:r>
              <a:rPr b="1" lang="en-US" sz="3200" spc="-1" strike="noStrike">
                <a:solidFill>
                  <a:srgbClr val="000000"/>
                </a:solidFill>
                <a:latin typeface="Times New Roman"/>
                <a:ea typeface="Times New Roman"/>
              </a:rPr>
              <a:t>- الغرض من اقتنائها هو استخدامها في انتاج الايراد وليس بغرض بيعها والاتجار فيها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مساهمتها لفترة طويلة ( تزيد عن السنة ) في العملية الانتاجية</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 هي مجمع خدمات ومنافع اقتصادية تحصل عليها الوحدة الاقتصادية لعدة سنوات مقبل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rmAutofit/>
          </a:bodyPr>
          <a:p>
            <a:pPr marL="380880" indent="0" algn="ctr" rtl="1">
              <a:lnSpc>
                <a:spcPct val="100000"/>
              </a:lnSpc>
              <a:spcBef>
                <a:spcPts val="641"/>
              </a:spcBef>
              <a:buNone/>
              <a:tabLst>
                <a:tab algn="l" pos="0"/>
              </a:tabLst>
            </a:pPr>
            <a:r>
              <a:rPr b="1" lang="en-US" sz="3200" spc="-1" strike="noStrike">
                <a:solidFill>
                  <a:srgbClr val="000000"/>
                </a:solidFill>
                <a:latin typeface="Times New Roman"/>
                <a:ea typeface="Times New Roman"/>
              </a:rPr>
              <a:t> أنواع الموجودات الثابتة.</a:t>
            </a:r>
            <a:br>
              <a:rPr sz="2800"/>
            </a:br>
            <a:endParaRPr b="0" lang="en-US" sz="32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تنقسم الموجودات الثابتة الي مجموعتين رئيسيتين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1</a:t>
            </a:r>
            <a:r>
              <a:rPr b="1" lang="en-US" sz="3200" spc="-1" strike="noStrike">
                <a:solidFill>
                  <a:srgbClr val="000000"/>
                </a:solidFill>
                <a:latin typeface="Times New Roman"/>
                <a:ea typeface="Times New Roman"/>
              </a:rPr>
              <a:t>- موجودات ثابتة ملموسة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وهي ذات كيان مادي ملموس وتخضع جميعها للاندثار وهو</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تناقص قيمتها تدريجيا نتيجة الاستعمال والتقادم .ويستثني من ذلك الاراضي فهي لا تخضع للاندثار نظرا لأنها ليست ذات عمر</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انتاجي محدد وليست من صنع الانسا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en-US" sz="3200" spc="-1" strike="noStrike">
                <a:solidFill>
                  <a:srgbClr val="000000"/>
                </a:solidFill>
                <a:latin typeface="Times New Roman"/>
                <a:ea typeface="Times New Roman"/>
              </a:rPr>
              <a:t>- موجودات ثابتة غير ملموسة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وهي ليست ذات كيان مادي كحقوق التاليف وحقوق الاحتكار والامتياز وشهرة المحل . ويلاحظ ان بعض هذة الموجودات تخضع للاندثار حيث تتناقص قيمتها تدريجيا كحقوق الاحتكار والامتياز والاختراع التي يحق للوحدة استغلالها لمدة محددة متفق عليها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Words>265</Words>
  <Paragraphs>18</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1T19:05:38Z</dcterms:created>
  <dc:creator>user</dc:creator>
  <dc:description/>
  <dc:language>en-US</dc:language>
  <cp:lastModifiedBy>user</cp:lastModifiedBy>
  <dcterms:modified xsi:type="dcterms:W3CDTF">2019-05-01T20:40:32Z</dcterms:modified>
  <cp:revision>7</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6</vt:r8>
  </property>
</Properties>
</file>