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3FA-4693-45C6-A8FD-F79D2CE5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EC1-341D-43BB-B863-6998AD97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F00-8C2C-4164-AA83-EDDFE61A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BD2-3DC2-4D54-A809-2E5254DB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489E-0EE8-4EF9-BD16-9C2986E6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EC8D-7591-45F0-B54B-7120FBA5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B4D9-3685-4F61-B458-8EE12D6C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669D-3719-4226-85EA-F102D675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9AAD-3233-42DE-A8F0-72FCD916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F473-B7E8-4172-A8FE-F520505C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1C28-84EE-4D13-A145-8F2DD421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6E0-AE7D-4803-AD48-9D8A2367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1D3F-9DB1-4A1F-B2FB-A19E780B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5316-6005-4F24-B3EF-FE80392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FCD5-3570-4C56-89CB-BBFF3DEC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8A29-49F7-4883-A28E-B4964B85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7F44-3D97-4AA0-8324-50BAD497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852-2997-4558-8BDF-7040ABC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258-59B3-43E9-BA0F-80ED4AA2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A2A-3C64-43B5-BC32-2EE224FF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BC2-CFF9-43F0-AF65-13BA08EC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981-7122-4477-B936-5DF8583D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60F-4275-4E0B-850E-6951AA5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7C6-87BE-41AD-A973-02E3918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A5170F-4D4C-40C4-9CA6-5AED2FEEC46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قر لتحرير أنماط النص الرئي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5D515F-E681-4E66-A91F-A5F94600B46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280" y="380880"/>
            <a:ext cx="861012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التخلص من الموجود الثابت عن طريق الاستبد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عند استبدال موجود ثابت مستخدم باخر جديد يتم الات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00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تقييم الموجود بالقيمة العاد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00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تحديد الفرق النقدي الواجب تسديده او استلامه وكما يأت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الفرق النقدي الواجب تسديده او استلامه = القيمة العادلة للموجود القديم – القيمة العادلة للموجود الجديد  * </a:t>
            </a:r>
            <a:r>
              <a:rPr b="1" lang="ar-IQ" sz="2000" spc="-1" strike="noStrike">
                <a:solidFill>
                  <a:srgbClr val="8b8b8b"/>
                </a:solidFill>
                <a:latin typeface="Calibri"/>
              </a:rPr>
              <a:t>ملاحظة مهمة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اذا كان الفرق النقدي موجب يعني استلام نقد ويكون ح/ الصندوق مدين  اما اذا كان الفرق النقدي سالب يعني تسديد ويكون ح/ الصندوق دائ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. احتساب قسط الاندثار للسنة الحالية التي تم فيها الاستبدال من بداية السنة لغاية تاريخ الاستبدال بإحدى طرق احتساب الاندثار ومن ثم تسجيل قيد اندثار السنة الحال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. ترصيد حساب مخصص الاندثار المتراكم لغاية تاريخ الاستبدال أي (احتساب مخصص الاندثار المتراكم من بداية عمر الموجود لغاية تاريخ الاستبدال) لغرض الوصول الى القيمة الدفتر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. استخراج القيمة الدفترية ( الكلفة – مخصص الاندثار المتراكم بعد اضافة اندثار السنة الحالية ال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. استخراج مكاسب او خسائر استبدال الموجود الثابت وكما يأت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ar-IQ" sz="2000" spc="-1" strike="noStrike">
                <a:solidFill>
                  <a:srgbClr val="8b8b8b"/>
                </a:solidFill>
                <a:latin typeface="Calibri"/>
              </a:rPr>
              <a:t>مكاسب او خسائر استبدال الموجود الثابت = القيمة العادلة للموجود القديم – القيمة الدفترية للموجود القد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10120" cy="59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3200" spc="-1" strike="noStrike">
                <a:solidFill>
                  <a:srgbClr val="000000"/>
                </a:solidFill>
                <a:latin typeface="Calibri"/>
              </a:rPr>
              <a:t>ملاحظات مهمة حول صفقة الاستبد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توجد نوعين من صفقات الاستبدا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صفقة استبدال ذات بعد تجاري: أي ان الموجودات المستبدلة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غير متشابهة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من حيث التدفقات النقدية المستقبلية المتوقعة من الموجو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صفقة استبدال ذات بعد 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غي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تجاري: أي ان الموجودات المستبدلة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متشابه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من حيث التدفقات النقدية المستقبلية المتوقعة من الموجو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اذا كانت صفقة الاستبدال ذات بعد تجاري (موجودات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غي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متشابهة) فانه يتم الاعتراف بمكاسب الاستبدال بالكامل ويثبت في قيد الاستبد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اذا كانت صفقة الاستبدال ذات بعد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غي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تجاري (موجودات متشابهة) فانه يتم الاعتراف بجزء من مكاسب الاستبدال في حال استلام فرق نقدي وكما يأت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ربح المتحقق= اجمالي ربح الاستبدال ×                      النقد المستل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النقد  المستلم + القيمة العادلة للموجود ال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قوس كبير أيمن 3"/>
          <p:cNvSpPr/>
          <p:nvPr/>
        </p:nvSpPr>
        <p:spPr>
          <a:xfrm>
            <a:off x="4876920" y="4191120"/>
            <a:ext cx="380520" cy="99036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قوس كبير أيسر 4"/>
          <p:cNvSpPr/>
          <p:nvPr/>
        </p:nvSpPr>
        <p:spPr>
          <a:xfrm>
            <a:off x="1066680" y="4191120"/>
            <a:ext cx="304560" cy="106632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مثال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ستبدلت شركة بغداد ماكنة قديمة كلفتها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5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دينار ومخصص اندثارها المتراك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دينار بماكنة جديدة قيمتها السوقي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دينار وقد قدرت قيمة الماكنة القديمة بمبلغ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دينار وتم الاتفاق على تسديد او استلام الفرق نقدا . المطلوب تسجيل قيد الاستبدال علما بأن الصفقة ذات بعد تجاري ( الموجودات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غي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متشابهة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الح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فرق النقدي= القيمة العادلة للماكنة القديمة – القيمة العادلة للماكنة الجديد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مكاسب او خسائر استبدال = القيمة العادلة للماكنة القديمة – القيمة الدفترية ل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(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5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50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2000" spc="-1" strike="noStrike">
                <a:solidFill>
                  <a:srgbClr val="ff0000"/>
                </a:solidFill>
                <a:latin typeface="Calibri"/>
              </a:rPr>
              <a:t>مكاسب يتم الاعتراف بها بالكامل   لكون الصفقة ذات بعد تجاري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، ويسجل القيد الآت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7627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من مذكو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000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ح/ الماكنة الجدي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00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ح/ الصندوق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الفرق النقدي موجب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000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ح/ مخصص اندثار متراكم – مكائ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الى مذكو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2500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ح/ الماكنة القدي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00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ح/ مكاسب استبدال موجودات ثابتة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(هنا تم الاعتراف بالمكاسب لكون الصفقة ذات بعد تجاري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ar-IQ" sz="1600" spc="-1" strike="noStrike">
                <a:solidFill>
                  <a:srgbClr val="000000"/>
                </a:solidFill>
                <a:latin typeface="Calibri"/>
              </a:rPr>
              <a:t>ـــــــــــــــــــــــــــــــــــــــــــــــــــــــــــ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  <Words>475</Words>
  <Paragraphs>35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19:13:59Z</dcterms:created>
  <dc:creator>user</dc:creator>
  <dc:description/>
  <dc:language>en-US</dc:language>
  <cp:lastModifiedBy>user</cp:lastModifiedBy>
  <dcterms:modified xsi:type="dcterms:W3CDTF">2019-04-25T20:28:43Z</dcterms:modified>
  <cp:revision>9</cp:revision>
  <dc:subject/>
  <dc:title>عرض تقديمي في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4</vt:r8>
  </property>
</Properties>
</file>