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3104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42AFDA9-495A-4AC2-AA47-6C782EE585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3"/>
          <p:cNvSpPr/>
          <p:nvPr/>
        </p:nvSpPr>
        <p:spPr>
          <a:xfrm>
            <a:off x="609480" y="1371600"/>
            <a:ext cx="8076960" cy="18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90"/>
              </a:spcBef>
            </a:pPr>
            <a:r>
              <a:rPr b="1" lang="en-US" sz="1900" spc="-1" strike="noStrike">
                <a:solidFill>
                  <a:srgbClr val="990000"/>
                </a:solidFill>
                <a:latin typeface="Arial"/>
              </a:rPr>
              <a:t>Illustration: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 June 3, Bolton Company sold to Arquette Company merchandise having a sale price of $2,000 with terms of 2/10, n/60. On June 12, the company received a check for the balance due from Arquette Company.  Prepare the journal entries on Bolton Company books to record the sale assuming Bolton records sales using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ross metho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2209680" y="4253040"/>
            <a:ext cx="647676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0000"/>
              </a:lnSpc>
              <a:spcBef>
                <a:spcPts val="950"/>
              </a:spcBef>
              <a:tabLst>
                <a:tab algn="r" pos="605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les Revenu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7"/>
          <p:cNvSpPr/>
          <p:nvPr/>
        </p:nvSpPr>
        <p:spPr>
          <a:xfrm>
            <a:off x="2209680" y="3794040"/>
            <a:ext cx="6476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r" pos="4683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ounts Receivable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9"/>
          <p:cNvSpPr/>
          <p:nvPr/>
        </p:nvSpPr>
        <p:spPr>
          <a:xfrm>
            <a:off x="762120" y="3794040"/>
            <a:ext cx="12189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5000" bIns="45000"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ne 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240" cy="560160"/>
          </a:xfrm>
          <a:prstGeom prst="rect">
            <a:avLst/>
          </a:prstGeom>
          <a:noFill/>
          <a:ln w="12600">
            <a:noFill/>
          </a:ln>
          <a:effectLst>
            <a:outerShdw dist="107423" dir="2700000" blurRad="0" rotWithShape="0">
              <a:srgbClr val="000000"/>
            </a:outerShdw>
          </a:effectLst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Recognition of Accounts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2209680" y="4861080"/>
            <a:ext cx="647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r" pos="4683240"/>
                <a:tab algn="r" pos="605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 ($2,000 x 98%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,9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r" pos="4683240"/>
                <a:tab algn="r" pos="605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les Discounts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r" pos="4683240"/>
                <a:tab algn="r" pos="605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ounts Receivable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762120" y="4861080"/>
            <a:ext cx="12189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5000" bIns="45000"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une 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077320" y="640080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5475</TotalTime>
  <Application>LibreOffice/7.4.7.2$Linux_X86_64 LibreOffice_project/40$Build-2</Application>
  <AppVersion>15.0000</AppVersion>
  <Pages>43</Pages>
  <Words>87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03T19:42:53Z</dcterms:modified>
  <cp:revision>2026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</vt:r8>
  </property>
</Properties>
</file>