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872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480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872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872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480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872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6"/>
          <p:cNvSpPr/>
          <p:nvPr/>
        </p:nvSpPr>
        <p:spPr>
          <a:xfrm>
            <a:off x="76320" y="643104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2C49E8B-0754-4E43-977B-10C2A396107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82520" rIns="18252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76320" y="643104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18A331F-7923-4985-AA80-7E8005E0A77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9480" y="353880"/>
            <a:ext cx="7606800" cy="56016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marL="109440" indent="0" algn="ctr">
              <a:lnSpc>
                <a:spcPct val="100000"/>
              </a:lnSpc>
              <a:buNone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Valuation of Accounts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609480" y="1981080"/>
            <a:ext cx="8076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2560" indent="-450720">
              <a:lnSpc>
                <a:spcPct val="125000"/>
              </a:lnSpc>
              <a:spcBef>
                <a:spcPts val="1199"/>
              </a:spcBef>
              <a:buClr>
                <a:srgbClr val="73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credit losses as debits to Bad Debt Expen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Uncollectible Accounts Expense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450720">
              <a:lnSpc>
                <a:spcPct val="125000"/>
              </a:lnSpc>
              <a:spcBef>
                <a:spcPts val="1199"/>
              </a:spcBef>
              <a:buClr>
                <a:srgbClr val="73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 and necessary risk of doing business on cred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450720">
              <a:lnSpc>
                <a:spcPct val="125000"/>
              </a:lnSpc>
              <a:spcBef>
                <a:spcPts val="1199"/>
              </a:spcBef>
              <a:buClr>
                <a:srgbClr val="73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ethods to account for uncollectible accoun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55680" indent="-45072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rect write-off metho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55680" indent="-45072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owance metho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09480" y="1371600"/>
            <a:ext cx="761976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5000"/>
              </a:lnSpc>
              <a:spcBef>
                <a:spcPts val="83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llectible Accounts Recei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"/>
          <p:cNvSpPr/>
          <p:nvPr/>
        </p:nvSpPr>
        <p:spPr>
          <a:xfrm flipH="1" rot="16200000">
            <a:off x="2018880" y="1914480"/>
            <a:ext cx="456840" cy="533160"/>
          </a:xfrm>
          <a:prstGeom prst="rightArrow">
            <a:avLst>
              <a:gd name="adj1" fmla="val 50000"/>
              <a:gd name="adj2" fmla="val 50014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 flipH="1" rot="16200000">
            <a:off x="6438600" y="1914480"/>
            <a:ext cx="456840" cy="533160"/>
          </a:xfrm>
          <a:prstGeom prst="rightArrow">
            <a:avLst>
              <a:gd name="adj1" fmla="val 50000"/>
              <a:gd name="adj2" fmla="val 50014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753080" y="2514600"/>
            <a:ext cx="4133520" cy="3657240"/>
          </a:xfrm>
          <a:prstGeom prst="rect">
            <a:avLst/>
          </a:prstGeom>
          <a:solidFill>
            <a:srgbClr val="fcf6da"/>
          </a:solidFill>
          <a:ln w="57240">
            <a:solidFill>
              <a:srgbClr val="000000"/>
            </a:solidFill>
            <a:miter/>
          </a:ln>
        </p:spPr>
        <p:txBody>
          <a:bodyPr numCol="1" spcCol="0" lIns="137160" rIns="90360" tIns="13716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bf"/>
                </a:solidFill>
                <a:latin typeface="Arial"/>
              </a:rPr>
              <a:t>Allowance Metho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es are estimate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10000"/>
              </a:lnSpc>
              <a:spcBef>
                <a:spcPts val="839"/>
              </a:spcBef>
              <a:buClr>
                <a:srgbClr val="730000"/>
              </a:buClr>
              <a:buSzPct val="80000"/>
              <a:buFont typeface="Wingdings" charset="2"/>
              <a:buChar char="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centage-of-sale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10000"/>
              </a:lnSpc>
              <a:spcBef>
                <a:spcPts val="839"/>
              </a:spcBef>
              <a:buClr>
                <a:srgbClr val="730000"/>
              </a:buClr>
              <a:buSzPct val="80000"/>
              <a:buFont typeface="Wingdings" charset="2"/>
              <a:buChar char="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centage-of-receivable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10000"/>
              </a:lnSpc>
              <a:spcBef>
                <a:spcPts val="839"/>
              </a:spcBef>
              <a:buClr>
                <a:srgbClr val="730000"/>
              </a:buClr>
              <a:buSzPct val="80000"/>
              <a:buFont typeface="Wingdings" charset="2"/>
              <a:buChar char="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RS requires when bad debts are material in amount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85640" y="1447920"/>
            <a:ext cx="8200800" cy="552240"/>
          </a:xfrm>
          <a:prstGeom prst="rect">
            <a:avLst/>
          </a:prstGeom>
          <a:solidFill>
            <a:srgbClr val="fcf6da"/>
          </a:solidFill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0" bIns="442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of Accounting for Uncollectibl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57040" y="2514600"/>
            <a:ext cx="4133520" cy="3657240"/>
          </a:xfrm>
          <a:prstGeom prst="rect">
            <a:avLst/>
          </a:prstGeom>
          <a:solidFill>
            <a:srgbClr val="fcf6da"/>
          </a:solidFill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</a:pPr>
            <a:r>
              <a:rPr b="1" lang="en-US" sz="2500" spc="-1" strike="noStrike">
                <a:solidFill>
                  <a:srgbClr val="0000bf"/>
                </a:solidFill>
                <a:latin typeface="Arial"/>
              </a:rPr>
              <a:t>Direct Write-Of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10000"/>
              </a:lnSpc>
              <a:spcBef>
                <a:spcPts val="8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etically defici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10000"/>
              </a:lnSpc>
              <a:spcBef>
                <a:spcPts val="839"/>
              </a:spcBef>
              <a:buClr>
                <a:srgbClr val="730000"/>
              </a:buClr>
              <a:buSzPct val="80000"/>
              <a:buFont typeface="Wingdings" charset="2"/>
              <a:buChar char="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match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10000"/>
              </a:lnSpc>
              <a:spcBef>
                <a:spcPts val="839"/>
              </a:spcBef>
              <a:buClr>
                <a:srgbClr val="730000"/>
              </a:buClr>
              <a:buSzPct val="80000"/>
              <a:buFont typeface="Wingdings" charset="2"/>
              <a:buChar char="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eivable not stated at cash realizable valu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10000"/>
              </a:lnSpc>
              <a:spcBef>
                <a:spcPts val="839"/>
              </a:spcBef>
              <a:buClr>
                <a:srgbClr val="730000"/>
              </a:buClr>
              <a:buSzPct val="80000"/>
              <a:buFont typeface="Wingdings" charset="2"/>
              <a:buChar char="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appropriate when amount uncollectible is materi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Valuation of Accounts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anc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457200" y="4837320"/>
            <a:ext cx="3962160" cy="953640"/>
          </a:xfrm>
          <a:prstGeom prst="rect">
            <a:avLst/>
          </a:prstGeom>
          <a:solidFill>
            <a:schemeClr val="accent3"/>
          </a:solidFill>
          <a:ln w="0">
            <a:solidFill>
              <a:srgbClr val="000000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bf"/>
                </a:solidFill>
                <a:latin typeface="Arial"/>
              </a:rPr>
              <a:t>percentage-of-sales bas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 a better matching of expenses with reve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4800600" y="4837320"/>
            <a:ext cx="3962160" cy="953640"/>
          </a:xfrm>
          <a:prstGeom prst="rect">
            <a:avLst/>
          </a:prstGeom>
          <a:solidFill>
            <a:schemeClr val="accent3"/>
          </a:solidFill>
          <a:ln w="0">
            <a:solidFill>
              <a:srgbClr val="000000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bf"/>
                </a:solidFill>
                <a:latin typeface="Arial"/>
              </a:rPr>
              <a:t>percentage-of-recei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produces the better estimate of cash realizabl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19040" y="1484640"/>
            <a:ext cx="8343720" cy="3125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858000" y="801360"/>
            <a:ext cx="2057040" cy="6372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ILLUSTRATION 7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Base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ng Uncollect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1371600"/>
            <a:ext cx="792432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centage-of-Sales Appro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centage based upon past experience and anticipate credit poli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s better matching of cost and revenu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balance in Allowance for Doubtful Accounts is ign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frequently referred to as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ome statement approa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anc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609480" y="1371600"/>
            <a:ext cx="8152920" cy="12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spcBef>
                <a:spcPts val="1261"/>
              </a:spcBef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Illustration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Gonzalez Company estimates that about 1% of net credit sales will become uncollectible.  If net credit sales are R$800,000 for the year, it records bad debt expense as follow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90720" y="2933640"/>
            <a:ext cx="74671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15000"/>
              </a:lnSpc>
              <a:spcBef>
                <a:spcPts val="524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d Debt Expen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% x R$800,00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524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owance for Doubtful Account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924680" y="1295280"/>
            <a:ext cx="68544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162920" y="4114800"/>
            <a:ext cx="1599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LLUSTRATION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8381520" cy="1238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-of-Sales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1371600"/>
            <a:ext cx="815292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centage-of-Receivables Appro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matc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of the receivables’ realizable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anies may apply this method us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site r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aging schedu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different r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anc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838080" y="5334120"/>
            <a:ext cx="746712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15000"/>
              </a:lnSpc>
              <a:spcBef>
                <a:spcPts val="476"/>
              </a:spcBef>
              <a:tabLst>
                <a:tab algn="l" pos="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ad Debt Expens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7,6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76"/>
              </a:spcBef>
              <a:tabLst>
                <a:tab algn="l" pos="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llowance for Doubtful Account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7,6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7010280" y="2362320"/>
            <a:ext cx="182844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ntry would Wilson make assuming that the allowance account had a </a:t>
            </a:r>
            <a:r>
              <a:rPr b="1" lang="en-US" sz="18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zero 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010280" y="1447920"/>
            <a:ext cx="1828440" cy="6372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LLUSTRATION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Receivable Aging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-of-Receivables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5120" y="1407240"/>
            <a:ext cx="6316200" cy="3773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838080" y="5334120"/>
            <a:ext cx="746712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15000"/>
              </a:lnSpc>
              <a:spcBef>
                <a:spcPts val="476"/>
              </a:spcBef>
              <a:tabLst>
                <a:tab algn="l" pos="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ad Debt Expense  (€37,650 – €800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6,8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76"/>
              </a:spcBef>
              <a:tabLst>
                <a:tab algn="l" pos="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llowance for Doubtful Account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6,8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7010280" y="2362320"/>
            <a:ext cx="182844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ntry would Wilson make assuming the allowance account had 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redit balance of €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adjust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65120" y="1407240"/>
            <a:ext cx="6316200" cy="3773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7010280" y="1447920"/>
            <a:ext cx="1828440" cy="6372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LLUSTRATION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Receivable Aging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-of-Receivables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vnglnc">
  <a:themeElements>
    <a:clrScheme name="">
      <a:dk1>
        <a:srgbClr val="000000"/>
      </a:dk1>
      <a:lt1>
        <a:srgbClr val="ffffff"/>
      </a:lt1>
      <a:dk2>
        <a:srgbClr val="0000ff"/>
      </a:dk2>
      <a:lt2>
        <a:srgbClr val="000000"/>
      </a:lt2>
      <a:accent1>
        <a:srgbClr val="00ffff"/>
      </a:accent1>
      <a:accent2>
        <a:srgbClr val="ff0000"/>
      </a:accent2>
      <a:accent3>
        <a:srgbClr val="ffffff"/>
      </a:accent3>
      <a:accent4>
        <a:srgbClr val="000000"/>
      </a:accent4>
      <a:accent5>
        <a:srgbClr val="aaffff"/>
      </a:accent5>
      <a:accent6>
        <a:srgbClr val="e70000"/>
      </a:accent6>
      <a:hlink>
        <a:srgbClr val="000099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nglnc">
  <a:themeElements>
    <a:clrScheme name="">
      <a:dk1>
        <a:srgbClr val="000000"/>
      </a:dk1>
      <a:lt1>
        <a:srgbClr val="ffffff"/>
      </a:lt1>
      <a:dk2>
        <a:srgbClr val="0000ff"/>
      </a:dk2>
      <a:lt2>
        <a:srgbClr val="000000"/>
      </a:lt2>
      <a:accent1>
        <a:srgbClr val="00ffff"/>
      </a:accent1>
      <a:accent2>
        <a:srgbClr val="ff0000"/>
      </a:accent2>
      <a:accent3>
        <a:srgbClr val="ffffff"/>
      </a:accent3>
      <a:accent4>
        <a:srgbClr val="000000"/>
      </a:accent4>
      <a:accent5>
        <a:srgbClr val="aaffff"/>
      </a:accent5>
      <a:accent6>
        <a:srgbClr val="e70000"/>
      </a:accent6>
      <a:hlink>
        <a:srgbClr val="000099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1033\Company Handbook.pot</Template>
  <TotalTime>15475</TotalTime>
  <Application>LibreOffice/7.4.7.2$Linux_X86_64 LibreOffice_project/40$Build-2</Application>
  <AppVersion>15.0000</AppVersion>
  <Pages>43</Pages>
  <Words>338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8T18:03:02Z</dcterms:created>
  <dc:creator>Coby Harmon</dc:creator>
  <dc:description/>
  <dc:language>en-US</dc:language>
  <cp:lastModifiedBy>Salah</cp:lastModifiedBy>
  <cp:lastPrinted>1999-09-16T17:08:20Z</cp:lastPrinted>
  <dcterms:modified xsi:type="dcterms:W3CDTF">2019-04-01T09:38:21Z</dcterms:modified>
  <cp:revision>2025</cp:revision>
  <dc:subject/>
  <dc:title>Financial Accounting and Accounting Standa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