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650400"/>
            <a:ext cx="838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56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4800" y="11430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8720" y="11430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6504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4800" y="36504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8720" y="36504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808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56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650400"/>
            <a:ext cx="838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0880" y="3650400"/>
            <a:ext cx="838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56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14800" y="11430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48720" y="11430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0880" y="36504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14800" y="36504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48720" y="36504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56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650400"/>
            <a:ext cx="838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6"/>
          <p:cNvSpPr/>
          <p:nvPr/>
        </p:nvSpPr>
        <p:spPr>
          <a:xfrm>
            <a:off x="76320" y="6400800"/>
            <a:ext cx="68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4D60054F-D95F-4ABA-B677-9AFB21C42FC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1520" cy="48002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82520" rIns="18252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3000" spc="-1" strike="noStrike">
                <a:solidFill>
                  <a:schemeClr val="folHlink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6"/>
          <p:cNvSpPr/>
          <p:nvPr/>
        </p:nvSpPr>
        <p:spPr>
          <a:xfrm>
            <a:off x="76320" y="6400800"/>
            <a:ext cx="68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4508CEFE-9E92-4ED1-9DDF-9B953C8544C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1520" cy="48002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82520" rIns="18252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3000" spc="-1" strike="noStrike">
                <a:solidFill>
                  <a:schemeClr val="folHlink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3" descr=""/>
          <p:cNvPicPr/>
          <p:nvPr/>
        </p:nvPicPr>
        <p:blipFill>
          <a:blip r:embed="rId1"/>
          <a:stretch/>
        </p:blipFill>
        <p:spPr>
          <a:xfrm>
            <a:off x="2438280" y="0"/>
            <a:ext cx="6705360" cy="20570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4"/>
          <p:cNvSpPr/>
          <p:nvPr/>
        </p:nvSpPr>
        <p:spPr>
          <a:xfrm>
            <a:off x="2590920" y="488880"/>
            <a:ext cx="64735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prec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5" descr=""/>
          <p:cNvPicPr/>
          <p:nvPr/>
        </p:nvPicPr>
        <p:blipFill>
          <a:blip r:embed="rId2"/>
          <a:stretch/>
        </p:blipFill>
        <p:spPr>
          <a:xfrm>
            <a:off x="380880" y="412920"/>
            <a:ext cx="313920" cy="1294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6"/>
          <p:cNvSpPr/>
          <p:nvPr/>
        </p:nvSpPr>
        <p:spPr>
          <a:xfrm>
            <a:off x="533520" y="152280"/>
            <a:ext cx="1904760" cy="17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5349"/>
              </a:spcBef>
            </a:pPr>
            <a:r>
              <a:rPr b="1" lang="en-US" sz="10700" spc="-1" strike="noStrike">
                <a:solidFill>
                  <a:srgbClr val="5f5f5f"/>
                </a:solidFill>
                <a:latin typeface="Arial"/>
              </a:rPr>
              <a:t>11</a:t>
            </a:r>
            <a:endParaRPr b="0" lang="en-US" sz="10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7" descr=""/>
          <p:cNvPicPr/>
          <p:nvPr/>
        </p:nvPicPr>
        <p:blipFill>
          <a:blip r:embed="rId3"/>
          <a:stretch/>
        </p:blipFill>
        <p:spPr>
          <a:xfrm>
            <a:off x="0" y="2011320"/>
            <a:ext cx="9140400" cy="457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5"/>
          <p:cNvSpPr/>
          <p:nvPr/>
        </p:nvSpPr>
        <p:spPr>
          <a:xfrm>
            <a:off x="380880" y="2286000"/>
            <a:ext cx="3885840" cy="53316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algn="ctr" rotWithShape="0" sx="999" sy="999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1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3352680"/>
            <a:ext cx="7924320" cy="30477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720"/>
              </a:spcBef>
              <a:buClr>
                <a:srgbClr val="a50021"/>
              </a:buClr>
              <a:buFont typeface="Comic Sans MS"/>
              <a:buAutoNum type="arabicPeriod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ain the concept of depreci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20"/>
              </a:spcBef>
              <a:buClr>
                <a:srgbClr val="a50021"/>
              </a:buClr>
              <a:buFont typeface="Comic Sans MS"/>
              <a:buAutoNum type="arabicPeriod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 the factors involved in the depreciation proces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11"/>
              </a:spcBef>
              <a:buClr>
                <a:srgbClr val="a50021"/>
              </a:buClr>
              <a:buFont typeface="Comic Sans MS"/>
              <a:buAutoNum type="arabicPeriod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e activity, straight-line, and diminishing-charge methods of depreci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609480" y="1990800"/>
            <a:ext cx="78609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Bef>
                <a:spcPts val="629"/>
              </a:spcBef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profession requires the method employed b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“systematic and rational.”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Methods used includ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09480" y="1371600"/>
            <a:ext cx="8000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839"/>
              </a:spcBef>
              <a:spcAft>
                <a:spcPts val="561"/>
              </a:spcAf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ethods of Depr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380880" y="1066680"/>
            <a:ext cx="8381880" cy="360"/>
          </a:xfrm>
          <a:prstGeom prst="line">
            <a:avLst/>
          </a:prstGeom>
          <a:ln cap="sq"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1800" spc="-1" strike="noStrike">
              <a:solidFill>
                <a:schemeClr val="folHlink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609480" y="380880"/>
            <a:ext cx="8381520" cy="560160"/>
          </a:xfrm>
          <a:prstGeom prst="rect">
            <a:avLst/>
          </a:prstGeom>
          <a:noFill/>
          <a:ln w="635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e2"/>
                </a:solidFill>
                <a:latin typeface="Arial"/>
              </a:rPr>
              <a:t>DEPRECIATION—COST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609480" y="2971800"/>
            <a:ext cx="7251480" cy="25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74560" indent="-574560">
              <a:lnSpc>
                <a:spcPct val="130000"/>
              </a:lnSpc>
              <a:spcBef>
                <a:spcPts val="839"/>
              </a:spcBef>
              <a:buClr>
                <a:srgbClr val="000000"/>
              </a:buClr>
              <a:buFont typeface="Comic Sans MS"/>
              <a:buAutoNum type="arabicPeriod"/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tivity method (units of use or production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130000"/>
              </a:lnSpc>
              <a:spcBef>
                <a:spcPts val="839"/>
              </a:spcBef>
              <a:buClr>
                <a:srgbClr val="000000"/>
              </a:buClr>
              <a:buFont typeface="Comic Sans MS"/>
              <a:buAutoNum type="arabicPeriod"/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raight-line method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130000"/>
              </a:lnSpc>
              <a:spcBef>
                <a:spcPts val="839"/>
              </a:spcBef>
              <a:buClr>
                <a:srgbClr val="000000"/>
              </a:buClr>
              <a:buFont typeface="Comic Sans MS"/>
              <a:buAutoNum type="arabicPeriod"/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minishing (accelerated)-charge metho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57200">
              <a:lnSpc>
                <a:spcPct val="130000"/>
              </a:lnSpc>
              <a:spcBef>
                <a:spcPts val="839"/>
              </a:spcBef>
              <a:buClr>
                <a:srgbClr val="800000"/>
              </a:buClr>
              <a:buFont typeface="StarSymbol"/>
              <a:buAutoNum type="alphaLcParenR"/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m-of-the-years’-digi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57200">
              <a:lnSpc>
                <a:spcPct val="130000"/>
              </a:lnSpc>
              <a:spcBef>
                <a:spcPts val="839"/>
              </a:spcBef>
              <a:buClr>
                <a:srgbClr val="800000"/>
              </a:buClr>
              <a:buFont typeface="StarSymbol"/>
              <a:buAutoNum type="alphaLcParenR"/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clining-balance metho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1"/>
          <a:stretch/>
        </p:blipFill>
        <p:spPr>
          <a:xfrm>
            <a:off x="5486400" y="4738680"/>
            <a:ext cx="2846160" cy="1585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8077320" y="6369120"/>
            <a:ext cx="91404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1"/>
          <p:cNvSpPr/>
          <p:nvPr/>
        </p:nvSpPr>
        <p:spPr>
          <a:xfrm>
            <a:off x="609480" y="1365120"/>
            <a:ext cx="43430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80"/>
              </a:spcBef>
              <a:spcAft>
                <a:spcPts val="519"/>
              </a:spcAf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tivity Meth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609480" y="3732120"/>
            <a:ext cx="80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5000"/>
              </a:lnSpc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Illustration:</a:t>
            </a:r>
            <a:r>
              <a:rPr b="0" lang="en-US" sz="2100" spc="-1" strike="noStrike">
                <a:solidFill>
                  <a:schemeClr val="folHlink"/>
                </a:solidFill>
                <a:latin typeface="Arial"/>
              </a:rPr>
              <a:t>  If Stanley uses the crane for 4,000 hours the first year, the depreciation charge i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685800" y="2274840"/>
            <a:ext cx="2209320" cy="11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51"/>
              </a:spcBef>
            </a:pPr>
            <a:r>
              <a:rPr b="1" lang="en-US" sz="2300" spc="-1" strike="noStrike">
                <a:solidFill>
                  <a:schemeClr val="folHlink"/>
                </a:solidFill>
                <a:latin typeface="Arial"/>
              </a:rPr>
              <a:t>Data for Stanley Coal Min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9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5105160" cy="1420560"/>
          </a:xfrm>
          <a:prstGeom prst="rect">
            <a:avLst/>
          </a:prstGeom>
          <a:ln w="0">
            <a:noFill/>
          </a:ln>
        </p:spPr>
      </p:pic>
      <p:sp>
        <p:nvSpPr>
          <p:cNvPr id="96" name="Line 16"/>
          <p:cNvSpPr/>
          <p:nvPr/>
        </p:nvSpPr>
        <p:spPr>
          <a:xfrm>
            <a:off x="380880" y="1066680"/>
            <a:ext cx="8381880" cy="360"/>
          </a:xfrm>
          <a:prstGeom prst="line">
            <a:avLst/>
          </a:prstGeom>
          <a:ln cap="sq"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1800" spc="-1" strike="noStrike">
              <a:solidFill>
                <a:schemeClr val="folHlink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609480" y="380880"/>
            <a:ext cx="8381520" cy="560160"/>
          </a:xfrm>
          <a:prstGeom prst="rect">
            <a:avLst/>
          </a:prstGeom>
          <a:noFill/>
          <a:ln w="635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Methods of Depre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6781680" y="1487160"/>
            <a:ext cx="18284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ILLUSTRATION 1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Used to Illu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ciation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"/>
          <p:cNvPicPr/>
          <p:nvPr/>
        </p:nvPicPr>
        <p:blipFill>
          <a:blip r:embed="rId2"/>
          <a:stretch/>
        </p:blipFill>
        <p:spPr>
          <a:xfrm>
            <a:off x="2324160" y="4837320"/>
            <a:ext cx="6210000" cy="14868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380880" y="4839480"/>
            <a:ext cx="21902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ILLUSTRATION 11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ciation Calculatio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Method—C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077320" y="6369120"/>
            <a:ext cx="91404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609480" y="1365120"/>
            <a:ext cx="8152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80"/>
              </a:spcBef>
              <a:spcAft>
                <a:spcPts val="519"/>
              </a:spcAf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aight-Line Meth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09480" y="3732120"/>
            <a:ext cx="800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5000"/>
              </a:lnSpc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Illustration:</a:t>
            </a:r>
            <a:r>
              <a:rPr b="0" lang="en-US" sz="2100" spc="-1" strike="noStrike">
                <a:solidFill>
                  <a:schemeClr val="folHlink"/>
                </a:solidFill>
                <a:latin typeface="Arial"/>
              </a:rPr>
              <a:t>  Stanley computes depreciation as follow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3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5105160" cy="1420560"/>
          </a:xfrm>
          <a:prstGeom prst="rect">
            <a:avLst/>
          </a:prstGeom>
          <a:ln w="0">
            <a:noFill/>
          </a:ln>
        </p:spPr>
      </p:pic>
      <p:sp>
        <p:nvSpPr>
          <p:cNvPr id="105" name="Line 16"/>
          <p:cNvSpPr/>
          <p:nvPr/>
        </p:nvSpPr>
        <p:spPr>
          <a:xfrm>
            <a:off x="380880" y="1066680"/>
            <a:ext cx="8381880" cy="360"/>
          </a:xfrm>
          <a:prstGeom prst="line">
            <a:avLst/>
          </a:prstGeom>
          <a:ln cap="sq"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1800" spc="-1" strike="noStrike">
              <a:solidFill>
                <a:schemeClr val="folHlink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685800" y="2274840"/>
            <a:ext cx="2209320" cy="11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51"/>
              </a:spcBef>
            </a:pPr>
            <a:r>
              <a:rPr b="1" lang="en-US" sz="2300" spc="-1" strike="noStrike">
                <a:solidFill>
                  <a:schemeClr val="folHlink"/>
                </a:solidFill>
                <a:latin typeface="Arial"/>
              </a:rPr>
              <a:t>Data for Stanley Coal Min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81680" y="1487160"/>
            <a:ext cx="18284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ILLUSTRATION 1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Used to Illu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ciation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"/>
          <p:cNvPicPr/>
          <p:nvPr/>
        </p:nvPicPr>
        <p:blipFill>
          <a:blip r:embed="rId2"/>
          <a:stretch/>
        </p:blipFill>
        <p:spPr>
          <a:xfrm>
            <a:off x="2362320" y="4495680"/>
            <a:ext cx="6248160" cy="17892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7"/>
          <p:cNvSpPr/>
          <p:nvPr/>
        </p:nvSpPr>
        <p:spPr>
          <a:xfrm>
            <a:off x="380880" y="4495680"/>
            <a:ext cx="19807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ILLUSTRATION 1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ciation Calculatio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ight-Line Method—Cra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09480" y="380880"/>
            <a:ext cx="8381520" cy="560160"/>
          </a:xfrm>
          <a:prstGeom prst="rect">
            <a:avLst/>
          </a:prstGeom>
          <a:noFill/>
          <a:ln w="635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Methods of Depre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8077320" y="6369120"/>
            <a:ext cx="91404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609480" y="1365120"/>
            <a:ext cx="8152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80"/>
              </a:spcBef>
              <a:spcAft>
                <a:spcPts val="519"/>
              </a:spcAf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minishing-Charge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609480" y="3711600"/>
            <a:ext cx="8076960" cy="16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  <a:spcBef>
                <a:spcPts val="1049"/>
              </a:spcBef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Sum-of-the-Years’-Digits.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ch fraction uses the sum of the years as 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enominato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5 + 4 + 3 + 2 + 1 = 15). 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umerato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number of years of estimated life remaining as of the beginning of the yea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5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5105160" cy="14205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6"/>
          <p:cNvSpPr/>
          <p:nvPr/>
        </p:nvSpPr>
        <p:spPr>
          <a:xfrm>
            <a:off x="4267080" y="5667480"/>
            <a:ext cx="106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chemeClr val="folHlink"/>
                </a:solidFill>
                <a:latin typeface="Arial"/>
              </a:rPr>
              <a:t>n(n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4267080" y="6033960"/>
            <a:ext cx="106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chemeClr val="folHlink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4343400" y="6033960"/>
            <a:ext cx="914400" cy="360"/>
          </a:xfrm>
          <a:prstGeom prst="line">
            <a:avLst/>
          </a:prstGeom>
          <a:ln cap="sq"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1" lang="en-US" sz="1800" spc="-1" strike="noStrike">
              <a:solidFill>
                <a:schemeClr val="folHlink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5334120" y="5881680"/>
            <a:ext cx="304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chemeClr val="folHlink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5638680" y="5667480"/>
            <a:ext cx="106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chemeClr val="folHlink"/>
                </a:solidFill>
                <a:latin typeface="Arial"/>
              </a:rPr>
              <a:t>5(5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5638680" y="6033960"/>
            <a:ext cx="106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chemeClr val="folHlink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6705720" y="5867280"/>
            <a:ext cx="304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chemeClr val="folHlink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6934320" y="5881680"/>
            <a:ext cx="533160" cy="3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chemeClr val="folHlink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4"/>
          <p:cNvSpPr/>
          <p:nvPr/>
        </p:nvSpPr>
        <p:spPr>
          <a:xfrm>
            <a:off x="5715000" y="6033960"/>
            <a:ext cx="914400" cy="360"/>
          </a:xfrm>
          <a:prstGeom prst="line">
            <a:avLst/>
          </a:prstGeom>
          <a:ln cap="sq"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1" lang="en-US" sz="1800" spc="-1" strike="noStrike">
              <a:solidFill>
                <a:schemeClr val="folHlink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1447920" y="5715000"/>
            <a:ext cx="2819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chemeClr val="folHlink"/>
                </a:solidFill>
                <a:latin typeface="Arial"/>
              </a:rPr>
              <a:t>Alternate sum-of-the-years’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1523880" y="5638680"/>
            <a:ext cx="5943240" cy="761760"/>
          </a:xfrm>
          <a:prstGeom prst="rect">
            <a:avLst/>
          </a:prstGeom>
          <a:noFill/>
          <a:ln cap="rnd" w="28575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folHlink"/>
              </a:solidFill>
              <a:latin typeface="Arial"/>
            </a:endParaRPr>
          </a:p>
        </p:txBody>
      </p:sp>
      <p:sp>
        <p:nvSpPr>
          <p:cNvPr id="126" name="Line 16"/>
          <p:cNvSpPr/>
          <p:nvPr/>
        </p:nvSpPr>
        <p:spPr>
          <a:xfrm>
            <a:off x="380880" y="1066680"/>
            <a:ext cx="8381880" cy="360"/>
          </a:xfrm>
          <a:prstGeom prst="line">
            <a:avLst/>
          </a:prstGeom>
          <a:ln cap="sq"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1800" spc="-1" strike="noStrike">
              <a:solidFill>
                <a:schemeClr val="folHlink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685800" y="2274840"/>
            <a:ext cx="2209320" cy="11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51"/>
              </a:spcBef>
            </a:pPr>
            <a:r>
              <a:rPr b="1" lang="en-US" sz="2300" spc="-1" strike="noStrike">
                <a:solidFill>
                  <a:schemeClr val="folHlink"/>
                </a:solidFill>
                <a:latin typeface="Arial"/>
              </a:rPr>
              <a:t>Data for Stanley Coal Min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6781680" y="1487160"/>
            <a:ext cx="18284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ILLUSTRATION 1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Used to Illu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ciation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609480" y="380880"/>
            <a:ext cx="8381520" cy="560160"/>
          </a:xfrm>
          <a:prstGeom prst="rect">
            <a:avLst/>
          </a:prstGeom>
          <a:noFill/>
          <a:ln w="635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Methods of Depre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8077320" y="6369120"/>
            <a:ext cx="91404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8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381520" cy="27864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609480" y="1365120"/>
            <a:ext cx="8152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80"/>
              </a:spcBef>
              <a:spcAft>
                <a:spcPts val="519"/>
              </a:spcAf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m-of-the-Years’-Dig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380880" y="1066680"/>
            <a:ext cx="8381880" cy="360"/>
          </a:xfrm>
          <a:prstGeom prst="line">
            <a:avLst/>
          </a:prstGeom>
          <a:ln cap="sq"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1800" spc="-1" strike="noStrike">
              <a:solidFill>
                <a:schemeClr val="folHlink"/>
              </a:solidFill>
              <a:latin typeface="Arial"/>
            </a:endParaRPr>
          </a:p>
        </p:txBody>
      </p:sp>
      <p:sp>
        <p:nvSpPr>
          <p:cNvPr id="134" name="Rectangle 1"/>
          <p:cNvSpPr/>
          <p:nvPr/>
        </p:nvSpPr>
        <p:spPr>
          <a:xfrm>
            <a:off x="380880" y="4952880"/>
            <a:ext cx="20570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ILLUSTRATION 11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-of-the-Years’-Dig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ciation Schedule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609480" y="380880"/>
            <a:ext cx="8381520" cy="560160"/>
          </a:xfrm>
          <a:prstGeom prst="rect">
            <a:avLst/>
          </a:prstGeom>
          <a:noFill/>
          <a:ln w="635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Methods of Depre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8077320" y="6369120"/>
            <a:ext cx="91404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609480" y="1365120"/>
            <a:ext cx="8152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80"/>
              </a:spcBef>
              <a:spcAft>
                <a:spcPts val="519"/>
              </a:spcAf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minishing-Charge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609480" y="3735360"/>
            <a:ext cx="7848360" cy="22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i="1" lang="en-US" sz="2200" spc="-1" strike="noStrike">
                <a:solidFill>
                  <a:schemeClr val="folHlink"/>
                </a:solidFill>
                <a:latin typeface="Arial"/>
              </a:rPr>
              <a:t>Declining-Balance Metho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457200">
              <a:lnSpc>
                <a:spcPct val="120000"/>
              </a:lnSpc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</a:pPr>
            <a:r>
              <a:rPr b="0" lang="en-US" sz="2000" spc="-1" strike="noStrike">
                <a:solidFill>
                  <a:schemeClr val="folHlink"/>
                </a:solidFill>
                <a:latin typeface="Arial"/>
              </a:rPr>
              <a:t>Utilizes a depreciation rate (percentage) that is some multiple of the straight-line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457200">
              <a:lnSpc>
                <a:spcPct val="120000"/>
              </a:lnSpc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</a:pPr>
            <a:r>
              <a:rPr b="0" lang="en-US" sz="2000" spc="-1" strike="noStrike">
                <a:solidFill>
                  <a:schemeClr val="folHlink"/>
                </a:solidFill>
                <a:latin typeface="Arial"/>
              </a:rPr>
              <a:t>Does not deduct the salvage value in computing the depreciation 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5105160" cy="1420560"/>
          </a:xfrm>
          <a:prstGeom prst="rect">
            <a:avLst/>
          </a:prstGeom>
          <a:ln w="0">
            <a:noFill/>
          </a:ln>
        </p:spPr>
      </p:pic>
      <p:sp>
        <p:nvSpPr>
          <p:cNvPr id="140" name="Line 16"/>
          <p:cNvSpPr/>
          <p:nvPr/>
        </p:nvSpPr>
        <p:spPr>
          <a:xfrm>
            <a:off x="380880" y="1066680"/>
            <a:ext cx="8381880" cy="360"/>
          </a:xfrm>
          <a:prstGeom prst="line">
            <a:avLst/>
          </a:prstGeom>
          <a:ln cap="sq"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1800" spc="-1" strike="noStrike">
              <a:solidFill>
                <a:schemeClr val="folHlink"/>
              </a:solidFill>
              <a:latin typeface="Arial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685800" y="2274840"/>
            <a:ext cx="2209320" cy="11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51"/>
              </a:spcBef>
            </a:pPr>
            <a:r>
              <a:rPr b="1" lang="en-US" sz="2300" spc="-1" strike="noStrike">
                <a:solidFill>
                  <a:schemeClr val="folHlink"/>
                </a:solidFill>
                <a:latin typeface="Arial"/>
              </a:rPr>
              <a:t>Data for Stanley Coal Min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6781680" y="1487160"/>
            <a:ext cx="18284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ILLUSTRATION 1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Used to Illu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ciation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09480" y="380880"/>
            <a:ext cx="8381520" cy="560160"/>
          </a:xfrm>
          <a:prstGeom prst="rect">
            <a:avLst/>
          </a:prstGeom>
          <a:noFill/>
          <a:ln w="635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Methods of Depre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8077320" y="6369120"/>
            <a:ext cx="91404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09480" y="1365120"/>
            <a:ext cx="8152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80"/>
              </a:spcBef>
              <a:spcAft>
                <a:spcPts val="519"/>
              </a:spcAf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clining-Balance Meth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380880" y="1066680"/>
            <a:ext cx="8381880" cy="360"/>
          </a:xfrm>
          <a:prstGeom prst="line">
            <a:avLst/>
          </a:prstGeom>
          <a:ln cap="sq"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1800" spc="-1" strike="noStrike">
              <a:solidFill>
                <a:schemeClr val="folHlink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380880" y="4724280"/>
            <a:ext cx="20570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ILLUSTRATION 11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Decl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ciation Schedule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381520" cy="2583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4"/>
          <p:cNvSpPr/>
          <p:nvPr/>
        </p:nvSpPr>
        <p:spPr>
          <a:xfrm>
            <a:off x="609480" y="380880"/>
            <a:ext cx="8381520" cy="560160"/>
          </a:xfrm>
          <a:prstGeom prst="rect">
            <a:avLst/>
          </a:prstGeom>
          <a:noFill/>
          <a:ln w="635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Methods of Depre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8077320" y="6369120"/>
            <a:ext cx="91404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movnglnc">
  <a:themeElements>
    <a:clrScheme name="">
      <a:dk1>
        <a:srgbClr val="000000"/>
      </a:dk1>
      <a:lt1>
        <a:srgbClr val="ffffff"/>
      </a:lt1>
      <a:dk2>
        <a:srgbClr val="0000ff"/>
      </a:dk2>
      <a:lt2>
        <a:srgbClr val="000000"/>
      </a:lt2>
      <a:accent1>
        <a:srgbClr val="00ffff"/>
      </a:accent1>
      <a:accent2>
        <a:srgbClr val="ff0000"/>
      </a:accent2>
      <a:accent3>
        <a:srgbClr val="ffffff"/>
      </a:accent3>
      <a:accent4>
        <a:srgbClr val="000000"/>
      </a:accent4>
      <a:accent5>
        <a:srgbClr val="aaffff"/>
      </a:accent5>
      <a:accent6>
        <a:srgbClr val="e70000"/>
      </a:accent6>
      <a:hlink>
        <a:srgbClr val="000099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nglnc">
  <a:themeElements>
    <a:clrScheme name="">
      <a:dk1>
        <a:srgbClr val="000000"/>
      </a:dk1>
      <a:lt1>
        <a:srgbClr val="ffffff"/>
      </a:lt1>
      <a:dk2>
        <a:srgbClr val="0000ff"/>
      </a:dk2>
      <a:lt2>
        <a:srgbClr val="000000"/>
      </a:lt2>
      <a:accent1>
        <a:srgbClr val="00ffff"/>
      </a:accent1>
      <a:accent2>
        <a:srgbClr val="ff0000"/>
      </a:accent2>
      <a:accent3>
        <a:srgbClr val="ffffff"/>
      </a:accent3>
      <a:accent4>
        <a:srgbClr val="000000"/>
      </a:accent4>
      <a:accent5>
        <a:srgbClr val="aaffff"/>
      </a:accent5>
      <a:accent6>
        <a:srgbClr val="e70000"/>
      </a:accent6>
      <a:hlink>
        <a:srgbClr val="000099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:\Program Files\Microsoft Office\Templates\1033\Company Handbook.pot</Template>
  <TotalTime>16803</TotalTime>
  <Application>LibreOffice/7.4.7.2$Linux_X86_64 LibreOffice_project/40$Build-2</Application>
  <AppVersion>15.0000</AppVersion>
  <Pages>43</Pages>
  <Words>323</Words>
  <Paragraphs>7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8T18:03:02Z</dcterms:created>
  <dc:creator>Coby Harmon</dc:creator>
  <dc:description/>
  <dc:language>en-US</dc:language>
  <cp:lastModifiedBy>Salah</cp:lastModifiedBy>
  <cp:lastPrinted>1999-09-16T17:08:20Z</cp:lastPrinted>
  <dcterms:modified xsi:type="dcterms:W3CDTF">2019-04-30T09:42:17Z</dcterms:modified>
  <cp:revision>2508</cp:revision>
  <dc:subject/>
  <dc:title>Financial Accounting and Accounting Standar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8</vt:r8>
  </property>
  <property fmtid="{D5CDD505-2E9C-101B-9397-08002B2CF9AE}" pid="3" name="PresentationFormat">
    <vt:lpwstr>On-screen Show (4:3)</vt:lpwstr>
  </property>
  <property fmtid="{D5CDD505-2E9C-101B-9397-08002B2CF9AE}" pid="4" name="Slides">
    <vt:r8>8</vt:r8>
  </property>
</Properties>
</file>