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6"/>
          <p:cNvSpPr/>
          <p:nvPr/>
        </p:nvSpPr>
        <p:spPr>
          <a:xfrm>
            <a:off x="76320" y="643104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78FF21A-854F-4A06-87A3-3086A87A1B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9"/>
          <p:cNvSpPr/>
          <p:nvPr/>
        </p:nvSpPr>
        <p:spPr>
          <a:xfrm>
            <a:off x="609480" y="1371600"/>
            <a:ext cx="8305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Illustration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ndel Company reports the following financial information before adjustm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0"/>
          <p:cNvSpPr/>
          <p:nvPr/>
        </p:nvSpPr>
        <p:spPr>
          <a:xfrm>
            <a:off x="609480" y="4002120"/>
            <a:ext cx="754344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Instructio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Prepare the journal entry to record bad debt expense assuming Sandel Company estimates bad debts at (a) 1% of net sales and (b) 5% of accounts receiv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3520" y="2185560"/>
            <a:ext cx="779004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"/>
          <p:cNvSpPr/>
          <p:nvPr/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anc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990720" y="5029200"/>
            <a:ext cx="807696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5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Debt Expe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Doubtful Accou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€800,000 – €50,000) x 1% = €7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09480" y="1371600"/>
            <a:ext cx="8305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Illustration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ndel Company reports the following financial information before adjustm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09480" y="4003560"/>
            <a:ext cx="84578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Instructions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journal entry assuming Sandel estimates bad debts at (b)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1% of net s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anc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3520" y="2185560"/>
            <a:ext cx="7790040" cy="17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609480" y="4003560"/>
            <a:ext cx="845784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Instructions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journal entry assuming Sandel estimates bad debts at (b)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5% of accounts receiv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90720" y="5029200"/>
            <a:ext cx="807696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15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Debt Expe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Doubtful Accou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€160,000 x 5%) – €2,000) = €6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09480" y="1371600"/>
            <a:ext cx="8305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Illustration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ndel Company reports the following financial information before adjustm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anc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3520" y="2185560"/>
            <a:ext cx="7790040" cy="1700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1033\Company Handbook.pot</Template>
  <TotalTime>15475</TotalTime>
  <Application>LibreOffice/7.4.7.2$Linux_X86_64 LibreOffice_project/40$Build-2</Application>
  <AppVersion>15.0000</AppVersion>
  <Pages>43</Pages>
  <Words>132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8T18:03:02Z</dcterms:created>
  <dc:creator>Coby Harmon</dc:creator>
  <dc:description/>
  <dc:language>en-US</dc:language>
  <cp:lastModifiedBy>Salah</cp:lastModifiedBy>
  <cp:lastPrinted>1999-09-16T17:08:20Z</cp:lastPrinted>
  <dcterms:modified xsi:type="dcterms:W3CDTF">2019-04-01T09:39:16Z</dcterms:modified>
  <cp:revision>2025</cp:revision>
  <dc:subject/>
  <dc:title>Financial Accounting and Accounting Stand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</vt:r8>
  </property>
</Properties>
</file>