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6"/>
          <p:cNvSpPr/>
          <p:nvPr/>
        </p:nvSpPr>
        <p:spPr>
          <a:xfrm>
            <a:off x="76320" y="643104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9382741-D53F-49DC-B131-DB938BEB78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4"/>
          <p:cNvSpPr/>
          <p:nvPr/>
        </p:nvSpPr>
        <p:spPr>
          <a:xfrm>
            <a:off x="609480" y="1371600"/>
            <a:ext cx="83055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Illustration: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inancial vice president of Brown Furniture authorizes a write-off of the £1,000 balance owed by Randall Co. on March 1. The entry to record the write-off 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914400" y="2711520"/>
            <a:ext cx="76197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5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Doubtful Accou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609480" y="3819600"/>
            <a:ext cx="8305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ume that on July 1, Randall Co. pays the £1,000 amount that Brown had written off on March 1. These are the entr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533520" y="4754520"/>
            <a:ext cx="8152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57160" indent="-457200">
              <a:lnSpc>
                <a:spcPct val="115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7160" indent="-457200">
              <a:lnSpc>
                <a:spcPct val="115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Doubtful Accou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7160" indent="-457200">
              <a:lnSpc>
                <a:spcPct val="115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7160" indent="-457200">
              <a:lnSpc>
                <a:spcPct val="115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-Off of Uncollectible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1033\Company Handbook.pot</Template>
  <TotalTime>15475</TotalTime>
  <Application>LibreOffice/7.4.7.2$Linux_X86_64 LibreOffice_project/40$Build-2</Application>
  <AppVersion>15.0000</AppVersion>
  <Pages>43</Pages>
  <Words>74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8T18:03:02Z</dcterms:created>
  <dc:creator>Coby Harmon</dc:creator>
  <dc:description/>
  <dc:language>en-US</dc:language>
  <cp:lastModifiedBy>Salah</cp:lastModifiedBy>
  <cp:lastPrinted>1999-09-16T17:08:20Z</cp:lastPrinted>
  <dcterms:modified xsi:type="dcterms:W3CDTF">2019-04-01T09:48:16Z</dcterms:modified>
  <cp:revision>2025</cp:revision>
  <dc:subject/>
  <dc:title>Financial Accounting and Accounting Stand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</vt:r8>
  </property>
</Properties>
</file>