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C89-5A30-4D76-9E14-0869283C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6C0-6AEF-497D-AE2A-605721A1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CD6-2428-4208-A124-CBDDE9C2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B48-C8FD-459E-9D41-887EF50D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744D-1A93-48ED-A887-61B835A5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10CE-AC23-40C3-9AB8-C548CF9D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D95B-D7DF-4C65-906E-B5965434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2F4B-5B2A-4C64-AB5B-BC55ECEB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114D-90D9-4884-8E2F-94DB5612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2892-FEB4-45D5-9D92-CEFC3A9E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57E5-E0E6-4403-B9FB-338D691C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897-7685-4536-A8E5-BD37F125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3F50-6188-4D97-ABEE-BED9984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E663-FF60-4DD3-AC77-A99CCDCA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D934-40EB-4D96-A426-65E70B1B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AB0B-84A3-45C4-AAB7-B751FF3F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BDD8-2FB0-4F8C-9437-D6E8878E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C66-CD1F-4712-87A3-EAAB4E7F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2FF-2001-4534-865D-9EAFC05F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1F4-360C-407C-B58C-F39F1F0F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13D-FF24-4BCE-B8E3-E9D65A60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96A-39F6-4B5E-9390-3BE14689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C04-3C46-4C7D-94A2-5182593E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364-4B41-4679-845D-5E1F058F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719E4590-72A8-4000-8186-D121574369F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BE0F5326-07D7-4292-A978-E870D578381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7200" spc="-1" strike="noStrike" u="sng">
                <a:solidFill>
                  <a:srgbClr val="7030a0"/>
                </a:solidFill>
                <a:uFillTx/>
                <a:latin typeface="Calibri"/>
              </a:rPr>
              <a:t>Lecture O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 rtl="1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Events &amp; Probabi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ample 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dice are thrown once. Le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two events defin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the first die shows the numb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the sum of two numbers appearing is less th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:  P(A) , P(B) , P(A B) , P(A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, P(A∩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= {(1,1), (1,2), (1,3), (1,4), (1,5), (1,6)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∩B= {(1,1), (1,2), (1,3), (1,4)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(A 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 = P(A) + P(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 - P(A∩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(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 = 1- P(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(A∩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 = P(A) - P(A∩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Conditional Probabilit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re three urn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Ur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ains six balls {three red, two black, one white}. Ur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ains four balls {one red, one black, two white}. Ur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ains twelve balls {three red, five black, four white}. We selec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ll from these urns 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ndom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, and then select two balls after that we notice one of them is white and the other is red. What is the probability these two balls were selected from ur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Under the principle of "equally likely", t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(A) = Pr(B) = Pr(C) = 1/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Two balls are selected regardless the urns {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}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wo balls are selected from ur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wo balls are selected from ur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wo balls are selected from ur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2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119f36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119f36"/>
                </a:solidFill>
                <a:uFillTx/>
                <a:latin typeface="Calibri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trial, the judge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5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re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s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s committed a crime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Juli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be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nesses who know whether Susan is innocent or guilty. However, Robert is Susan’s friend and will lie with probabilit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.2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Susan is guilty. He will tell the truth if she is innocent. Julie is Susan’s enemy and will lie with probabilit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.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Susan is innocent. She will tell the truth if Susan is guilty. What is the probability that Susan is guilty if Robert and Julie give conflicting testimon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  <Words>412</Words>
  <Paragraphs>25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19:23:08Z</dcterms:created>
  <dc:creator>DR.Ahmed Saker</dc:creator>
  <dc:description/>
  <dc:language>en-US</dc:language>
  <cp:lastModifiedBy>DR.Ahmed Saker</cp:lastModifiedBy>
  <dcterms:modified xsi:type="dcterms:W3CDTF">2019-03-25T19:38:14Z</dcterms:modified>
  <cp:revision>2</cp:revision>
  <dc:subject/>
  <dc:title>Lecture 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</vt:r8>
  </property>
</Properties>
</file>