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B8C-5DCA-4A59-AB14-51669333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D90-52DC-4392-B033-ABB39366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2F0-1091-4A50-ACA4-7EED01EA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14E-70B4-46D6-8A59-0EF0C325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64FA-A50C-4874-8324-351E3D83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6538-4374-43FB-80D3-9A7BBE18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17EC-4B03-4FD3-893C-9F87762C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284C-9932-464E-999C-FE71E2D1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0B9A-D9BF-4112-9250-92484579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C197-B816-48DB-BBDE-52BE7104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F791-F445-412F-9ED5-3ABFD258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5DD-B665-47B5-993D-E16858EC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4AF4-CF61-46E3-95CD-F06320FC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D01D-D3E8-4026-B405-725372B0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14AE-124A-4122-905F-261D78FD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31F6-31F9-4C0F-A24E-585A0032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15DE-A9E6-4C55-B072-2F0DED8B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80D-795E-4002-90CB-2FCBD73B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A63-888F-42B1-8D4F-6F99CFC3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C8F-016A-4C6E-AD67-C6E74792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0EA-189D-43DE-9E60-ABE40895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AE1-BED1-446C-A622-5A55C545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26D-0528-4263-9AB3-158F0440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047-8920-45AB-A03D-CF17AB87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2EB7AB8-1AE8-46A0-BF5F-54553F66C2F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0F02D173-695F-465A-98BE-C3890D437DF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7200" spc="-1" strike="noStrike" u="sng">
                <a:solidFill>
                  <a:srgbClr val="7030a0"/>
                </a:solidFill>
                <a:uFillTx/>
                <a:latin typeface="Calibri"/>
              </a:rPr>
              <a:t>Lecture T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 rtl="1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Gamma Distribution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24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ma distribution is commonly used in waiting time and lifetime applications where is the component continues in working until its "failure" or "death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.v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Gamma distribution with scale parameter (λ &gt; 0) and shape parameter (r &gt; 0) we can say that :   X ~ Gamma(r , λ) i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979640" y="3780720"/>
            <a:ext cx="32925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7200" y="935280"/>
            <a:ext cx="8229240" cy="48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ntent Placeholder 3" descr=""/>
          <p:cNvPicPr/>
          <p:nvPr/>
        </p:nvPicPr>
        <p:blipFill>
          <a:blip r:embed="rId1"/>
          <a:stretch/>
        </p:blipFill>
        <p:spPr>
          <a:xfrm>
            <a:off x="457200" y="827280"/>
            <a:ext cx="8229240" cy="48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331640" y="810000"/>
            <a:ext cx="1872000" cy="458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1297800" y="1412640"/>
          <a:ext cx="1803240" cy="79164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7800" y="1412640"/>
                    <a:ext cx="1803240" cy="79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Object 6"/>
          <p:cNvGraphicFramePr/>
          <p:nvPr/>
        </p:nvGraphicFramePr>
        <p:xfrm>
          <a:off x="1299600" y="2277000"/>
          <a:ext cx="1234080" cy="71964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9600" y="2277000"/>
                    <a:ext cx="1234080" cy="7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8"/>
          <p:cNvGraphicFramePr/>
          <p:nvPr/>
        </p:nvGraphicFramePr>
        <p:xfrm>
          <a:off x="1187640" y="3141000"/>
          <a:ext cx="2373480" cy="82512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97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640" y="3141000"/>
                    <a:ext cx="2373480" cy="82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Object 10"/>
          <p:cNvGraphicFramePr/>
          <p:nvPr/>
        </p:nvGraphicFramePr>
        <p:xfrm>
          <a:off x="1340640" y="4077000"/>
          <a:ext cx="1810080" cy="791640"/>
        </p:xfrm>
        <a:graphic>
          <a:graphicData uri="http://schemas.openxmlformats.org/presentationml/2006/ole">
            <p:oleObj progId="Equation.3" r:id="rId8" spid="">
              <p:embed/>
              <p:pic>
                <p:nvPicPr>
                  <p:cNvPr id="100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40640" y="4077000"/>
                    <a:ext cx="1810080" cy="79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1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12"/>
          <p:cNvGraphicFramePr/>
          <p:nvPr/>
        </p:nvGraphicFramePr>
        <p:xfrm>
          <a:off x="3996000" y="4077000"/>
          <a:ext cx="1918080" cy="863640"/>
        </p:xfrm>
        <a:graphic>
          <a:graphicData uri="http://schemas.openxmlformats.org/presentationml/2006/ole">
            <p:oleObj progId="Equation.3" r:id="rId10" spid="">
              <p:embed/>
              <p:pic>
                <p:nvPicPr>
                  <p:cNvPr id="103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6000" y="4077000"/>
                    <a:ext cx="1918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14"/>
          <p:cNvGraphicFramePr/>
          <p:nvPr/>
        </p:nvGraphicFramePr>
        <p:xfrm>
          <a:off x="6300360" y="4005000"/>
          <a:ext cx="2040120" cy="878400"/>
        </p:xfrm>
        <a:graphic>
          <a:graphicData uri="http://schemas.openxmlformats.org/presentationml/2006/ole">
            <p:oleObj progId="Equation.3" r:id="rId12" spid="">
              <p:embed/>
              <p:pic>
                <p:nvPicPr>
                  <p:cNvPr id="106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00360" y="4005000"/>
                    <a:ext cx="2040120" cy="8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67</Words>
  <Paragraphs>4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21:55:51Z</dcterms:created>
  <dc:creator>DR.Ahmed Saker</dc:creator>
  <dc:description/>
  <dc:language>en-US</dc:language>
  <cp:lastModifiedBy>DR.Ahmed Saker</cp:lastModifiedBy>
  <dcterms:modified xsi:type="dcterms:W3CDTF">2019-03-25T22:02:06Z</dcterms:modified>
  <cp:revision>1</cp:revision>
  <dc:subject/>
  <dc:title>Lecture T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</vt:r8>
  </property>
</Properties>
</file>