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CF9-A5A3-4786-AF75-7CF514E3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33B-F0E7-43F6-AABF-C53BE63A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147-6A21-4045-8D72-2D1B8D8B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0A1A-72DF-4D7C-889C-D866FE0E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AA46-302C-45BA-BEA0-4C484525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7888-23CC-4ED3-A29E-A3B33FAB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9E09-6154-4F59-A6C1-4FCCE4ED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7F83-F5BF-4F7D-AE0B-27F099F7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5422-4604-4BD6-BCEC-1A46C369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40B9-313A-4233-B122-F73BDB0C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9221-3100-4821-9435-0BFC2163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E7DA-F393-4D7D-BD16-42363BEF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9CC3-3099-46D5-9B41-13153A5A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196B-2483-40D7-AB06-67AC8DE0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E007-5096-4584-B643-D07D4C6E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6304-6E7C-446C-A2EA-4A3F35C7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0FA0-AA3C-4E9B-BCCE-A34B28C8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2A9-F0C5-4C08-8FA3-6E4E083E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658-DAC3-4B4C-9E61-7CA0E62C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5EF-6BC6-4894-8F2D-88931D0A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1969-D914-4F39-A8EC-C28EA790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FDB-E49E-4E5E-A99E-ADF02D35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758-84E0-4792-9F93-C5AB4D0C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FDC6-12AA-4442-ACD8-3E462CDD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5BED47E0-E123-45FE-B5F9-D8445E14022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9B2FB6AE-234D-41E7-9D8F-2E0B9B9F354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7200" spc="-1" strike="noStrike" u="sng">
                <a:solidFill>
                  <a:srgbClr val="7030a0"/>
                </a:solidFill>
                <a:uFillTx/>
                <a:latin typeface="Calibri"/>
              </a:rPr>
              <a:t>Lecture Thre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665640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 rtl="1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umulative Distribution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2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we have a probability space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 random variabl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, then we can find a single valued real and non-negative function F(x) called the Cumulative Distribution Function of a r.v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defined as bel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012000" y="946440"/>
            <a:ext cx="1367640" cy="334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1907640" y="3846240"/>
            <a:ext cx="3816000" cy="10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discrete r.v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p.m.f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(x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627640" y="1196640"/>
            <a:ext cx="328644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1259640" y="1989000"/>
            <a:ext cx="67683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sely, if the C.D.F. of discrete r.v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known, 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1526400" y="3545640"/>
            <a:ext cx="6234480" cy="67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69264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continuous r.v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p.d.f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835640" y="1412640"/>
            <a:ext cx="3128400" cy="875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1115640" y="2637000"/>
            <a:ext cx="66963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sely, if the C.D.F. of continuous r.v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known, 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331640" y="4044240"/>
            <a:ext cx="20682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b050"/>
                </a:solidFill>
                <a:uFillTx/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X be a r.v. has a p.m.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115640" y="2345040"/>
            <a:ext cx="2880000" cy="719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1259640" y="3085920"/>
          <a:ext cx="2304000" cy="138204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9640" y="3085920"/>
                    <a:ext cx="2304000" cy="138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827640" y="4581000"/>
          <a:ext cx="2908080" cy="143964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7640" y="4581000"/>
                    <a:ext cx="290808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b050"/>
                </a:solidFill>
                <a:uFillTx/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the C.D.F. of the following probability function and graph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619640" y="2626560"/>
            <a:ext cx="2728800" cy="6861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1049760" y="3313080"/>
          <a:ext cx="2725200" cy="169992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9760" y="3313080"/>
                    <a:ext cx="2725200" cy="16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6" descr=""/>
          <p:cNvPicPr/>
          <p:nvPr/>
        </p:nvPicPr>
        <p:blipFill>
          <a:blip r:embed="rId4"/>
          <a:stretch/>
        </p:blipFill>
        <p:spPr>
          <a:xfrm>
            <a:off x="4572000" y="3069000"/>
            <a:ext cx="338400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  <Words>122</Words>
  <Paragraphs>16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20:09:51Z</dcterms:created>
  <dc:creator>DR.Ahmed Saker</dc:creator>
  <dc:description/>
  <dc:language>en-US</dc:language>
  <cp:lastModifiedBy>DR.Ahmed Saker</cp:lastModifiedBy>
  <dcterms:modified xsi:type="dcterms:W3CDTF">2019-03-25T20:27:29Z</dcterms:modified>
  <cp:revision>2</cp:revision>
  <dc:subject/>
  <dc:title>Lecture Thr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