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4902-5DF0-490D-B024-51A7B7181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859B-0534-4CA4-8E17-C1F0A3FA7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FF6E-9F19-4309-9CE3-24A8008E7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BA81-5956-42E9-83AC-832196811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1D935-0F5B-4E43-8F7D-5AF56A940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7BA69-6E57-4998-A2FB-F4FF07F80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16D25-0B36-42F4-BBA9-C6431A35A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B4390-CBA2-42C3-89EB-BFB261C85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BEC71-7C1E-4ACA-B6B1-E706C9522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3E09E-C493-403B-AE4C-D26AFA40D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E15A2-4137-4AA8-ABE5-DF4C5C36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4948-3EC1-4363-BD0F-BE1892DAD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999FA-FDCF-4F6F-8F23-374F4A69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5EC2F-3773-4ABD-85E3-496543B1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6F326-AB92-4FF4-9AB6-563029E9A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7A7A3-9B70-4E9A-B937-3C33C05D9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492A7-D8F4-4CF7-B31E-265B0E5A9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7FF3-9A6D-440A-A7BE-FD807B943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EA44-81C9-4784-9641-DACB3AC85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49FF-B1CB-4263-B5EC-FE3385B7E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7A17-FF7B-48A5-A15D-41182F601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DB1F-38A9-44D2-A5F3-352504E8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CF9E-48C2-41DD-B833-58DFA673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4799-08C8-4A38-91DB-535F380B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298F55DD-B0AC-43AE-BC87-14126ED64EF2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 algn="r" rtl="1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 algn="r" rtl="1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 algn="r" rtl="1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D7B37F4F-ABE8-4416-B8C4-E7D29662FF52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7200" spc="-1" strike="noStrike" u="sng">
                <a:solidFill>
                  <a:srgbClr val="7030a0"/>
                </a:solidFill>
                <a:uFillTx/>
                <a:latin typeface="Calibri"/>
              </a:rPr>
              <a:t>Lecture Four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 rtl="1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Mathematical Expectation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4400" spc="-1" strike="noStrike" u="sng">
                <a:solidFill>
                  <a:srgbClr val="00b050"/>
                </a:solidFill>
                <a:uFillTx/>
                <a:latin typeface="Calibri"/>
              </a:rPr>
              <a:t>Definition</a:t>
            </a:r>
            <a:r>
              <a:rPr b="1" lang="en-US" sz="4400" spc="-1" strike="noStrike" u="sng">
                <a:solidFill>
                  <a:srgbClr val="00b050"/>
                </a:solidFill>
                <a:uFillTx/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t X be a r.v. and let u(x) be a function of X. Then, Mathematical Expectation value of u(x) will b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115640" y="3141000"/>
            <a:ext cx="5595480" cy="21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4400" spc="-1" strike="noStrike" u="sng">
                <a:solidFill>
                  <a:srgbClr val="00b050"/>
                </a:solidFill>
                <a:uFillTx/>
                <a:latin typeface="Calibri"/>
              </a:rPr>
              <a:t>Me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u(x) = x         →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it exists it called the "arithmetic mean of the distribution" or    merely called "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Me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" of r.v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denoted as µ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4788000" y="1772640"/>
            <a:ext cx="1872000" cy="431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1588320" y="3789000"/>
            <a:ext cx="4592880" cy="16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4400" spc="-1" strike="noStrike" u="sng">
                <a:solidFill>
                  <a:srgbClr val="00b050"/>
                </a:solidFill>
                <a:uFillTx/>
                <a:latin typeface="Calibri"/>
              </a:rPr>
              <a:t>Central Mo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"r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entral moment of r.v. X about the constant (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is given by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026720" y="3267000"/>
            <a:ext cx="487368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 u="sng">
                <a:solidFill>
                  <a:srgbClr val="00b050"/>
                </a:solidFill>
                <a:uFillTx/>
                <a:latin typeface="Calibri"/>
              </a:rPr>
              <a:t>Non-central Mo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times calle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“Raw Moments”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"r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aw moment of a r.v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enoted by         and defined a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3004560" y="3205080"/>
            <a:ext cx="2009880" cy="1015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6660360" y="2277000"/>
            <a:ext cx="575640" cy="71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  <Words>116</Words>
  <Paragraphs>11</Paragraphs>
  <Company>Microsoft (C)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5T20:28:59Z</dcterms:created>
  <dc:creator>DR.Ahmed Saker</dc:creator>
  <dc:description/>
  <dc:language>en-US</dc:language>
  <cp:lastModifiedBy>DR.Ahmed Saker</cp:lastModifiedBy>
  <dcterms:modified xsi:type="dcterms:W3CDTF">2019-03-25T20:38:45Z</dcterms:modified>
  <cp:revision>1</cp:revision>
  <dc:subject/>
  <dc:title>Lecture Fou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5</vt:r8>
  </property>
</Properties>
</file>