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9F80-B149-48D5-A1FD-1205733F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4330-3F07-45A2-B4E0-0A139BC9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5810-056C-4A1C-AAB1-1F47BACF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D5C-09F4-4396-9F44-2B1583B3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17EC-7E40-4EB0-B5C6-79B54D2D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9790-F09B-4FAF-A8E2-30E6DEF4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D627-922A-47FA-914E-C0201ABF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1C28-FC4D-4161-B27B-F3DF4B8B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4519-5BBF-4BC0-A64F-B060A85E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9681-C85A-4D5D-A87C-6E780E87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98EA-7AFD-42A7-8484-323D58F4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5C8-E4FF-4D36-8B35-668EBC19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357A-F09F-4D70-9463-6A7C9B96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FA91-3CC1-4EDB-96A9-0DFD4A77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E72E-FC15-46EB-9A73-B277F50F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DCEB-B1FD-4D96-A55C-E7A40821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7E7D-F76D-4B92-8CAD-E9D6FFB1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3E38-0911-4E1C-A309-14C2F828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F41-C73F-44D4-9D70-15B96CA3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D6A-25FF-4164-AA8F-74D0776E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FB3-3E4D-4010-BB21-FF9EC438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F56-ABA8-49B2-9058-8977EA96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862-B17D-4D13-9302-B4E9E363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BE14-1BB6-457F-AA51-D89B0518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87A1E5CF-1F3E-4EF0-A8C1-40A02FF05F9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DB51E1F1-E2EB-4464-97FB-B007AA1139F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7200" spc="-1" strike="noStrike" u="sng">
                <a:solidFill>
                  <a:srgbClr val="7030a0"/>
                </a:solidFill>
                <a:uFillTx/>
                <a:latin typeface="Calibri"/>
              </a:rPr>
              <a:t>Lecture Fiv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 Moment Generating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b050"/>
                </a:solidFill>
                <a:uFillTx/>
                <a:latin typeface="Calibri"/>
              </a:rPr>
              <a:t>M.g.f</a:t>
            </a:r>
            <a:r>
              <a:rPr b="1" lang="en-US" sz="4400" spc="-1" strike="noStrike" u="sng">
                <a:solidFill>
                  <a:srgbClr val="00b050"/>
                </a:solidFill>
                <a:uFillTx/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that there is a positive number (h) such that  E[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  exists for some (t) where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.g.f. is a function of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not of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because x's are random sample values and will be substituted and only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will appear at the final resu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348000" y="2915280"/>
            <a:ext cx="1757160" cy="7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b050"/>
                </a:solidFill>
                <a:uFillTx/>
                <a:latin typeface="Calibri"/>
              </a:rPr>
              <a:t>The Characteristic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racteristic Function of random variable X and denoted by :      . That is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364000" y="2277000"/>
            <a:ext cx="575640" cy="435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1475640" y="3285000"/>
            <a:ext cx="570672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b050"/>
                </a:solidFill>
                <a:uFillTx/>
                <a:latin typeface="Calibri"/>
              </a:rPr>
              <a:t>M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 of a certain distribution function of a r.v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measures the central location of probability function. It is defined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f it exis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as the value at which probability function (relative frequency) attains its largest point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ximu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as bel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548640"/>
            <a:ext cx="822924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 Continuous random 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de =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m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of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.r.v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then, it can be obtained by sett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195640" y="2493000"/>
            <a:ext cx="2221200" cy="71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899640" y="4293000"/>
            <a:ext cx="432000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240" cy="55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 Discrete random 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de=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m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.r.v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then, it can be obtained by sett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403640" y="3313080"/>
            <a:ext cx="6635520" cy="4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b050"/>
                </a:solidFill>
                <a:uFillTx/>
                <a:latin typeface="Calibri"/>
              </a:rPr>
              <a:t>Median</a:t>
            </a:r>
            <a:r>
              <a:rPr b="1" lang="en-US" sz="4400" spc="-1" strike="noStrike" u="sng">
                <a:solidFill>
                  <a:srgbClr val="00b05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dian of probability distribution is the value which divides the total probability into two equal parts. Median of a r.v.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is the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quantile, i.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403640" y="3652920"/>
            <a:ext cx="2018880" cy="784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1043640" y="4941000"/>
            <a:ext cx="2079000" cy="80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  <Words>208</Words>
  <Paragraphs>25</Paragraphs>
  <Company>Microsoft (C)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5T20:40:11Z</dcterms:created>
  <dc:creator>DR.Ahmed Saker</dc:creator>
  <dc:description/>
  <dc:language>en-US</dc:language>
  <cp:lastModifiedBy>DR.Ahmed Saker</cp:lastModifiedBy>
  <dcterms:modified xsi:type="dcterms:W3CDTF">2019-03-25T20:52:37Z</dcterms:modified>
  <cp:revision>2</cp:revision>
  <dc:subject/>
  <dc:title>Lecture F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</vt:r8>
  </property>
</Properties>
</file>