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F08-974C-4EF8-8B9D-C8562972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EB6-8D59-40A9-8250-166B6F1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CF4-0DE4-43D4-A428-FFF11793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F36-8D0C-47DF-806A-616170FA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8ABC-57F7-4F21-83DC-2EF38A56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16B-1973-4913-BB88-31EE9ED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5B07-0875-4CA5-9D82-E0BA6AD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FD4-3836-425A-854D-DA3CF0A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106D-5F47-4B77-84F2-7F59CC7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9D6D-A325-446B-8F69-8B3B827B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CD9-A867-4B07-AC63-F2CC098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0EC-0EA2-470A-A6AF-16B5324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317A-A04B-46B6-BBB5-A62A55A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914-B3AB-4AA9-BC90-3DC9FD4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1447-AA7D-4B1F-96F6-83FFBF2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C6DA-52CD-4E32-95C8-EA13EDA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CC0-55F2-49D1-8AC4-5D8C5C0F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D62-AD4A-4456-B3DF-28ABC83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5C2-E415-447C-B367-FA93338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8A6-1DC0-4A9C-99FC-6A245E08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F61-89BD-42D3-A894-FA09548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40A-B01D-411A-87CF-0EB8F2F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8F2-E7AF-4565-ABC2-25C64C2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5DE-865B-4273-B712-0147CCC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7AC8C46-1F79-4B31-A531-1A884C4984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D713CF1-2C61-4029-AD66-ED9B03890DA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Sev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oisson Distrib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94360"/>
            <a:ext cx="8229240" cy="55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sson Distribution represents the number of fatal traffic accidents per week in a certain city, the number of the telephone calls per hour coming into switch board of a large business or the number of the organisms per unit volume of some fluid , …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.v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Poisson distribution , i.e.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~ Po(λ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parameter (λ &gt; 0) i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47640" y="3357000"/>
            <a:ext cx="3427200" cy="1713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500480" y="5373360"/>
            <a:ext cx="213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=2.718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93528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57200" y="97092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755640" y="692640"/>
          <a:ext cx="4142880" cy="6199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640"/>
                    <a:ext cx="4142880" cy="6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971640" y="1772640"/>
            <a:ext cx="1958400" cy="575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1331640" y="2853000"/>
          <a:ext cx="2327040" cy="575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1640" y="2853000"/>
                    <a:ext cx="232704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870840" y="4005000"/>
          <a:ext cx="2460960" cy="98424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0840" y="4005000"/>
                    <a:ext cx="24609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b050"/>
                </a:solidFill>
                <a:uFillTx/>
                <a:latin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t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X ~ Po(λ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wh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is always denotes the average number and we can obtain it as follows:                from parameters of Binomial distrib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sson distribution can be used to get the approximate probability function of Binomial distribution from which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y large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p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y small. That mea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                , then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123640" y="2525760"/>
            <a:ext cx="108252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115640" y="5476680"/>
            <a:ext cx="791640" cy="25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2949480" y="5301360"/>
            <a:ext cx="941400" cy="45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4"/>
          <a:stretch/>
        </p:blipFill>
        <p:spPr>
          <a:xfrm>
            <a:off x="5868000" y="5157720"/>
            <a:ext cx="935640" cy="4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49</Words>
  <Paragraphs>13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07:00Z</dcterms:created>
  <dc:creator>DR.Ahmed Saker</dc:creator>
  <dc:description/>
  <dc:language>en-US</dc:language>
  <cp:lastModifiedBy>DR.Ahmed Saker</cp:lastModifiedBy>
  <dcterms:modified xsi:type="dcterms:W3CDTF">2019-03-25T21:16:56Z</dcterms:modified>
  <cp:revision>1</cp:revision>
  <dc:subject/>
  <dc:title>Lecture S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