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D31D-FEC6-4B3D-83D7-CA1970E8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1F95-A83C-43B8-B9F9-034E9A7D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A231-E544-486D-B0FE-B2F4A1EFB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BE6B-EA70-4B88-85E7-67155505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3037-23E8-4DFA-901F-113B8DF0D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CD11-A0DA-4665-B102-C7586D69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38B0-1E46-49EF-A39E-FCB466DD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2ECE-B110-4753-9EE6-351BD98A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967D-F294-4989-B8F2-BB5630C7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E145-2B35-4A80-88BF-C07F70A7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7D09-1A92-425E-9C06-32F29418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45F2-EE79-4CCA-906F-632965C1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4E45-15FE-4073-8B92-10C93872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E4A1-BEFB-4EA8-B7E0-059C7D8F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FEBF-7F03-44E1-9BA4-2C72C0F7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0F53-3A7A-44A8-8D0A-D4D21204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AB3A-0E22-4B1C-9859-E41016C0C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889D-DA35-4C28-ACE6-374F92FB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7195-CCF9-4D4F-BABD-55A1C019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2FB6-BA09-41EB-9FF1-E349DFAE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BC74-9C24-4D2A-AA30-B6B613B8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64FB-B211-4E16-86AB-D17B3DF6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2E42-85F9-4865-BC7E-15465F04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88DB-8AE2-47B4-9FC0-01D7DD56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56E92135-3008-4B92-B30B-337B7629762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FC8BDF59-B4D9-4947-8723-C5090FEEA46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7200" spc="-1" strike="noStrike" u="sng">
                <a:solidFill>
                  <a:srgbClr val="7030a0"/>
                </a:solidFill>
                <a:uFillTx/>
                <a:latin typeface="Calibri"/>
              </a:rPr>
              <a:t>Lecture Eight</a:t>
            </a:r>
            <a:r>
              <a:rPr b="1" lang="en-US" sz="7200" spc="-1" strike="noStrike" u="sng">
                <a:solidFill>
                  <a:srgbClr val="7030a0"/>
                </a:solidFill>
                <a:uFillTx/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ontinuous Uniform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240" cy="55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r.v. X has Uniform dist. or sometimes called "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ctangula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 dist. with parameters (a) &amp; (b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: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259640" y="1772640"/>
            <a:ext cx="2073600" cy="431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1716840" y="2886120"/>
            <a:ext cx="393084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Content Placeholder 3" descr=""/>
          <p:cNvPicPr/>
          <p:nvPr/>
        </p:nvPicPr>
        <p:blipFill>
          <a:blip r:embed="rId1"/>
          <a:stretch/>
        </p:blipFill>
        <p:spPr>
          <a:xfrm>
            <a:off x="457200" y="1006920"/>
            <a:ext cx="8229240" cy="48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Content Placeholder 3" descr=""/>
          <p:cNvPicPr/>
          <p:nvPr/>
        </p:nvPicPr>
        <p:blipFill>
          <a:blip r:embed="rId1"/>
          <a:stretch/>
        </p:blipFill>
        <p:spPr>
          <a:xfrm>
            <a:off x="457200" y="898920"/>
            <a:ext cx="8229240" cy="48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83640" y="1628640"/>
            <a:ext cx="727236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form distribution may be denoted b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(a , b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it is also known as: "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ctangular distribu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. In addition, i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istribut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(0 , 1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med "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andard Unifor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stribu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 which has a wide application in "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ta gener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 in computer programs illustrated in model Simul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548640"/>
            <a:ext cx="822924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Object 4"/>
          <p:cNvGraphicFramePr/>
          <p:nvPr/>
        </p:nvGraphicFramePr>
        <p:xfrm>
          <a:off x="611640" y="836640"/>
          <a:ext cx="4823280" cy="98820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640" y="836640"/>
                    <a:ext cx="4823280" cy="98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Picture 3" descr=""/>
          <p:cNvPicPr/>
          <p:nvPr/>
        </p:nvPicPr>
        <p:blipFill>
          <a:blip r:embed="rId3"/>
          <a:stretch/>
        </p:blipFill>
        <p:spPr>
          <a:xfrm>
            <a:off x="827640" y="2277000"/>
            <a:ext cx="6175080" cy="9356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Object 6"/>
          <p:cNvGraphicFramePr/>
          <p:nvPr/>
        </p:nvGraphicFramePr>
        <p:xfrm>
          <a:off x="1115640" y="3357000"/>
          <a:ext cx="3556080" cy="791640"/>
        </p:xfrm>
        <a:graphic>
          <a:graphicData uri="http://schemas.openxmlformats.org/presentationml/2006/ole">
            <p:oleObj progId="Equation.3" r:id="rId4" spid="">
              <p:embed/>
              <p:pic>
                <p:nvPicPr>
                  <p:cNvPr id="98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15640" y="3357000"/>
                    <a:ext cx="3556080" cy="79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8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Object 8"/>
          <p:cNvGraphicFramePr/>
          <p:nvPr/>
        </p:nvGraphicFramePr>
        <p:xfrm>
          <a:off x="1011600" y="4293000"/>
          <a:ext cx="3056760" cy="719640"/>
        </p:xfrm>
        <a:graphic>
          <a:graphicData uri="http://schemas.openxmlformats.org/presentationml/2006/ole">
            <p:oleObj progId="Equation.3" r:id="rId6" spid="">
              <p:embed/>
              <p:pic>
                <p:nvPicPr>
                  <p:cNvPr id="101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11600" y="4293000"/>
                    <a:ext cx="3056760" cy="7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Rectangle 10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Object 10"/>
          <p:cNvGraphicFramePr/>
          <p:nvPr/>
        </p:nvGraphicFramePr>
        <p:xfrm>
          <a:off x="1079640" y="5220000"/>
          <a:ext cx="2051640" cy="873000"/>
        </p:xfrm>
        <a:graphic>
          <a:graphicData uri="http://schemas.openxmlformats.org/presentationml/2006/ole">
            <p:oleObj progId="Equation.3" r:id="rId8" spid="">
              <p:embed/>
              <p:pic>
                <p:nvPicPr>
                  <p:cNvPr id="104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79640" y="5220000"/>
                    <a:ext cx="205164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  <Words>88</Words>
  <Paragraphs>8</Paragraphs>
  <Company>Microsoft (C)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5T21:18:21Z</dcterms:created>
  <dc:creator>DR.Ahmed Saker</dc:creator>
  <dc:description/>
  <dc:language>en-US</dc:language>
  <cp:lastModifiedBy>DR.Ahmed Saker</cp:lastModifiedBy>
  <dcterms:modified xsi:type="dcterms:W3CDTF">2019-03-25T21:29:24Z</dcterms:modified>
  <cp:revision>2</cp:revision>
  <dc:subject/>
  <dc:title>Lecture Eigh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6</vt:r8>
  </property>
</Properties>
</file>