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1D61-A635-4DB1-B14C-EEE2D5F7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D8B9-9B9A-42C9-8A9D-616D7AB5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A40B-5E20-4566-A837-29965ABA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DE3D-7E02-4830-977F-7BB5C725A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1788-B234-4B1E-B5BD-0C3B4DF1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2511-2F7D-4934-B5D4-C3794B44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21CF-5EB0-455E-AA0B-5A690113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7F1B-239B-49A5-A14B-8B543FF0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006D-DAED-42E6-8CFC-A8AC2979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CE81-5401-4B87-8D3C-0A0D8F5A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0696-3A95-4E73-B985-5F912544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9BAA-FF82-4227-A98C-F40298C0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E9F9-8B87-450F-97BA-123AE90E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2660-3B66-4C6B-A7A3-1602DED2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55B6-EB9C-482E-8F88-F985BB7D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9F42-0C0A-418C-B508-4B906C75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F2BF-FD7D-4AF3-83C0-E6520908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D9F3-7360-4F50-BFD6-56987BD6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E2FA-EAA8-4CA8-AA24-04AF5842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8F8-6A27-46A1-B374-2B94105A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2686-10BB-4ACD-99A5-FE652CA7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E76D-A06F-432C-AC1C-B01DE603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5F09-D13D-4631-8FD1-B136D0E4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C46D-139C-424F-9948-CC1AFD38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023ED663-47DB-483F-8F99-8C1965EC549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52042F93-FC10-49BB-87F9-70EA2A9E530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7200" spc="-1" strike="noStrike" u="sng">
                <a:solidFill>
                  <a:srgbClr val="7030a0"/>
                </a:solidFill>
                <a:uFillTx/>
                <a:latin typeface="Calibri"/>
              </a:rPr>
              <a:t>Lecture N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 rtl="1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Normal Distrib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240" cy="55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 distribution is the most famous in statistics science. Moreover, many methods of statistical analyses are based on normality. The parameters μ and σ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present the mean and variance respective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r.v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s Normal dist. with parameters  (µ ) &amp; (σ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σ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gt;0  i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979640" y="3357000"/>
            <a:ext cx="4772520" cy="22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7200" y="970920"/>
            <a:ext cx="8229240" cy="48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Content Placeholder 3" descr=""/>
          <p:cNvPicPr/>
          <p:nvPr/>
        </p:nvPicPr>
        <p:blipFill>
          <a:blip r:embed="rId1"/>
          <a:stretch/>
        </p:blipFill>
        <p:spPr>
          <a:xfrm>
            <a:off x="457200" y="1114560"/>
            <a:ext cx="8229240" cy="48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43640" y="836640"/>
            <a:ext cx="1135800" cy="431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1115640" y="1989000"/>
          <a:ext cx="1804680" cy="575640"/>
        </p:xfrm>
        <a:graphic>
          <a:graphicData uri="http://schemas.openxmlformats.org/presentationml/2006/ole">
            <p:oleObj progId="Equation.3" r:id="rId2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5640" y="1989000"/>
                    <a:ext cx="1804680" cy="5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Object 6"/>
          <p:cNvGraphicFramePr/>
          <p:nvPr/>
        </p:nvGraphicFramePr>
        <p:xfrm>
          <a:off x="1187640" y="2997000"/>
          <a:ext cx="2907720" cy="811440"/>
        </p:xfrm>
        <a:graphic>
          <a:graphicData uri="http://schemas.openxmlformats.org/presentationml/2006/ole">
            <p:oleObj progId="Equation.3" r:id="rId4" spid="">
              <p:embed/>
              <p:pic>
                <p:nvPicPr>
                  <p:cNvPr id="9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87640" y="2997000"/>
                    <a:ext cx="290772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Rectangle 8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Object 8"/>
          <p:cNvGraphicFramePr/>
          <p:nvPr/>
        </p:nvGraphicFramePr>
        <p:xfrm>
          <a:off x="1187640" y="3809880"/>
          <a:ext cx="3168000" cy="1990800"/>
        </p:xfrm>
        <a:graphic>
          <a:graphicData uri="http://schemas.openxmlformats.org/presentationml/2006/ole">
            <p:oleObj progId="Equation.3" r:id="rId6" spid="">
              <p:embed/>
              <p:pic>
                <p:nvPicPr>
                  <p:cNvPr id="97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7640" y="3809880"/>
                    <a:ext cx="316800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  <Words>58</Words>
  <Paragraphs>4</Paragraphs>
  <Company>Microsoft (C)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5T21:29:58Z</dcterms:created>
  <dc:creator>DR.Ahmed Saker</dc:creator>
  <dc:description/>
  <dc:language>en-US</dc:language>
  <cp:lastModifiedBy>DR.Ahmed Saker</cp:lastModifiedBy>
  <dcterms:modified xsi:type="dcterms:W3CDTF">2019-03-25T21:55:03Z</dcterms:modified>
  <cp:revision>3</cp:revision>
  <dc:subject/>
  <dc:title>Lecture N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5</vt:r8>
  </property>
</Properties>
</file>