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584C-147F-43F3-A106-DE5891EE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FBE-E18E-4D4C-9612-5A000833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035-6E64-4CB3-8133-FBD66A28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E33F-A0B1-42DF-AF26-67058E0F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F264-5954-402D-870B-603FBDE1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EE9B-CC75-4A37-B0B3-3C539082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CF8C-FAEE-47B4-A302-B78929A7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02EE-6A40-44B6-8AFD-2630F8B5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1913-6516-4D4A-BE81-17CF5D7F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1863-E95C-4D71-A371-77E2AF7D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121A-7AD7-4E22-BE89-0D05EC11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6E8-024D-4C9B-9B0E-94879073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7D62-D03B-4C0E-AADD-CA530066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8CB7-8DBA-42BD-9F28-DC3025BC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5599-5FE4-4B8D-9E5A-6F2A59ED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8D8C-B6D8-476E-941C-91AC442B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A899-2F26-4F47-B404-9EDEB690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D9CB9-3080-4EEA-BC6F-25A46758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9958F-C3F6-4716-B2AA-F6F7047C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DF034-4E91-430B-9758-2A0DEBE2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C8B5F-401A-4BA4-86C0-FC9017B0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06C6F-FA43-4BB0-B3C7-A7C787E1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C54F-6F22-455F-B4DA-F7FF97E6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EB74B-D4EA-437A-A123-98D01515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E2B02-BB63-45E6-B575-5F9192F8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314A-209C-43C6-86D2-581BE6EB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12226-548A-4225-BAF7-C80D060D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FC5AD-B0D9-4B44-8FB5-A04ED800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AFE29-6022-406B-9442-0A062E56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52846-D93C-4415-A496-90DDD59F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2AC3-7768-41FD-A8D5-B5360CAC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880B-AC2C-43F9-83B4-13AE56F7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D83-B7A7-48A4-A50C-A4FA74DB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B0DE-3320-4657-B2D0-BDB29B48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0969-8F30-4D2C-82AE-6A2DCC1E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573D-92EE-49BD-B1BC-F9E32EFB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848360" cy="192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ar-SA" sz="5400" spc="-100" strike="noStrike" cap="all">
                <a:solidFill>
                  <a:srgbClr val="d2533c"/>
                </a:solidFill>
                <a:latin typeface="Arial"/>
              </a:rPr>
              <a:t>انقر لتحرير نمط العنوان الرئيسي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B5AA94C-FE78-475F-95C4-D7BB889FEE6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" name="Straight Connector 7"/>
          <p:cNvCxnSpPr/>
          <p:nvPr/>
        </p:nvCxnSpPr>
        <p:spPr>
          <a:xfrm>
            <a:off x="685800" y="3398400"/>
            <a:ext cx="7848720" cy="1800"/>
          </a:xfrm>
          <a:prstGeom prst="straightConnector1">
            <a:avLst/>
          </a:prstGeom>
          <a:ln w="19050">
            <a:solidFill>
              <a:srgbClr val="d2533c"/>
            </a:solidFill>
            <a:round/>
          </a:ln>
        </p:spPr>
      </p:cxn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ar-SA" sz="4000" spc="-100" strike="noStrike">
                <a:solidFill>
                  <a:srgbClr val="d2533c"/>
                </a:solidFill>
                <a:latin typeface="Arial"/>
              </a:rPr>
              <a:t>انقر لتحرير نمط العنوان الرئيسي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ar-SA" sz="2400" spc="-1" strike="noStrike">
                <a:solidFill>
                  <a:srgbClr val="292934"/>
                </a:solidFill>
                <a:latin typeface="Arial"/>
              </a:rPr>
              <a:t>انقر لتحرير أنماط النص الرئيسي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ar-SA" sz="2000" spc="-1" strike="noStrike">
                <a:solidFill>
                  <a:srgbClr val="292934"/>
                </a:solidFill>
                <a:latin typeface="Arial"/>
              </a:rPr>
              <a:t>المستوى الثاني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1520" indent="-182880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SzPct val="90000"/>
              <a:buFont typeface="Arial"/>
              <a:buChar char="•"/>
            </a:pPr>
            <a:r>
              <a:rPr b="0" lang="ar-SA" sz="1800" spc="-1" strike="noStrike">
                <a:solidFill>
                  <a:srgbClr val="292934"/>
                </a:solidFill>
                <a:latin typeface="Arial"/>
              </a:rPr>
              <a:t>المستوى الثالث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005840" indent="-182880">
              <a:lnSpc>
                <a:spcPct val="100000"/>
              </a:lnSpc>
              <a:spcBef>
                <a:spcPts val="320"/>
              </a:spcBef>
              <a:buClr>
                <a:srgbClr val="93a299"/>
              </a:buClr>
              <a:buFont typeface="Arial"/>
              <a:buChar char="•"/>
            </a:pPr>
            <a:r>
              <a:rPr b="0" lang="ar-SA" sz="1600" spc="-1" strike="noStrike">
                <a:solidFill>
                  <a:srgbClr val="292934"/>
                </a:solidFill>
                <a:latin typeface="Arial"/>
              </a:rPr>
              <a:t>المستوى الرابع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4" marL="1188720" indent="-137160">
              <a:lnSpc>
                <a:spcPct val="100000"/>
              </a:lnSpc>
              <a:spcBef>
                <a:spcPts val="281"/>
              </a:spcBef>
              <a:buClr>
                <a:srgbClr val="93a299"/>
              </a:buClr>
              <a:buFont typeface="Arial"/>
              <a:buChar char="•"/>
            </a:pPr>
            <a:r>
              <a:rPr b="0" lang="ar-SA" sz="1400" spc="-1" strike="noStrike">
                <a:solidFill>
                  <a:srgbClr val="292934"/>
                </a:solidFill>
                <a:latin typeface="Arial"/>
              </a:rPr>
              <a:t>المستوى الخامس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F0FFC1F-73AC-47A6-94F1-BD4DD4169BF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dt" idx="7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8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9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7DCC1C0-5AC7-4046-B16B-2A1CC258326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040" cy="27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r>
              <a:rPr b="1" lang="ar-IQ" sz="3600" spc="-100" strike="noStrike" cap="all">
                <a:solidFill>
                  <a:srgbClr val="292934"/>
                </a:solidFill>
                <a:latin typeface="Arial"/>
                <a:cs typeface="PT Bold Heading"/>
              </a:rPr>
              <a:t>تمارين مع الحلول في مادة المحاسبة الإدارية</a:t>
            </a:r>
            <a:r>
              <a:rPr b="1" lang="en-US" sz="3600" spc="-100" strike="noStrike" cap="all">
                <a:solidFill>
                  <a:srgbClr val="292934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440" cy="28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ctr" rtl="1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ar-IQ" sz="2600" spc="-1" strike="noStrike">
                <a:solidFill>
                  <a:srgbClr val="002060"/>
                </a:solidFill>
                <a:latin typeface="Monotype Koufi"/>
                <a:cs typeface="Monotype Koufi"/>
              </a:rPr>
              <a:t>الاستاذة </a:t>
            </a:r>
            <a:r>
              <a:rPr b="1" lang="ar-SA" sz="2600" spc="-1" strike="noStrike">
                <a:solidFill>
                  <a:srgbClr val="002060"/>
                </a:solidFill>
                <a:latin typeface="Monotype Koufi"/>
                <a:cs typeface="Monotype Koufi"/>
              </a:rPr>
              <a:t>الدكتور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ar-SA" sz="2600" spc="-1" strike="noStrike">
                <a:solidFill>
                  <a:srgbClr val="002060"/>
                </a:solidFill>
                <a:latin typeface="Monotype Koufi"/>
                <a:cs typeface="Monotype Koufi"/>
              </a:rPr>
              <a:t>مــ</a:t>
            </a:r>
            <a:r>
              <a:rPr b="1" lang="ar-IQ" sz="2600" spc="-1" strike="noStrike">
                <a:solidFill>
                  <a:srgbClr val="002060"/>
                </a:solidFill>
                <a:latin typeface="Monotype Koufi"/>
                <a:cs typeface="Monotype Koufi"/>
              </a:rPr>
              <a:t>ــــ</a:t>
            </a:r>
            <a:r>
              <a:rPr b="1" lang="ar-SA" sz="2600" spc="-1" strike="noStrike">
                <a:solidFill>
                  <a:srgbClr val="002060"/>
                </a:solidFill>
                <a:latin typeface="Monotype Koufi"/>
                <a:cs typeface="Monotype Koufi"/>
              </a:rPr>
              <a:t>ـنال جـ</a:t>
            </a:r>
            <a:r>
              <a:rPr b="1" lang="ar-IQ" sz="2600" spc="-1" strike="noStrike">
                <a:solidFill>
                  <a:srgbClr val="002060"/>
                </a:solidFill>
                <a:latin typeface="Monotype Koufi"/>
                <a:cs typeface="Monotype Koufi"/>
              </a:rPr>
              <a:t>ـــــــــ</a:t>
            </a:r>
            <a:r>
              <a:rPr b="1" lang="ar-SA" sz="2600" spc="-1" strike="noStrike">
                <a:solidFill>
                  <a:srgbClr val="002060"/>
                </a:solidFill>
                <a:latin typeface="Monotype Koufi"/>
                <a:cs typeface="Monotype Koufi"/>
              </a:rPr>
              <a:t>بار ســـ</a:t>
            </a:r>
            <a:r>
              <a:rPr b="1" lang="ar-IQ" sz="2600" spc="-1" strike="noStrike">
                <a:solidFill>
                  <a:srgbClr val="002060"/>
                </a:solidFill>
                <a:latin typeface="Monotype Koufi"/>
                <a:cs typeface="Monotype Koufi"/>
              </a:rPr>
              <a:t>ـــــــــ</a:t>
            </a:r>
            <a:r>
              <a:rPr b="1" lang="ar-SA" sz="2600" spc="-1" strike="noStrike">
                <a:solidFill>
                  <a:srgbClr val="002060"/>
                </a:solidFill>
                <a:latin typeface="Monotype Koufi"/>
                <a:cs typeface="Monotype Koufi"/>
              </a:rPr>
              <a:t>ـرو </a:t>
            </a:r>
            <a:r>
              <a:rPr b="1" lang="ar-IQ" sz="2600" spc="-1" strike="noStrike">
                <a:solidFill>
                  <a:srgbClr val="002060"/>
                </a:solidFill>
                <a:latin typeface="Monotype Koufi"/>
                <a:cs typeface="Monotype Koufi"/>
              </a:rPr>
              <a:t>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ar-SA" sz="3000" spc="-1" strike="noStrike">
                <a:solidFill>
                  <a:srgbClr val="002060"/>
                </a:solidFill>
                <a:latin typeface="Arabic Typesetting"/>
                <a:cs typeface="Arabic Typesetting"/>
              </a:rPr>
              <a:t>البرنامج الدراسي/ دكتوراه محاسبة: الكورس الثاني للعام الدراسي </a:t>
            </a:r>
            <a:r>
              <a:rPr b="1" lang="en-US" sz="3000" spc="-1" strike="noStrike">
                <a:solidFill>
                  <a:srgbClr val="002060"/>
                </a:solidFill>
                <a:latin typeface="Arabic Typesetting"/>
                <a:ea typeface="Monotype Koufi"/>
              </a:rPr>
              <a:t>2018</a:t>
            </a:r>
            <a:r>
              <a:rPr b="1" lang="en-US" sz="3000" spc="-1" strike="noStrike">
                <a:solidFill>
                  <a:srgbClr val="002060"/>
                </a:solidFill>
                <a:latin typeface="Arabic Typesetting"/>
                <a:ea typeface="Monotype Koufi"/>
              </a:rPr>
              <a:t>-</a:t>
            </a:r>
            <a:r>
              <a:rPr b="1" lang="en-US" sz="3000" spc="-1" strike="noStrike">
                <a:solidFill>
                  <a:srgbClr val="002060"/>
                </a:solidFill>
                <a:latin typeface="Arabic Typesetting"/>
                <a:ea typeface="Monotype Koufi"/>
              </a:rPr>
              <a:t>2019</a:t>
            </a:r>
            <a:r>
              <a:rPr b="1" lang="en-US" sz="3000" spc="-1" strike="noStrike">
                <a:solidFill>
                  <a:srgbClr val="002060"/>
                </a:solidFill>
                <a:latin typeface="Arabic Typesetting"/>
                <a:ea typeface="Monotype Kouf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JO" sz="2400" spc="-100" strike="noStrike" u="sng">
                <a:solidFill>
                  <a:srgbClr val="d2533c"/>
                </a:solidFill>
                <a:uFillTx/>
                <a:latin typeface="Arial"/>
              </a:rPr>
              <a:t>تمرين</a:t>
            </a:r>
            <a:r>
              <a:rPr b="1" lang="en-US" sz="2400" spc="-100" strike="noStrike" u="sng">
                <a:solidFill>
                  <a:srgbClr val="d2533c"/>
                </a:solidFill>
                <a:uFillTx/>
                <a:latin typeface="Arial"/>
              </a:rPr>
              <a:t>3</a:t>
            </a:r>
            <a:r>
              <a:rPr b="1" lang="en-US" sz="2400" spc="-100" strike="noStrike" u="sng">
                <a:solidFill>
                  <a:srgbClr val="d2533c"/>
                </a:solidFill>
                <a:uFillTx/>
                <a:latin typeface="Arial"/>
              </a:rPr>
              <a:t>-</a:t>
            </a:r>
            <a:r>
              <a:rPr b="1" lang="en-US" sz="2400" spc="-100" strike="noStrike" u="sng">
                <a:solidFill>
                  <a:srgbClr val="d2533c"/>
                </a:solidFill>
                <a:uFillTx/>
                <a:latin typeface="Arial"/>
              </a:rPr>
              <a:t>37</a:t>
            </a:r>
            <a:r>
              <a:rPr b="1" lang="en-US" sz="2400" spc="-100" strike="noStrike" u="sng">
                <a:solidFill>
                  <a:srgbClr val="d2533c"/>
                </a:solidFill>
                <a:uFillTx/>
                <a:latin typeface="Arial"/>
              </a:rPr>
              <a:t>  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62000" indent="-162000" algn="just" rtl="1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ar-JO" sz="2400" spc="-1" strike="noStrike">
                <a:solidFill>
                  <a:srgbClr val="292934"/>
                </a:solidFill>
                <a:latin typeface="Arial"/>
              </a:rPr>
              <a:t>شركة تصنع ا</a:t>
            </a:r>
            <a:r>
              <a:rPr b="0" lang="ar-IQ" sz="2400" spc="-1" strike="noStrike">
                <a:solidFill>
                  <a:srgbClr val="292934"/>
                </a:solidFill>
                <a:latin typeface="Arial"/>
              </a:rPr>
              <a:t>ج</a:t>
            </a:r>
            <a:r>
              <a:rPr b="0" lang="ar-JO" sz="2400" spc="-1" strike="noStrike">
                <a:solidFill>
                  <a:srgbClr val="292934"/>
                </a:solidFill>
                <a:latin typeface="Arial"/>
              </a:rPr>
              <a:t>هزة الراديو تبلغ طاقتها الإنتاجية السنوية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50000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 وحدة , والمبيعات السنوية الثابتة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40000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وحدة بسعر بيع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105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$ للوحدة وتوفرت المعلومات الاتية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2000" indent="-162000" algn="just" rtl="1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45$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     التكاليف المتغيرة للوحدة الوحدة الواحدة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2000" indent="-162000" algn="just" rtl="1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800000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$    التكاليف الثابتة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2000" indent="-162000" algn="just" rtl="1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10$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   تكاليف تسويق وتوزيع متغيرة  للوحدة الواحدة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2000" indent="-162000" algn="just" rtl="1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600000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$  تكاليف تسويق وتوزيع ثابتة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2000" indent="-162000" algn="just" rtl="1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ar-JO" sz="2400" spc="-1" strike="noStrike">
                <a:solidFill>
                  <a:srgbClr val="292934"/>
                </a:solidFill>
                <a:latin typeface="Arial"/>
              </a:rPr>
              <a:t>سوف يتم تخفيض سعر البيع الى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99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$ وسوف تزيد المبيعات الى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50000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 وحدة هذه الاستراتيجية سوف تزد من كلف التوزيع والتسويق الثابتة . احسب اعلى زيادة في كلف التسويق الثابتة التي تسمح للشركة بتخفيض السعر الى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99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$ مع الحفاض على الدخل التشغيلي ؟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2000" indent="-162000" algn="just" rtl="1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ar-JO" sz="2400" spc="-1" strike="noStrike">
                <a:solidFill>
                  <a:srgbClr val="292934"/>
                </a:solidFill>
                <a:latin typeface="Arial"/>
              </a:rPr>
              <a:t>قسم الصيانة سيزيد من المواصفات هذه الاضافات ستكلف تكاليف اضافية ثابتة بمبلغ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100000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$ وكلفة متغيرة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$ لكل وحدة وبمستوى كمية مبيعات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40000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 وحدة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.</a:t>
            </a:r>
            <a:r>
              <a:rPr b="0" lang="ar-JO" sz="2400" spc="-1" strike="noStrike">
                <a:solidFill>
                  <a:srgbClr val="292934"/>
                </a:solidFill>
                <a:latin typeface="Arial"/>
              </a:rPr>
              <a:t>احسب اقل سعر بيع الذي يسمح للشركة بإضافة هذه المواصفات  ؟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000" spc="-100" strike="noStrike">
                <a:solidFill>
                  <a:srgbClr val="d2533c"/>
                </a:solidFill>
                <a:latin typeface="Arial"/>
              </a:rPr>
              <a:t>3-37 (20 min.) CVP analysis, decision making. 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163080" indent="-1630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3080" indent="-163080" algn="just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1. </a:t>
            </a:r>
            <a:r>
              <a:rPr b="1" lang="en-US" sz="1800" spc="-1" strike="noStrike" u="sng">
                <a:solidFill>
                  <a:srgbClr val="292934"/>
                </a:solidFill>
                <a:uFillTx/>
                <a:latin typeface="Arial"/>
              </a:rPr>
              <a:t>Tocchet’s current operating income is as follows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63080" indent="-163080" algn="just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Revenues, $105 × 40,000                        $4,200,000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63080" indent="-163080" algn="just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Variable costs, $55 × 40,000                   $)</a:t>
            </a:r>
            <a:r>
              <a:rPr b="0" lang="en-US" sz="1800" spc="-1" strike="noStrike" u="sng">
                <a:solidFill>
                  <a:srgbClr val="292934"/>
                </a:solidFill>
                <a:uFillTx/>
                <a:latin typeface="Arial"/>
              </a:rPr>
              <a:t>2,200,000(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63080" indent="-163080" algn="just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Contribution margin                                    2,000,000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63080" indent="-163080" algn="just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Fixed costs                                                  )</a:t>
            </a:r>
            <a:r>
              <a:rPr b="0" lang="en-US" sz="1800" spc="-1" strike="noStrike" u="sng">
                <a:solidFill>
                  <a:srgbClr val="292934"/>
                </a:solidFill>
                <a:uFillTx/>
                <a:latin typeface="Arial"/>
              </a:rPr>
              <a:t>1,400,000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63080" indent="-163080" algn="just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Operating income                                   $       600,000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63080" indent="-163080" algn="just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63080" indent="-163080" algn="just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Let the fixed marketing and distribution costs be F. We calculate F when operating income is $600,000 and the selling price is $99.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63080" indent="-163080" algn="just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63080" indent="-163080" algn="just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($99 × 50,000) – ($55 × 50,000)     –  F = $600,000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63080" indent="-163080" algn="just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$4,950,000  </a:t>
            </a:r>
            <a:r>
              <a:rPr b="0" lang="ar-IQ" sz="1800" spc="-1" strike="noStrike">
                <a:solidFill>
                  <a:srgbClr val="292934"/>
                </a:solidFill>
                <a:latin typeface="Arial"/>
              </a:rPr>
              <a:t>ـــ$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2,750,000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           –  F = $600,000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63080" indent="-163080" algn="just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F = $4,950,000 – $2,750,000 – $600,000 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                                                                 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F = $1,600,000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63080" indent="-163080" algn="just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63080" indent="-163080" algn="just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Hence, the maximum increase in fixed marketing and distribution costs that will allow Tocchet to reduce the selling price and maintain $600,000 in operating income is $200,000 ($1,600,000 – $1,400,000)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مستطيل 2"/>
          <p:cNvSpPr/>
          <p:nvPr/>
        </p:nvSpPr>
        <p:spPr>
          <a:xfrm>
            <a:off x="152280" y="685800"/>
            <a:ext cx="8838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</a:rPr>
              <a:t>2. Let the selling price be P. We calculate P for which, after increasing fixed manufacturing costs by $100,000 to $900,000 and variable manufacturing cost per unit by $2 to $47, operating income is $600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nn-NO" sz="2000" spc="-1" strike="noStrike">
                <a:solidFill>
                  <a:srgbClr val="292934"/>
                </a:solidFill>
                <a:latin typeface="Times New Roman"/>
              </a:rPr>
              <a:t>$40,000 P – ($47 × 40,000) – ($10 × 40,000) – $900,000 – $600,000 = $600,000  $40,000 P – $1,880,000 – $400,000 – $900,000 – $600,000 = $6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nn-NO" sz="2000" spc="-1" strike="noStrike">
                <a:solidFill>
                  <a:srgbClr val="292934"/>
                </a:solidFill>
                <a:latin typeface="Times New Roman"/>
              </a:rPr>
              <a:t>$40,000 P = $600,000 + $1,880,000 + $400,000 + $900,000 + $600,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nn-NO" sz="2000" spc="-1" strike="noStrike">
                <a:solidFill>
                  <a:srgbClr val="292934"/>
                </a:solidFill>
                <a:latin typeface="Times New Roman"/>
              </a:rPr>
              <a:t>$40,000 P = $4,38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nn-NO" sz="2000" spc="-1" strike="noStrike">
                <a:solidFill>
                  <a:srgbClr val="292934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</a:rPr>
              <a:t>P = $4,380,000 ÷ 40,000 = $109.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</a:rPr>
              <a:t>Tocchet will consider adding the new features provided the selling price is at least $109.50 per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عنصر نائب للمحتوى 3"/>
          <p:cNvGraphicFramePr/>
          <p:nvPr/>
        </p:nvGraphicFramePr>
        <p:xfrm>
          <a:off x="152280" y="533520"/>
          <a:ext cx="8762760" cy="6095520"/>
        </p:xfrm>
        <a:graphic>
          <a:graphicData uri="http://schemas.openxmlformats.org/drawingml/2006/table">
            <a:tbl>
              <a:tblPr/>
              <a:tblGrid>
                <a:gridCol w="2971800"/>
                <a:gridCol w="1600200"/>
                <a:gridCol w="1371600"/>
                <a:gridCol w="1447560"/>
                <a:gridCol w="1371600"/>
              </a:tblGrid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Detai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pr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Ma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Ju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sal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0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1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5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ash Balance  1/4/200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000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9100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5400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000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dd :  Cash Receiv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sales  ( Cash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0,00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2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2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ash( Debtor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Sales In the same month (6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6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0,8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16,8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Sales In the Previous  month (4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7,6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4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7,2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88,8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otal Cash Rece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93,6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06,8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37,2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37,6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Subtract : Payme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ash Pay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the same Month (5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5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5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the Previous  Month (5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5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95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Wages Per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xp. ( 10% from sal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Subtract : Depre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otal Ex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4,5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otal Cash Pay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9500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0500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74500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84500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cdfdd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ash Balance at the end Month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9,100 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5400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8100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8100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</a:tbl>
          </a:graphicData>
        </a:graphic>
      </p:graphicFrame>
      <p:sp>
        <p:nvSpPr>
          <p:cNvPr id="138" name="مستطيل 4"/>
          <p:cNvSpPr/>
          <p:nvPr/>
        </p:nvSpPr>
        <p:spPr>
          <a:xfrm>
            <a:off x="2472840" y="76320"/>
            <a:ext cx="3775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292934"/>
                </a:solidFill>
                <a:latin typeface="Times New Roman"/>
              </a:rPr>
              <a:t>Cash Budget For Second Quart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وضوح">
  <a:themeElements>
    <a:clrScheme name="وضوح">
      <a:dk1>
        <a:srgbClr val="292934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وضوح">
  <a:themeElements>
    <a:clrScheme name="وضوح">
      <a:dk1>
        <a:srgbClr val="292934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وضوح">
  <a:themeElements>
    <a:clrScheme name="وضوح">
      <a:dk1>
        <a:srgbClr val="292934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larity</Template>
  <TotalTime>711</TotalTime>
  <Application>LibreOffice/7.4.7.2$Linux_X86_64 LibreOffice_project/40$Build-2</Application>
  <AppVersion>15.0000</AppVersion>
  <Words>620</Words>
  <Paragraphs>118</Paragraphs>
  <Company>فراس الصعيو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5T20:27:13Z</dcterms:created>
  <dc:creator>Windows User</dc:creator>
  <dc:description/>
  <dc:language>en-US</dc:language>
  <cp:lastModifiedBy>Faisal</cp:lastModifiedBy>
  <dcterms:modified xsi:type="dcterms:W3CDTF">2019-06-09T20:14:33Z</dcterms:modified>
  <cp:revision>53</cp:revision>
  <dc:subject/>
  <dc:title>ورقة بحثية بعنوان ( إدارة الجودة الشاملة 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5</vt:r8>
  </property>
</Properties>
</file>