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4AA-C5C6-41D4-A924-0F326931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90C-3F73-4373-A431-5825631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414-8A0D-4DDF-A0B4-196BBD89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A22-3E24-47F7-9EB3-F4609B17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709-404A-4F4A-9AB8-87C315F6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67EB-4800-45E5-97CC-0008AD9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D633-3E5E-4F38-82E7-467EC5C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F34C-7C43-4DA0-99A8-44ED2DE3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422B-87AF-4FDE-B147-FA0067F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480"/>
            <a:ext cx="822924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DAC-D538-4C39-9508-2A2317A4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C158-3E3E-4BFD-B5B0-F6B508D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4DD-CA49-4072-9107-9841E3AD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243E-9EF0-4CC5-B579-18AFDF8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FA6B-7529-4263-BBF1-0033A8F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566B-972B-49D2-975C-98ED477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6A0-C41E-4BB7-95F9-18B96FD9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B8B4-FB2D-429E-98E7-5626B463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5D6-3938-4766-A3A7-E2C3CFB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39A-D11F-4339-ACF3-1FB09A1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F55-0E8E-41C7-B6D4-EE9B3106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480"/>
            <a:ext cx="822924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869-AEEE-40EA-8099-4B7A7DF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AF8-627B-4966-A963-223EF9E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5F7-EE47-44F5-AB78-5606E10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75F-A69F-4B88-9437-0B8FE12A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8f"/>
            </a:gs>
            <a:gs pos="100000">
              <a:srgbClr val="004a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e4e9ef">
                  <a:alpha val="10196"/>
                </a:srgbClr>
              </a:gs>
              <a:gs pos="100000">
                <a:srgbClr val="e4e9e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" name="Straight Connector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2f5897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2" name="Straight Connector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2f5897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marL="484560"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7f91d0"/>
                </a:solidFill>
                <a:latin typeface="Calibri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48200" indent="-384120">
              <a:lnSpc>
                <a:spcPct val="100000"/>
              </a:lnSpc>
              <a:spcBef>
                <a:spcPts val="601"/>
              </a:spcBef>
              <a:buClr>
                <a:srgbClr val="6076b4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22960" indent="-285840">
              <a:lnSpc>
                <a:spcPct val="100000"/>
              </a:lnSpc>
              <a:spcBef>
                <a:spcPts val="519"/>
              </a:spcBef>
              <a:buClr>
                <a:srgbClr val="6076b4"/>
              </a:buClr>
              <a:buSzPct val="95000"/>
              <a:buFont typeface="Verdana"/>
              <a:buChar char="›"/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06280" indent="-228600">
              <a:lnSpc>
                <a:spcPct val="100000"/>
              </a:lnSpc>
              <a:spcBef>
                <a:spcPts val="479"/>
              </a:spcBef>
              <a:buClr>
                <a:srgbClr val="6076b4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10240">
              <a:lnSpc>
                <a:spcPct val="100000"/>
              </a:lnSpc>
              <a:spcBef>
                <a:spcPts val="400"/>
              </a:spcBef>
              <a:buClr>
                <a:srgbClr val="6076b4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1600200" indent="-210240">
              <a:lnSpc>
                <a:spcPct val="100000"/>
              </a:lnSpc>
              <a:spcBef>
                <a:spcPts val="380"/>
              </a:spcBef>
              <a:buClr>
                <a:srgbClr val="9da6ca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600" y="6480000"/>
            <a:ext cx="213336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481080"/>
            <a:ext cx="425952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520" y="6481080"/>
            <a:ext cx="50256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B236A3-8933-46DB-BF9A-1B77AB5380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8f"/>
            </a:gs>
            <a:gs pos="100000">
              <a:srgbClr val="004a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e4e9ef">
                  <a:alpha val="10196"/>
                </a:srgbClr>
              </a:gs>
              <a:gs pos="100000">
                <a:srgbClr val="e4e9e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5" name="Straight Connector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2f5897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46" name="Straight Connector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2f5897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47" name="Isosceles Triangle 6"/>
          <p:cNvSpPr/>
          <p:nvPr/>
        </p:nvSpPr>
        <p:spPr>
          <a:xfrm rot="16200000">
            <a:off x="7554240" y="525456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2a3e78"/>
              </a:gs>
              <a:gs pos="100000">
                <a:srgbClr val="476acd"/>
              </a:gs>
            </a:gsLst>
            <a:lin ang="100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720" y="776160"/>
            <a:ext cx="80625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484560" indent="0" algn="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f91d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371600" y="601272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371600" y="565056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392320" y="5752440"/>
            <a:ext cx="502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D3BE40-98F7-4B42-A408-E15ADB444EA4}" type="slidenum">
              <a:rPr b="0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523880" y="1694520"/>
            <a:ext cx="65527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r>
              <a:rPr b="0" lang="ar-IQ" sz="3200" spc="-1" strike="noStrike">
                <a:solidFill>
                  <a:srgbClr val="ffffff"/>
                </a:solidFill>
                <a:latin typeface="Arial"/>
              </a:rPr>
              <a:t>تعريف ومفهو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ar-IQ" sz="3600" spc="-1" strike="noStrike">
                <a:solidFill>
                  <a:srgbClr val="ffffff"/>
                </a:solidFill>
                <a:latin typeface="Calibri"/>
              </a:rPr>
              <a:t>نظــــــرية القيــــــــ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.د. منال جبار سرو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ar-IQ" sz="3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حاضرة مقدمة لطلبة دكتوراه محاسبة /محاسبة اداري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abic Typesetting"/>
                <a:ea typeface="Calibri"/>
              </a:rPr>
              <a:t>2018-20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29520"/>
            <a:ext cx="9143640" cy="685764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ar-IQ" sz="5400" spc="-1" strike="noStrike">
                <a:ln>
                  <a:solidFill>
                    <a:srgbClr val="2f5897"/>
                  </a:solidFill>
                </a:ln>
                <a:solidFill>
                  <a:srgbClr val="ffffff"/>
                </a:solidFill>
                <a:latin typeface="Calibri"/>
              </a:rPr>
              <a:t>نظــــــرية القيــــــــ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3640" cy="66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مفهوم نظرية القيود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ظهرت هذه النظرية في منتصف السبعينات من القرن الماضي  ومن ثم تطورت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في ثمانينيات القرن الماضي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x &amp; Goldratt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على يد العالمين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كفلسفة إدارية تحمل بين طياتها مجموعة من المفاهيم والقواعد والممارسات المتعلقة بتحسين الأداء التشغيلي للعمليات الصناعية في حال وجود قيد معين يعوق التدفق المستمر للإنتاج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10880"/>
            <a:ext cx="3962160" cy="156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52280" y="720360"/>
            <a:ext cx="87627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991360" cy="66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:Define constraints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تعريف القيود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هي أي عامل أو مسبب يحد من تحرك النظام نحو تحقيق الهدف الرئيسي ومن ثم زيادة حجم الأموال في الحاضر والمستقبل , ومن ثم زيادة الأرباح ومن ثم إماكنية استمرار النظام وتطويره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28640" cy="358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9067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enefits of applying the theory of constraints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فوائد تطبيق نظرية القيود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هنالك مجموعة من الفوائد وهي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 –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زيادة ربحية الشركات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 –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تحسين نوعية المنتجات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 –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زيادة معدل دوران المخزون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 –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الاستغلال الامثل للطاقة المتاحة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 – </a:t>
            </a:r>
            <a:r>
              <a:rPr b="0" lang="ar-IQ" sz="3000" spc="-1" strike="noStrike">
                <a:solidFill>
                  <a:srgbClr val="ffffff"/>
                </a:solidFill>
                <a:latin typeface="Calibri"/>
              </a:rPr>
              <a:t>زيادة القدرة التنافسية للوحدة الاقتصادية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00880" y="3124080"/>
            <a:ext cx="321948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Ver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Ver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mposite</Template>
  <TotalTime>23</TotalTime>
  <Application>LibreOffice/7.4.7.2$Linux_X86_64 LibreOffice_project/40$Build-2</Application>
  <AppVersion>15.0000</AppVersion>
  <Words>146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uhsin</dc:creator>
  <dc:description/>
  <dc:language>en-US</dc:language>
  <cp:lastModifiedBy>Faisal</cp:lastModifiedBy>
  <dcterms:modified xsi:type="dcterms:W3CDTF">2019-06-08T18:16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