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1D1-FA8E-4622-A4D4-E3B9EA9C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50A-5051-47D0-AF97-41FFF17E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9CB-98C1-4027-A68E-009421C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EB7-EC9E-4656-A2F1-19BB39D6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242E-8EEE-44D2-95DE-6061CC5A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DFBA0-F8A8-4768-94FA-EF768E9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2655B-5719-4099-96A9-336B5B7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F1B55-CBEC-43F9-BBB3-61182ED4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E142B-3D93-4363-B768-36ECA71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6F0CD-2C4C-4800-B6FB-A9594D4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6881-870F-4C49-B70F-3312704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B0C-9BDC-4983-BC7F-53E7D18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5B041-53D6-4876-B56E-E90C910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50551-024C-4C00-A648-9DC8118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96171-C097-4629-8529-BC377EE8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09D8-6A34-4BFC-95F0-DA754952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AF1D2-3667-4918-9082-CCCD10EB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F6E-F73B-443C-8226-5C378B3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7A1-972B-47F4-A8A6-8235BEC6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331-07A5-4155-9945-7B447E2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1C6-83F2-461B-96E6-F75F2B0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41B-17FD-49A0-8D33-01A4B84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E8B-126C-4FB4-8C57-F6D440A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2B1-4FFC-43B9-8413-17C7E4F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37314E0-04CA-4E61-AB8E-F46D528BDED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B53F750C-7516-4403-B346-9AC6474ADD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1640" y="1196640"/>
            <a:ext cx="5904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000" spc="-1" strike="noStrike" cap="small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Multivariate Analys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7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r. Asmaa Ghalib Jab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Lecture O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09000"/>
            <a:ext cx="8229240" cy="20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entury Schoolbook"/>
              </a:rPr>
              <a:t>Matrix Algebra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680" y="548640"/>
            <a:ext cx="702432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Matrix Algebr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1412640"/>
            <a:ext cx="6777000" cy="46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n ordered array of a set of observations as m "rows" and n "columns", those observations are called: "elements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(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)  ,  where is:     i=1,2,3,…, m    and  j=1,2,3,…, 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e of a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elements on the main diagonal of a square matrix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trac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matrix. Fo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×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atrix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115640" y="5229360"/>
            <a:ext cx="1656000" cy="8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ty Matrix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dentity matrix is a square matrix with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ne in each main diagonal position and zero elements. Identity matrix is a special case of a diagonal matrix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Vec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 is a n×1 matrix,  that is, a matrix consisting of a single column of n element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67640" y="1556640"/>
            <a:ext cx="2409840" cy="1751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396600" y="4005000"/>
            <a:ext cx="1108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agonal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square matrix with non-zero ele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its main diagonal. While som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elements  may be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iangular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per triangle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quare matrix has non-zero ele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d above its main diagonal, it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upper triangular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er triangle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quare matrix has non-zero ele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and under its diagonal, it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lower triangular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ll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×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null matrix has zero in each of its positions and denoted by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  and Subtraction of  Matric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two matrices of like dimensions is the matrix of the sum of corresponding elements. Let A &amp; B  are matrices of the same oreder (n×n), then: their addition will b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86160" y="3270600"/>
            <a:ext cx="60098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56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ication of Matri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ecessary that the number of columns of matrix A be equal to the number of rows of matrix B. So, if A is of dimension p×r  and   B is of dimension r×q, then, the multiplication results is of p×q dimension with "ijth“ elements of C computed as: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6804360" y="2061000"/>
            <a:ext cx="1597320" cy="64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267640" y="2515320"/>
            <a:ext cx="1173960" cy="3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755640" y="3105360"/>
            <a:ext cx="2094480" cy="82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3484080" y="2997000"/>
            <a:ext cx="1985400" cy="90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295640" y="4221000"/>
          <a:ext cx="5724360" cy="1295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640" y="4221000"/>
                    <a:ext cx="572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31</TotalTime>
  <Application>LibreOffice/7.4.7.2$Linux_X86_64 LibreOffice_project/40$Build-2</Application>
  <AppVersion>15.0000</AppVersion>
  <Words>339</Words>
  <Paragraphs>40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8:22:19Z</dcterms:created>
  <dc:creator>DR.Ahmed Saker</dc:creator>
  <dc:description/>
  <dc:language>en-US</dc:language>
  <cp:lastModifiedBy>DR.Ahmed Saker</cp:lastModifiedBy>
  <dcterms:modified xsi:type="dcterms:W3CDTF">2019-05-22T17:24:21Z</dcterms:modified>
  <cp:revision>10</cp:revision>
  <dc:subject/>
  <dc:title>Multivariate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