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275-35D5-4759-9584-FA82DB92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3F6-5DD3-4A3F-9197-0D1F97E3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1F3-A88E-492A-8BD1-165666C8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41E-29C8-458B-91C3-11507BE6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97D-3256-44D2-821D-123531DB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D31-25F6-42E6-8678-F6B8CB96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A26-E4E8-4A13-A737-1016ABC5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10C-A1D8-476A-B4BF-F1B24B2D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744-951C-4740-8506-810B5426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035-4F8F-4FEE-8A36-66A4ACC6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63E-FFAC-48F0-9C10-93644D9D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36D-2AEA-4D38-98C2-AD6AC30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 algn="r" rtl="1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B0BCCD5-5B0E-468C-A048-76B6303C8E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15640" y="2781000"/>
            <a:ext cx="69444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32796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119f36"/>
                </a:solidFill>
                <a:latin typeface="Lucida Sans Unicode"/>
              </a:rPr>
              <a:t>Integration by Using</a:t>
            </a:r>
            <a:r>
              <a:rPr b="0" lang="en-US" sz="4800" spc="-1" strike="noStrike">
                <a:solidFill>
                  <a:srgbClr val="119f36"/>
                </a:solidFill>
                <a:latin typeface="Lucida Sans Unicode"/>
              </a:rPr>
              <a:t> </a:t>
            </a:r>
            <a:r>
              <a:rPr b="1" lang="en-US" sz="4800" spc="-1" strike="noStrike">
                <a:solidFill>
                  <a:srgbClr val="119f36"/>
                </a:solidFill>
                <a:latin typeface="Lucida Sans Unicode"/>
              </a:rPr>
              <a:t>Long Polynomial Division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371600" y="1124640"/>
            <a:ext cx="64004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6000" spc="-1" strike="noStrike" u="sng">
                <a:solidFill>
                  <a:srgbClr val="7030a0"/>
                </a:solidFill>
                <a:uFillTx/>
                <a:latin typeface="Lucida Sans Unicode"/>
              </a:rPr>
              <a:t>Lecture Two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some integrals             where p(x), q(x)  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ynomials and q(x)  something mo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icated than just a simple monomial (that is, by something more complicated than a one-term polynomial), then you'll need to use a different method for the simplification. That method is called "long polynomial division"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539640" y="332640"/>
            <a:ext cx="8064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119f36"/>
                </a:solidFill>
                <a:uFillTx/>
                <a:latin typeface="Lucida Sans Unicode"/>
              </a:rPr>
              <a:t>Integration by Using</a:t>
            </a:r>
            <a:r>
              <a:rPr b="0" lang="en-US" sz="3200" spc="-1" strike="noStrike" u="sng">
                <a:solidFill>
                  <a:srgbClr val="119f36"/>
                </a:solidFill>
                <a:uFillTx/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119f36"/>
                </a:solidFill>
                <a:uFillTx/>
                <a:latin typeface="Lucida Sans Unicode"/>
              </a:rPr>
              <a:t>Long Polynomia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8"/>
          <p:cNvGraphicFramePr/>
          <p:nvPr/>
        </p:nvGraphicFramePr>
        <p:xfrm>
          <a:off x="3492000" y="1772640"/>
          <a:ext cx="1204200" cy="863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0" y="1772640"/>
                    <a:ext cx="1204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7640" y="548640"/>
            <a:ext cx="741636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ong Polynomial Division: If 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 and 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 are polynomials, and the degree (largest exponent) of 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reater than or equal to the degree of 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, then there exist unique polynomials 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 and 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, so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d so that the degree of 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 is less than the degree of 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3"/>
          <p:cNvGraphicFramePr/>
          <p:nvPr/>
        </p:nvGraphicFramePr>
        <p:xfrm>
          <a:off x="971640" y="3645000"/>
          <a:ext cx="4182480" cy="1295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645000"/>
                    <a:ext cx="41824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672</TotalTime>
  <Application>LibreOffice/7.4.7.2$Linux_X86_64 LibreOffice_project/40$Build-2</Application>
  <AppVersion>15.0000</AppVersion>
  <Words>73</Words>
  <Paragraphs>17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4T12:12:07Z</dcterms:created>
  <dc:creator>Maher</dc:creator>
  <dc:description/>
  <dc:language>en-US</dc:language>
  <cp:lastModifiedBy>Maher</cp:lastModifiedBy>
  <dcterms:modified xsi:type="dcterms:W3CDTF">2019-05-24T23:25:06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