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CBD-E701-4A7C-8935-610C3510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288-47BC-4621-96D1-1D84892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FCA-7754-437B-83AF-D3D90AC5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AE8-78C2-4DCA-918A-D6047934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49918-AC21-4D32-BE37-5015D6D7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856EB-FC33-47A9-B15E-D19425A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AFFD9-D5FF-4479-B5F5-E312873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2B2B3-8AD5-47E3-BD8C-2A58567B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C0F0-B790-49B3-A5BE-2C117F0A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096C-FB37-48F9-89A5-5736B7C0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5BA4-25FA-42CC-8375-C637430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F83-C4A3-4BB4-8A3D-FF7EC55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45BD4-BB03-47A0-9DF5-033EC5B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A691A-9F33-40DB-9DEF-E0FF74D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8909-1E29-4B67-BF0B-AEAD082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11DE3-5203-4B4D-A1F4-87E1553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C59CD-9E16-42AC-AE6C-7348D35D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890-B010-42FE-8BA5-00A4D592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4D9-3332-4AF5-BC17-C3326B0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61D-3BA1-4681-A9D8-9D4EA127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0F0-C29B-4BE2-A02D-F631F202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042-44FF-478C-B2E0-961E4C6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35D-1169-482F-B3EC-260ABBD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F10-253F-4273-9187-C3AB56C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3828460A-FB0A-41CD-A97B-7FAA0B6DFA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FE7C1D5D-5DC9-4CA7-966B-B9F0AAFACC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Thre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Linear independent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ectors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, . . . 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are linearly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f there are  scalars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. . .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not all zero such that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+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. . . +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wise, the set of vectors are linearly independent. i.e. where it is impossible to find non-zero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. . .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uch that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Determinant of a Square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ociated with every square matrix there is a unique scalar number called its "determinant". The formal definition of the determinant of n×n matrix A is the sum of all products consisting of one element from each row and column and multiplied by (-1) if the number of inversions of the particular permutation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…,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om the standard order 1, 2, 3, …, n  is od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342880" y="2192400"/>
            <a:ext cx="1220760" cy="7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267640" y="5840280"/>
            <a:ext cx="4527000" cy="5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836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ingular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quare matrix is called: "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ingul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 if its determinant is zero, and called: "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non- singul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 if its determinant is non-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inor of elemen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of A is the determinant of the matrix formed by deleting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ow and 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lumn of A. Cofact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the minor multiplied by 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So, we can compute minor with respect to the rows (i=1,2,3,…,n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132000" y="5229360"/>
            <a:ext cx="3715200" cy="6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rincipal mi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inor of a 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n×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said to be a principal minor if it is obtained by deleting certain rows and the same columns of A. Thus, the diagonal elements of a principal minor of A are the diagonal elements of 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verse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verse of a square matrix A is that unique matrix A with elements such that:      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=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possible that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oes not exist, just as it is not to perform scalar division by zero, then A is called to be "singular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55640" y="2889720"/>
            <a:ext cx="1054440" cy="53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123640" y="2870640"/>
            <a:ext cx="896040" cy="5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3458880" y="2864160"/>
            <a:ext cx="1688760" cy="85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4"/>
          <a:stretch/>
        </p:blipFill>
        <p:spPr>
          <a:xfrm>
            <a:off x="6084000" y="2864160"/>
            <a:ext cx="1736280" cy="8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240" cy="63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Rank of a Matrix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rank of matrix whether square or not is defined as: the order of the largest non-zero determinant that can be calculated from the matrix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urthermore, the rank of a matrix can be defined also as: the maximum number of linearly independent vectors (either rows  or  columns) in the matrix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te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f the number of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ow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/ (columns) in a matrix exceeded the number of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/ (rows), then the rank of a matrix would be the number of linearly independent columns/ (rows).   i.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(A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entury Schoolbook"/>
              </a:rPr>
              <a:t>(m×n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≤  min {m , n}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4</TotalTime>
  <Application>LibreOffice/7.4.7.2$Linux_X86_64 LibreOffice_project/40$Build-2</Application>
  <AppVersion>15.0000</AppVersion>
  <Words>412</Words>
  <Paragraphs>34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8:54:21Z</dcterms:created>
  <dc:creator>DR.Ahmed Saker</dc:creator>
  <dc:description/>
  <dc:language>en-US</dc:language>
  <cp:lastModifiedBy>DR.Ahmed Saker</cp:lastModifiedBy>
  <dcterms:modified xsi:type="dcterms:W3CDTF">2019-05-11T14:23:03Z</dcterms:modified>
  <cp:revision>8</cp:revision>
  <dc:subject/>
  <dc:title>Lecture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