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993-30F9-41D4-BEF7-609AF9BD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0DD-C9CF-485A-A8A4-1275257B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F15-47A3-4D52-9A3A-0CC5215F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882-1EEC-4B34-BDC0-8F772637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9F7-B3AF-4129-87CE-BA1F94B2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1EA7-D06B-44E9-9A6E-DA4D41A6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8254-95AF-4909-9998-54E3271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DD8E-E782-456C-B201-953A0D8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6CD9-DE75-4D57-ABF3-A504AAC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AD4-55D1-457B-8A39-8CFDA4AE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B22-5A2E-4A62-944D-3E39E91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A01-CC58-440D-971F-8519143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1E3B-6E5C-4E8F-B835-8F1D049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A3AE-1078-42D6-8524-A1CA337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53DA-9BC1-4A46-A38B-D824E45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6607-434F-48C1-866B-8C122AFB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461F-A1E6-4359-B7A7-570639B9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031-AABB-4389-A4A3-7FCFA6C1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AB3-624F-4017-A1CB-A90E8BAC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2B0-4260-4083-BFF8-AD3DA96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CB0-B9CA-49D0-B357-86594C2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F56-5765-4538-A46B-515C99E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7B5-D6BA-465F-890F-CBF790B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27A-EF8A-4855-AC64-8860A81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0586448-8582-4F4D-95EF-E149C538520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7A7AE2B-589A-4DA2-B972-AA7C73B6D5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ontent Placeholder 2"/>
          <p:cNvSpPr/>
          <p:nvPr/>
        </p:nvSpPr>
        <p:spPr>
          <a:xfrm>
            <a:off x="539640" y="3141000"/>
            <a:ext cx="813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 rtl="1">
              <a:lnSpc>
                <a:spcPct val="100000"/>
              </a:lnSpc>
              <a:spcBef>
                <a:spcPts val="961"/>
              </a:spcBef>
            </a:pPr>
            <a:r>
              <a:rPr b="1" lang="en-US" sz="4800" spc="-1" strike="noStrike">
                <a:solidFill>
                  <a:srgbClr val="119f36"/>
                </a:solidFill>
                <a:latin typeface="Lucida Sans Unicode"/>
              </a:rPr>
              <a:t>Integration by 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Lucida Sans Unicode"/>
              </a:rPr>
              <a:t>Lecture Fo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640" y="1268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7224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method that can be very useful is integration by substitution (U- substitution), which basically reverses the chain rule. U must be defined as the inner function of the composite factor.  In general, we choose u to be one of the follow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224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antity under a root or raised to a pow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224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antity in the denominat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224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exponent on 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224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may need to be rearranged to fit one of the above c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2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119f36"/>
                </a:solidFill>
                <a:uFillTx/>
                <a:latin typeface="Lucida Sans Unicode"/>
              </a:rPr>
              <a:t>Integration by Substitu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find some integrals by adding and subtracting a certain consta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xercise:  Evaluate the following integral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119f36"/>
                </a:solidFill>
                <a:uFillTx/>
                <a:latin typeface="Lucida Sans Unicode"/>
              </a:rPr>
              <a:t>Integration by Adding and Subtracting a Certain Consta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971640" y="2925000"/>
          <a:ext cx="2376000" cy="2178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5000"/>
                    <a:ext cx="2376000" cy="21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41</TotalTime>
  <Application>LibreOffice/7.4.7.2$Linux_X86_64 LibreOffice_project/40$Build-2</Application>
  <AppVersion>15.0000</AppVersion>
  <Words>122</Words>
  <Paragraphs>11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4T19:45:42Z</dcterms:created>
  <dc:creator>Maher</dc:creator>
  <dc:description/>
  <dc:language>en-US</dc:language>
  <cp:lastModifiedBy>Maher</cp:lastModifiedBy>
  <dcterms:modified xsi:type="dcterms:W3CDTF">2019-05-24T20:27:2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