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C8C-7A8B-4629-A4BE-9EE2CBFC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BFC-10FC-4E86-8410-B8B06CA7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BD8-266F-4F97-8F91-AF3AA309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FEA-1B5C-4301-AEA3-D6B4AE3A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6D27-2B8C-4567-B2EF-8A29BB94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C6D2-5279-4D72-B5CB-F01AB7CE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DF0F-A137-43DF-96C5-E720EA9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A5B-8733-4C29-B8C2-69054E6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0461-A5AE-4D0B-8553-E5CBBC7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BFDA-70B7-46B7-B6F1-DBA7D4C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9428-33C0-4C29-A507-FE1F69A4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EB7-8008-4240-A31B-B806C7C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B63-520E-452F-B8AE-E2FBDF7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672-C909-4290-8D09-E5DCFE1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35BC-D1B4-492D-8E0E-E8208DC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AC27-8701-42A6-B47A-83C1E351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7152-7B1C-4A20-8852-78DE4204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092-0283-4DAD-8B50-8A954F6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A98-1D03-4A29-A01E-AB621A5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1A2-C3D8-4342-984D-514750D0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243-22E8-4960-9BF8-53FA82E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7F0-A253-4C37-989B-552ED46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00E-02AA-41AA-AA3C-ACD01AF9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AB6-B588-4FCD-858E-2979AAF4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 rtl="1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83D1A24-5980-4C5E-A2E1-56F917EA47E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 algn="r" rtl="1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44C444C-BB4D-4558-93D6-9303C4D7CF5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ontent Placeholder 2"/>
          <p:cNvSpPr/>
          <p:nvPr/>
        </p:nvSpPr>
        <p:spPr>
          <a:xfrm>
            <a:off x="1371600" y="2853000"/>
            <a:ext cx="64004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algn="ctr" rtl="1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r>
              <a:rPr b="1" lang="en-US" sz="4800" spc="-1" strike="noStrike">
                <a:solidFill>
                  <a:srgbClr val="119f36"/>
                </a:solidFill>
                <a:latin typeface="Lucida Sans Unicode"/>
              </a:rPr>
              <a:t>Integration Using Trigonometric Ident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371600" y="1124640"/>
            <a:ext cx="640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6000" spc="-1" strike="noStrike" u="sng">
                <a:solidFill>
                  <a:srgbClr val="7030a0"/>
                </a:solidFill>
                <a:uFillTx/>
                <a:latin typeface="Lucida Sans Unicode"/>
              </a:rPr>
              <a:t>Lecture F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061000"/>
            <a:ext cx="8229240" cy="39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the integral invol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the integral invol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gt;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the integral involving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           &gt;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m and n are both odd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           &gt;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m or n is o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           &gt;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m and n are both even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2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3000"/>
          </a:bodyPr>
          <a:p>
            <a:pPr indent="0" rtl="1">
              <a:lnSpc>
                <a:spcPct val="100000"/>
              </a:lnSpc>
              <a:buNone/>
            </a:pPr>
            <a:br>
              <a:rPr sz="4400"/>
            </a:br>
            <a:r>
              <a:rPr b="1" lang="en-US" sz="4400" spc="-1" strike="noStrike">
                <a:solidFill>
                  <a:srgbClr val="119f36"/>
                </a:solidFill>
                <a:latin typeface="Lucida Sans Unicode"/>
              </a:rPr>
              <a:t>Integration Using Trigonometric Identities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5148000" y="2061000"/>
            <a:ext cx="3511080" cy="50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148000" y="2637000"/>
            <a:ext cx="3447000" cy="4478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5292000" y="2997000"/>
            <a:ext cx="27360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the integral involving product of sine and cosine with different angles and equal pow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gt;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the integral involving product of sine and cosine with equal angles and equal power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gt;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the integral involving product of sine and cosine with different angles and different pow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19f36"/>
                </a:solidFill>
                <a:latin typeface="Lucida Sans Unicode"/>
              </a:rPr>
              <a:t>Integration Using Trigonometric Identities(Cont.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5</TotalTime>
  <Application>LibreOffice/7.4.7.2$Linux_X86_64 LibreOffice_project/40$Build-2</Application>
  <AppVersion>15.0000</AppVersion>
  <Words>101</Words>
  <Paragraphs>17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4T20:19:10Z</dcterms:created>
  <dc:creator>Maher</dc:creator>
  <dc:description/>
  <dc:language>en-US</dc:language>
  <cp:lastModifiedBy>Maher</cp:lastModifiedBy>
  <dcterms:modified xsi:type="dcterms:W3CDTF">2019-05-24T20:45:0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