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35F-3DD7-4614-8EB9-F903B7EB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CA4-F52E-4A40-AA5D-2EBB7091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324-3F65-44F4-B753-476BEAF6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FFE-D424-4856-8CEF-E507B1D4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CD6A3-6446-4EB5-A47B-B3E22903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6D084-917B-4B93-AA38-46C27F53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FEE56-47B1-49AE-869E-0ACEFB2F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02116-BE20-47BA-BCE9-313EE7A2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36E0E-89F1-4F98-8741-8CF3D61E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0C1BE-3D91-431F-B9F9-F45741B9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14BB4-D360-4EBC-8735-5C64A631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465-02DB-4A6B-B924-7618A054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8ADF7-523B-47B8-8A75-52508712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0A097-6343-4745-8788-787A68AF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7D3D9-4215-4A4F-8D2F-AA333869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3397D-F1FB-4D81-ABCF-9CB537F3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61F12-C16B-44FA-A72A-8D733FB9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A7D-FC31-4578-903A-D546B6D0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43D-A349-4989-AE99-2E4894E0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95C-2A77-44A2-B1F3-F79D1D5B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8B9-2A67-48E8-B8C2-C4A10C68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AFA-8C07-4702-8DD3-7042C981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C9D-B3D4-4751-8B26-802FE592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398-426E-4136-B0DD-749F96A4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7C885EA0-13EF-49C4-8AA4-8FD68F518CF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73D9C236-5019-45BF-8F4A-0F14BB8F30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Lecture Five</a:t>
            </a: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Characteristic roots  &amp;  characteristic vectors of a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haracteristic roots of the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×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matrix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re the solutions of the following determinant equa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aplace expans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used to write the characteristic polynomial 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nce 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is the sum of all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×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principal  minor determinant, th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744640" y="1700640"/>
            <a:ext cx="189900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539640" y="3759120"/>
            <a:ext cx="82357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755640" y="4941000"/>
            <a:ext cx="2718000" cy="50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4657680" y="4869000"/>
            <a:ext cx="10659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ociated with every characteristic roo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atent ,  eigen,   prop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: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of the squre matrix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is  a characteristic vector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whose elements satisfy the homogeneous system of equation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188720" y="2637000"/>
            <a:ext cx="1955520" cy="49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1242720" y="3532680"/>
            <a:ext cx="1935360" cy="47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1291680" y="4653000"/>
            <a:ext cx="1543320" cy="5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Properties of Characteristic Roots and Characteristic Vector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characteristic roots of a positive definite symmetric matrix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are all positiv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 &gt; 0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, i.e.; there are 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n-zero  characteristic root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characteristic roots of a positive semi-definite symmetric matrix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are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 ≥ 0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, i.e.; 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non-zero characteristic roots and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n-p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zer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any positive definite symmetric matrix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, the characteristic roots of 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Century Schoolbook"/>
              </a:rPr>
              <a:t>-1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are the reciprocal of characteristic roots of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we have the matrix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, 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is a positive integer) then,  it has the same characteristic vectors of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, i.e.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s  the characteristic root of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, where is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is the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en-US" sz="21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characteristic root of (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. 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971640" y="1196640"/>
            <a:ext cx="1287720" cy="82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060000" y="1196640"/>
            <a:ext cx="1449720" cy="732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6764760" y="5115600"/>
            <a:ext cx="543240" cy="9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very real symmetric matrix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, there exists an orthogonal matrix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such that: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 = P'A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: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is the diagonal matrix of the characteristic roots of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normalized characteristic vectors of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can be taken as the columns of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, such that: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'P=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y real quadratic form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Q.F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can be reduced to a weighted sum of squares by computing the characteristic roots and vectors of its matrix, such that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'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'P'AP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by using the orthogonal transformation :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x=Py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is: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x'Ax = y'Dy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…+ 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640" y="548640"/>
            <a:ext cx="8229240" cy="55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here is: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are the characteristic roots of the coefficient matrix.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r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is the rank  of the form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6040" indent="-2660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characteristic roots of an idempotent matrix 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AA = A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 are either zeros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 or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 ones and a quadratic form with such a matrix can be reduced to a sum of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r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) squared term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6040" indent="-2660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 be the matrix whose columns are th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 independent characteristic vectors of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 then: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B =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AC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 the diagonal matrix with characteristic roots of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. i.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non-singular (full rank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288160" y="3645000"/>
            <a:ext cx="2419200" cy="15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78280" indent="-278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≠ λ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for a symmetric matrix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, their corresponding vecto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&amp;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orthogon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8280" indent="-278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is orthogonal matrix , then all of its characteristic roots have absolute value of 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 i.e.   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±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8280" indent="-278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&gt; 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then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'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s  positive definite and if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≥ 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, the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'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s positive semi defini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8280" indent="-278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haracteristic roots  of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are identical to the characteristic roots of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, i.e.,    r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= r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  , as well as: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r(AB) = tr(BA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Furthermore;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tr(ABC) = tr(BC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8280" indent="-278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f the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Q.F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to be maximum then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must be the greater characteristic root of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x is associated vector.  Similarly , if the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Q.F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to be minimum then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λ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st be the minimum characteristic root of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9</TotalTime>
  <Application>LibreOffice/7.4.7.2$Linux_X86_64 LibreOffice_project/40$Build-2</Application>
  <AppVersion>15.0000</AppVersion>
  <Words>571</Words>
  <Paragraphs>40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09:26:17Z</dcterms:created>
  <dc:creator>DR.Ahmed Saker</dc:creator>
  <dc:description/>
  <dc:language>en-US</dc:language>
  <cp:lastModifiedBy>DR.Ahmed Saker</cp:lastModifiedBy>
  <dcterms:modified xsi:type="dcterms:W3CDTF">2019-05-11T14:30:53Z</dcterms:modified>
  <cp:revision>4</cp:revision>
  <dc:subject/>
  <dc:title>Lecture Fiv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