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D75-9465-4752-A32F-E385A516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B58-FC20-4F30-99C3-03137B9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8F7-5F51-4E3C-BCF6-CD52F367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6DA-73E8-437D-90EF-4BD54F6D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7B2-0C17-4561-9AB7-59E31A1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0D4-44EF-4970-BD91-C4CA913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85E-18C2-4D96-8411-201C77F3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C9A-B151-4B21-993D-A3B1EC5F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CA0-4A1A-4A8C-8E05-63FA0049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013-130C-4BC4-AE47-7E5C2DF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047-5CB3-41FB-81D8-E1F5655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E38-8BAA-4F8C-9DDB-3C7749A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C23EBE0-F9C5-4A72-BF7B-377B0291CD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43640" y="2853000"/>
            <a:ext cx="7128360" cy="17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55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119f36"/>
                </a:solidFill>
                <a:latin typeface="Lucida Sans Unicode"/>
              </a:rPr>
              <a:t>Methods of Integration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Lucida Sans Unicode"/>
              </a:rPr>
              <a:t>Lecture Six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eps of integration by part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lit the integration into two parts, one of which we denoted it u and the other is dv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erentiate u and integrate dv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y the formula:.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No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This method can be repeated more than once on the same ques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by Par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2555640" y="3933000"/>
          <a:ext cx="3750480" cy="877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5640" y="3933000"/>
                    <a:ext cx="37504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7640" y="141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 integration by parts method in the next four c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1.  Integration of logarithmic functions when the derivative not avail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2.  Integration of Inverse Trigonometric functions when the derivative not availab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3.  Integration of two multiplied functions, one of them not derivative to the 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4.  Integration of some trigonometric functions raised to a certain po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by Parts (Cont.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mathematics, trigonometric substitution is replacing term or mathematical expression with a trigonometric function by using trigonometric identities, usually to simplify integrals containing radical express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using Trigonometric substitu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4000"/>
          </a:bodyPr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B1. If the integral contains the expression  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i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 – x</a:t>
            </a:r>
            <a:r>
              <a:rPr b="1" i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suppose 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x= a sin z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then use the identity</a:t>
            </a:r>
            <a:r>
              <a:rPr b="0" i="1" lang="en-US" sz="9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=1- sin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B2. If the integral contains the expression  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suppose 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x= a tan z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then use the identity</a:t>
            </a:r>
            <a:r>
              <a:rPr b="0" i="1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sec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 =tan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 +1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B3. If the integral contains the expression  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i="1" lang="en-US" sz="96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- a</a:t>
            </a:r>
            <a:r>
              <a:rPr b="1" i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i="1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suppose 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x= a sec z 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, then use the identity</a:t>
            </a:r>
            <a:r>
              <a:rPr b="0" lang="en-US" sz="9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tan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= sec</a:t>
            </a:r>
            <a:r>
              <a:rPr b="1" lang="en-US" sz="96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 x -1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0" rtl="1">
              <a:lnSpc>
                <a:spcPct val="17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using Trigonometric Substitution  (Cont.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                rational function and p(x) polynomial with degree less than degree of the polynomial q(x),  we factorized the denominator q(x)  to linear factors or quadratic facto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using Partial Fraction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1907640" y="1845000"/>
          <a:ext cx="1367640" cy="9313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7640" y="1845000"/>
                    <a:ext cx="1367640" cy="9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0040" indent="0" rtl="1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                 must not be factorized further, and  A, B, C are constants must be evaluat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Integration using Partial Fractions</a:t>
            </a:r>
            <a:br>
              <a:rPr sz="4100"/>
            </a:br>
            <a:r>
              <a:rPr b="1" lang="en-US" sz="4100" spc="-1" strike="noStrike" u="sng">
                <a:solidFill>
                  <a:srgbClr val="92d050"/>
                </a:solidFill>
                <a:uFillTx/>
                <a:latin typeface="Lucida Sans Unicode"/>
              </a:rPr>
              <a:t>(Cont.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755640" y="1556640"/>
          <a:ext cx="3988440" cy="86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6640"/>
                    <a:ext cx="3988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827640" y="2637000"/>
          <a:ext cx="4896360" cy="932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640" y="2637000"/>
                    <a:ext cx="4896360" cy="9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"/>
          <p:cNvGraphicFramePr/>
          <p:nvPr/>
        </p:nvGraphicFramePr>
        <p:xfrm>
          <a:off x="899640" y="3645000"/>
          <a:ext cx="6001920" cy="8888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9640" y="3645000"/>
                    <a:ext cx="60019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1619640" y="4725000"/>
          <a:ext cx="1592640" cy="431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640" y="4725000"/>
                    <a:ext cx="1592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7</TotalTime>
  <Application>LibreOffice/7.4.7.2$Linux_X86_64 LibreOffice_project/40$Build-2</Application>
  <AppVersion>15.0000</AppVersion>
  <Words>308</Words>
  <Paragraphs>44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20:46:44Z</dcterms:created>
  <dc:creator>Maher</dc:creator>
  <dc:description/>
  <dc:language>en-US</dc:language>
  <cp:lastModifiedBy>Maher</cp:lastModifiedBy>
  <dcterms:modified xsi:type="dcterms:W3CDTF">2019-05-24T21:43:48Z</dcterms:modified>
  <cp:revision>4</cp:revision>
  <dc:subject/>
  <dc:title>Lecture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