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01A-67BF-4771-97E3-94D55511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41A-FC8F-4876-886E-6AE503FA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C0E-DBCB-4D05-82EA-68039F64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78A-E2DD-4756-B120-4BA65D18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0493A-A1A2-4693-B4CF-8E928B6D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389BD-2957-4D44-8C84-A22D8799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DFD3D-EFD9-4869-A211-F030C374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5C73A-FA38-4813-A81B-5D743564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6FAAE-A50D-421A-8902-C00CA5A0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1CEFA-9350-48F4-A3C6-138C570B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1FEAF-000F-44DD-8648-D1EE61A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7D2-82EE-4173-96E3-F5E567EF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1EA72-A214-4A32-A9D0-7261AA7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D3F2B-606F-4216-94B9-34B82A8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5C2CF-9726-425F-8149-3D2DD27F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C88B2-655C-45A8-87B9-8A9CBC1C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DAB91-C3BC-43C7-A17C-2B65FB43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E05-EF03-4FE5-99B0-2F383D42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98B-150B-4F31-B11A-D0D0F92F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913-6E31-40C4-8ED0-DFC3677E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CEC-011E-4479-998F-C34AC1CC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FC8-4258-448D-86CD-45C14CB6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0B9-6C22-4D7A-B5E8-C4A67E5A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C9E-5D25-42F9-97CC-4122F678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4B0442E0-9431-4CA4-BA53-361353C594D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3601DFB5-4E56-4670-86A6-1718EB4367D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Lecture Six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Partitioned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 we can write Matrix A  as partitioned matrices as follow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the matrices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nsist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of rows  and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of  columns, in order that all partitioned matrices at a certain row of matrix A have to contain the same number of rows. Also, all partitioned matrices at a certain column of matrix A have to contain the same number of colum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3520" indent="-2635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Sum of Partitioned Matr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we have two matrices A &amp; B , which are partitioned in such a way that sub-matrices have similar dimen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627640" y="980640"/>
            <a:ext cx="377244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Product of Partitioned Matric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we have two matrices A &amp; B , which are partitioned in such a way that sub-matrices have convenient dimens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n, the main goal is how to partition two matrices A &amp; B adequately to get proper multiplic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23640" y="3579120"/>
            <a:ext cx="8460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eterminant of Partitioned Matr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ppose we partition the matrix 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as follow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&amp;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re both square and non-singular. It is necessary to comput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 is non-singular , the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338200" y="1340640"/>
            <a:ext cx="1945440" cy="93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924000" y="2637000"/>
            <a:ext cx="536400" cy="707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078920" y="4221000"/>
            <a:ext cx="581508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9264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nverse of Partitioned Matr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ppose we partition the matrix 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as follow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&amp;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are both square and non-singular, then the elements of the inverse are given b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699640" y="1628640"/>
            <a:ext cx="1887840" cy="93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123640" y="3501000"/>
            <a:ext cx="4959720" cy="88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1907640" y="5013000"/>
            <a:ext cx="2538000" cy="5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14</TotalTime>
  <Application>LibreOffice/7.4.7.2$Linux_X86_64 LibreOffice_project/40$Build-2</Application>
  <AppVersion>15.0000</AppVersion>
  <Words>223</Words>
  <Paragraphs>38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0T09:58:42Z</dcterms:created>
  <dc:creator>DR.Ahmed Saker</dc:creator>
  <dc:description/>
  <dc:language>en-US</dc:language>
  <cp:lastModifiedBy>DR.Ahmed Saker</cp:lastModifiedBy>
  <dcterms:modified xsi:type="dcterms:W3CDTF">2019-05-11T14:32:13Z</dcterms:modified>
  <cp:revision>3</cp:revision>
  <dc:subject/>
  <dc:title>Lecture Si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