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C03-575F-4AD0-8C89-DE15C77C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29E-1FC9-431E-9D70-77C65D55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C955-7C45-4433-84B7-966D1CB2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17E8-5E88-4C21-9488-CB9E78B9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7737-876D-4093-9329-07B36684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A1FF-4203-48CA-B735-76359AD2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85E8-F704-41BE-8277-B0D2B37E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55F5-3E57-4923-92E9-9E4101A6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F9D8-37D4-4938-9D57-BD9599A5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A3DB-D9E3-41AA-AA22-1B5152A9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8070-47CA-4A08-8EEE-4CAC5CD2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8EF4-C835-4EC8-BF29-793BE7D7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1E81-F39A-435A-9958-1EC8B714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3CAA-BF53-40CD-B095-4D2745B8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25EE-32CA-4FEF-B85F-C6C3956A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9464-7BB4-4E3A-B585-EFE6A17F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95D0-29AE-47A2-AFD8-AF02B9F65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B804-F708-45B7-9215-1D02D47E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BE4B-33CB-4AA3-A335-FB4FA88B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B8B-61F8-43BD-BE7A-15046C2A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E87-A24F-44C0-B3A8-FB85A343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A653-6842-4BAC-8DB3-54D8A1B7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F01-9F4C-4843-A9AA-7B83577E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DF2D-97D1-40B8-B3BE-6A7556DE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Right Triangle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Right Triangle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Group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Freeform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Freeform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 rtl="1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Straight Connector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AE4A411C-851C-4C0B-ADF2-6148E6B500D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Freeform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Right Triangle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 algn="r" rtl="1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 algn="r" rtl="1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B2199D5F-2F2F-40AE-BEDD-BB2B66AD52F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Content Placeholder 2"/>
          <p:cNvSpPr/>
          <p:nvPr/>
        </p:nvSpPr>
        <p:spPr>
          <a:xfrm>
            <a:off x="1043640" y="2853000"/>
            <a:ext cx="71283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 rtl="1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961"/>
              </a:spcBef>
              <a:tabLst>
                <a:tab algn="l" pos="0"/>
              </a:tabLst>
            </a:pPr>
            <a:r>
              <a:rPr b="1" lang="en-US" sz="4800" spc="-1" strike="noStrike">
                <a:solidFill>
                  <a:srgbClr val="92d050"/>
                </a:solidFill>
                <a:latin typeface="Lucida Sans Unicode"/>
              </a:rPr>
              <a:t>Definite Integr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le 1"/>
          <p:cNvSpPr/>
          <p:nvPr/>
        </p:nvSpPr>
        <p:spPr>
          <a:xfrm>
            <a:off x="1371600" y="1124640"/>
            <a:ext cx="6400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en-US" sz="6000" spc="-1" strike="noStrike" u="sng">
                <a:solidFill>
                  <a:srgbClr val="7030a0"/>
                </a:solidFill>
                <a:uFillTx/>
                <a:latin typeface="Lucida Sans Unicode"/>
              </a:rPr>
              <a:t>Lecture Sev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268640"/>
            <a:ext cx="8229240" cy="47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rtl="1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called                the definite integral of 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from  a  to  b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119f36"/>
                </a:solidFill>
                <a:uFillTx/>
                <a:latin typeface="Times New Roman"/>
                <a:ea typeface="Times New Roman"/>
              </a:rPr>
              <a:t>Definition of Definite Integra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2843640" y="1556640"/>
            <a:ext cx="1295640" cy="1082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2339640" y="2853000"/>
            <a:ext cx="5406120" cy="11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perti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2000"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119f36"/>
                </a:solidFill>
                <a:uFillTx/>
                <a:latin typeface="Times New Roman"/>
                <a:ea typeface="Times New Roman"/>
              </a:rPr>
              <a:t>Definition of Definite Integral (Cont.)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827640" y="2061000"/>
            <a:ext cx="2623680" cy="10738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827640" y="3213000"/>
            <a:ext cx="4210920" cy="1125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3"/>
          <a:stretch/>
        </p:blipFill>
        <p:spPr>
          <a:xfrm>
            <a:off x="755640" y="4509000"/>
            <a:ext cx="777636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37</TotalTime>
  <Application>LibreOffice/7.4.7.2$Linux_X86_64 LibreOffice_project/40$Build-2</Application>
  <AppVersion>15.0000</AppVersion>
  <Words>33</Words>
  <Paragraphs>12</Paragraphs>
  <Company>SAC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4T21:44:44Z</dcterms:created>
  <dc:creator>Maher</dc:creator>
  <dc:description/>
  <dc:language>en-US</dc:language>
  <cp:lastModifiedBy>Maher</cp:lastModifiedBy>
  <dcterms:modified xsi:type="dcterms:W3CDTF">2019-05-24T22:22:32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</vt:r8>
  </property>
</Properties>
</file>