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ACF-5CB5-4315-92CE-1F41109E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F513-8F27-4ADB-BE80-61505C44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94B6-5C6B-4F98-93D6-B2F9BE88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69A-257E-4BD1-9B7B-1F7BBA7E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0C1FD-9BA2-4C4A-AC55-EBFDEF4E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75194-8E9B-40F8-A588-13DA9A78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81952-6B96-4031-9BEC-497EA014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174C9-717A-4939-A7AA-95065E6C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79DB7-23C8-43EF-AA8B-F3753FD8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57080-58C7-45BE-8542-ADAA5B72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FDA6B-71EC-4809-9081-D17DD471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97B-EAB9-4102-97D7-3EA6EF9C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85FDF-BD24-4B38-9E02-0BD6AF3A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480DE-9B3C-46B2-9121-F26F57C4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7C48E-DCCB-465C-996F-92FDF07F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C5807-38A4-4375-8B81-1E1740C1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53B90-3E36-41E1-82EC-F913E708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8FC5-2F5F-4510-B7F8-4AE2A93D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F08-376A-4994-B63A-01D87583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B49-20A7-4A5B-BA80-99BE7D0A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8DEB-B778-4B9D-8ECC-F45037FF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89F-90C3-4406-BD3C-D07BC15B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244-A9DC-4522-8A4E-514626AA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DBF9-CF46-4E9C-B78E-0A2B745B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Rectangle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Oval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rgbClr val="575f6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Rectangle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Straight Connector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Straight Connector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Straight Connector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Straight Connector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Straight Connector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Straight Connector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Rectangle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Oval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Oval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Oval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D710483E-E90D-48CF-B773-77D48A8181D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575f6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cond lev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r" rtl="1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 algn="r" rtl="1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 algn="r" rtl="1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12030F6E-57BB-4B5E-8072-84D30586A24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Lecture Seve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86000" y="5003280"/>
            <a:ext cx="617184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Schoolbook"/>
              </a:rPr>
              <a:t>Differentiation with Vectors and Mat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240" cy="55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vector of partial derivatives i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f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is    constant  for all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;  the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411640" y="1214280"/>
            <a:ext cx="1598400" cy="199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2195640" y="3720960"/>
            <a:ext cx="2100960" cy="20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76640"/>
            <a:ext cx="8229240" cy="56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f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'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'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, the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627640" y="1412640"/>
            <a:ext cx="1804320" cy="172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2593080" y="3645000"/>
            <a:ext cx="1891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476640"/>
            <a:ext cx="8229240" cy="56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f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'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;  (A  is  symmetric) ;  the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is  not  symmetric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A≠A'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;  the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f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'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; 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is  identity) ;  the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195640" y="908640"/>
            <a:ext cx="1511640" cy="1011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1835640" y="2961720"/>
            <a:ext cx="2163240" cy="111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1763640" y="4293000"/>
            <a:ext cx="1560960" cy="11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u="sng" cap="small">
                <a:solidFill>
                  <a:srgbClr val="575f6d"/>
                </a:solidFill>
                <a:uFillTx/>
                <a:latin typeface="Century Schoolbook"/>
              </a:rPr>
              <a:t>Jacobi Matrix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represents the first derivative of some function with respect to x vecto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709280" y="2762280"/>
            <a:ext cx="40150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u="sng" cap="small">
                <a:solidFill>
                  <a:srgbClr val="575f6d"/>
                </a:solidFill>
                <a:uFillTx/>
                <a:latin typeface="Century Schoolbook"/>
              </a:rPr>
              <a:t>Hessian Matrix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represents the second derivative of some function with respect to x' and x vectors respectively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763640" y="3069000"/>
            <a:ext cx="4870440" cy="25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el">
  <a:themeElements>
    <a:clrScheme name="Oriel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el">
  <a:themeElements>
    <a:clrScheme name="Oriel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9</TotalTime>
  <Application>LibreOffice/7.4.7.2$Linux_X86_64 LibreOffice_project/40$Build-2</Application>
  <AppVersion>15.0000</AppVersion>
  <Words>113</Words>
  <Paragraphs>25</Paragraphs>
  <Company>Microsoft (C)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0T10:12:33Z</dcterms:created>
  <dc:creator>DR.Ahmed Saker</dc:creator>
  <dc:description/>
  <dc:language>en-US</dc:language>
  <cp:lastModifiedBy>DR.Ahmed Saker</cp:lastModifiedBy>
  <dcterms:modified xsi:type="dcterms:W3CDTF">2019-05-11T14:33:00Z</dcterms:modified>
  <cp:revision>3</cp:revision>
  <dc:subject/>
  <dc:title>Lecture Sev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6</vt:r8>
  </property>
</Properties>
</file>