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38D-A3C1-48D3-BF5D-68C4C06C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CED-078C-451D-8D15-228A9633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623-D845-4D0E-8D5C-621E9B85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5CB-C53A-4C6D-964F-C6B92F2C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1148E-FA42-432C-B925-5154F809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BCA6-C720-4935-B5E9-C86693A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C3F5C-99EA-4380-A87E-6E8E57D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FD40E-ECFF-4F35-B0CE-34B998D7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835C9-E4D5-4B8E-B1E6-09FCEA6B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ADF43-2424-4331-AEE6-F65B96A1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D11F0-DAAF-4BAC-B5D6-FBE0D54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13C-D00D-47F3-A80A-4F117E9C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48F09-0C17-4682-957F-EC17217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E601D-CF26-4941-A7E4-D0DDE1B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B768A-6BD8-4D96-85E9-A01BC093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BCDEF-E43B-4163-841F-9F8E6E87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44DBA-C589-4397-B9A1-915EDCBE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358-EE66-4050-97D3-2B216BA5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EB6-1A1D-4FFF-8006-ABE7F00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3D5-D703-488A-B53B-3900C740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730-0B87-42FE-B054-8FD198FE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B04-4564-447B-85AE-EDA5AE0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155-90F3-4849-86D8-7411520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748-E0D3-482F-B897-A73418B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D3550369-AD8B-4B03-A169-63F1BA7BEDD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987706D9-52EC-46C9-891F-EE2D7EDEC95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Lecture Eigh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Determination of Maxima and Minima Maximization (Q.F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dratic form can be represented as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maximizing / (minimizing) some functio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ubjected a constrain: g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  on values of x and for more general method is that of "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agrange Multipli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907640" y="1268640"/>
            <a:ext cx="2733120" cy="9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om a new func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547640" y="1268640"/>
            <a:ext cx="4041360" cy="55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547640" y="2133000"/>
            <a:ext cx="2973600" cy="79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1547640" y="3242520"/>
            <a:ext cx="1656000" cy="943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1691640" y="4509000"/>
            <a:ext cx="2180520" cy="57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5"/>
          <a:stretch/>
        </p:blipFill>
        <p:spPr>
          <a:xfrm>
            <a:off x="1547640" y="5129640"/>
            <a:ext cx="5328360" cy="5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u="sng" cap="small">
                <a:solidFill>
                  <a:srgbClr val="575f6d"/>
                </a:solidFill>
                <a:uFillTx/>
                <a:latin typeface="Century Schoolbook"/>
              </a:rPr>
              <a:t>Not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the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Q.F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to be maximum then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must be the greater characteristic root of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nd x is associated vector.  Similarly , if the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Q.F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to be minimum then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λ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ust be the minimum characteristic root of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a special case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780000" y="2637000"/>
            <a:ext cx="275544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83640" y="3933000"/>
            <a:ext cx="3066480" cy="21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</TotalTime>
  <Application>LibreOffice/7.4.7.2$Linux_X86_64 LibreOffice_project/40$Build-2</Application>
  <AppVersion>15.0000</AppVersion>
  <Words>109</Words>
  <Paragraphs>19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10:22:49Z</dcterms:created>
  <dc:creator>DR.Ahmed Saker</dc:creator>
  <dc:description/>
  <dc:language>en-US</dc:language>
  <cp:lastModifiedBy>DR.Ahmed Saker</cp:lastModifiedBy>
  <dcterms:modified xsi:type="dcterms:W3CDTF">2019-05-11T14:33:21Z</dcterms:modified>
  <cp:revision>3</cp:revision>
  <dc:subject/>
  <dc:title>Lecture E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