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2F5-F6D3-4032-B3CA-E0987E4B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911-E796-49D1-8B4B-D234ED8C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B86-7162-4497-AE37-D9A9F15B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FC7-988B-4C61-9A64-5316CAF4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EB75F-B3F0-4C74-AE16-ADB823C5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06482-8CCC-427B-B572-A121988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B7E6F-DB9A-4706-A52A-CFA8F371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7305A-D499-47E3-9EFB-ED58E5F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1DD8F-4768-4227-BF1E-5903C24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16389-7BAE-4312-BAF0-1CAA1713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5F27E-5BAF-4592-ADCB-85A9D25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7E0-9A7E-4D58-AEBE-B323FBE0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FF3F-3CA7-4855-B3F7-BFC5137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ACD37-6AEC-4EB4-8B5A-1880412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73726-8E41-402F-AF8A-DEEB0E2D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D2379-20ED-443C-AF68-BF79EE71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86D0-EB2E-4082-B06B-B904236D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28F-CAF5-4F5E-816B-254C7B7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7BA-77A3-47E0-B88F-074D2634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D94-0B56-45DB-AB12-1B35FDB8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EC6-4E46-4F97-B652-F1E97B4C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794-E764-4098-A9F9-FDDFBCA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050-DE23-4BA7-BB18-BFC6A7A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DE1-70F1-4AB8-8842-29BA05BB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AC22C3D2-3811-4BAE-AD79-FDC0C945AB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AB9CD104-8605-4074-8D1C-4434000B05E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Lecture Ni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Multivariate Normal Distribution (MV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~ N(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σ), then the probability density function is defined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ting:                          are independent identical distributed with normal distribution, then the joint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ll be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843640" y="620640"/>
            <a:ext cx="3052800" cy="79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1979640" y="1196640"/>
            <a:ext cx="1911960" cy="52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716000" y="2133000"/>
            <a:ext cx="1295640" cy="55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1187640" y="2925000"/>
            <a:ext cx="6355440" cy="876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1115640" y="4005000"/>
            <a:ext cx="6386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240" cy="55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For more general case of the above the random vect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ll distribute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id to have a multivariate normal distribution with mean vector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and variance-covariance  matrix (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31640" y="1917000"/>
            <a:ext cx="6619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41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4100" spc="-1" strike="noStrike">
                <a:solidFill>
                  <a:srgbClr val="000000"/>
                </a:solidFill>
                <a:latin typeface="Century Schoolbook"/>
              </a:rPr>
              <a:t> ~ N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41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4100" spc="-1" strike="noStrike" u="sng">
                <a:solidFill>
                  <a:srgbClr val="000000"/>
                </a:solidFill>
                <a:uFillTx/>
                <a:latin typeface="Century Schoolbook"/>
              </a:rPr>
              <a:t>μ</a:t>
            </a:r>
            <a:r>
              <a:rPr b="0" lang="en-US" sz="4100" spc="-1" strike="noStrike">
                <a:solidFill>
                  <a:srgbClr val="000000"/>
                </a:solidFill>
                <a:latin typeface="Century Schoolbook"/>
              </a:rPr>
              <a:t> , Σ)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Σ  is   symmetric matrix  (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 and   positive definite,  non-singular  matrix,     (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 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695320" y="1556640"/>
            <a:ext cx="2812320" cy="151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435320" y="3240720"/>
            <a:ext cx="4865040" cy="1339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4716000" y="5501880"/>
            <a:ext cx="2203920" cy="4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u="sng" cap="small">
                <a:solidFill>
                  <a:srgbClr val="575f6d"/>
                </a:solidFill>
                <a:uFillTx/>
                <a:latin typeface="Century Schoolbook"/>
              </a:rPr>
              <a:t>Some properties of the mean and variance for a vector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    a, b, c and  d  are constants 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are  vectors  , A &amp; B are matri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E(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a·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E(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± 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a·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± b·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'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'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-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5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v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Var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6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Var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±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Var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7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v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Cov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8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v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±a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±b) = Cov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9-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0-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v(c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d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cd Cov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880560" y="551160"/>
          <a:ext cx="7939440" cy="10771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560" y="551160"/>
                    <a:ext cx="7939440" cy="10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4457520" y="782280"/>
            <a:ext cx="2282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1043640" y="3357000"/>
            <a:ext cx="2700000" cy="64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1115640" y="4437000"/>
            <a:ext cx="367956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1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3-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A  is (p×n) with all elements are constants, then:    Var(A) = A Var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'  =  AΣA‘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4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5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f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&amp;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are independent, th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v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0 , but  ingeneral  the converse is not true  →  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1227960" y="564120"/>
            <a:ext cx="4567680" cy="56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2"/>
          <a:stretch/>
        </p:blipFill>
        <p:spPr>
          <a:xfrm>
            <a:off x="1276920" y="1052640"/>
            <a:ext cx="4663080" cy="529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3"/>
          <a:stretch/>
        </p:blipFill>
        <p:spPr>
          <a:xfrm>
            <a:off x="1403640" y="2205000"/>
            <a:ext cx="5937840" cy="8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6-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Σ is the covariance matrix  and   is the correlation matrix (p.d.) then they are related a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  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is the standard deviations of the vari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547640" y="1917000"/>
            <a:ext cx="2158560" cy="79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4140000" y="2083680"/>
            <a:ext cx="2810880" cy="57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1331640" y="2955600"/>
            <a:ext cx="2423880" cy="140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4716000" y="3013920"/>
            <a:ext cx="24552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- If we standardize each variates b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n the density  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is given b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ρ:  is (p.d.) correlation  matri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907640" y="980640"/>
            <a:ext cx="1511640" cy="95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365840" y="2421000"/>
            <a:ext cx="442008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7</TotalTime>
  <Application>LibreOffice/7.4.7.2$Linux_X86_64 LibreOffice_project/40$Build-2</Application>
  <AppVersion>15.0000</AppVersion>
  <Words>333</Words>
  <Paragraphs>69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10:30:33Z</dcterms:created>
  <dc:creator>DR.Ahmed Saker</dc:creator>
  <dc:description/>
  <dc:language>en-US</dc:language>
  <cp:lastModifiedBy>DR.Ahmed Saker</cp:lastModifiedBy>
  <dcterms:modified xsi:type="dcterms:W3CDTF">2019-05-11T14:35:46Z</dcterms:modified>
  <cp:revision>11</cp:revision>
  <dc:subject/>
  <dc:title>Lecture N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