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12192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F9849-792D-463A-B8C2-15FA9D457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CD51E-3FC5-48F3-9F92-300D95C25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053FD-C309-4C86-906F-3E0C260B9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ABE2E-B6D9-4DE8-95CD-307CB701E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4B603-BD29-4AD5-B80D-D9F6BE087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13FF8-DEA6-49D3-8D4D-C3EDF5571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308C7-F32C-4588-8434-B0FA397D7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0128C-C22A-4196-9BD9-9D8B80DF2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4367F-A9F7-4C56-A886-6E619F677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24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A4D70-B9C4-4D4B-AA79-EF8AA36EE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93C8C-006D-406A-BD99-7CB65EBA6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1B7FF-5DDC-492F-A45F-3EFBF39FA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15E87-CDF3-480E-A322-3ECA3E262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0FE26-18BD-4217-986F-98977E53F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68DCA-48EC-4FE1-AEDA-852A8EE36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DA077-CA9B-426C-8991-EFBABBFF7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2C09C-C7D4-4BAA-8ABE-E4A34DD1A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5BA55-7B0E-4489-9606-274D17E95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B18BB-E691-40D8-AAF3-D8F95D154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0DC94-2F4B-48DB-BFBF-7951E7029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24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0F454-95BE-4AAA-BB45-D50B1559D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2CE63-E295-4ECE-9E0F-89B075460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5093A-8552-47E9-9A4B-A9D74ECCD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8D58C-8617-429F-8CBA-F9FA2CFD0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A2ACA60-A05C-4BC7-B348-9849A7EA0387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9659CDA-1A19-451F-93BE-A3E15A2CB9EE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11080" y="569880"/>
            <a:ext cx="10515240" cy="214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6000"/>
          </a:bodyPr>
          <a:p>
            <a:pPr indent="0" algn="ctr">
              <a:lnSpc>
                <a:spcPct val="90000"/>
              </a:lnSpc>
              <a:buNone/>
            </a:pPr>
            <a:r>
              <a:rPr b="1" lang="ar-IQ" sz="8000" spc="-1" strike="noStrike">
                <a:solidFill>
                  <a:srgbClr val="000000"/>
                </a:solidFill>
                <a:latin typeface="Calibri Light"/>
              </a:rPr>
              <a:t>أنواع خطابات الضمان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Rectangle 2"/>
          <p:cNvSpPr/>
          <p:nvPr/>
        </p:nvSpPr>
        <p:spPr>
          <a:xfrm>
            <a:off x="1351080" y="2715840"/>
            <a:ext cx="9974880" cy="17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 rtl="1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r-SA" sz="3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صنف خطابات الضمان الصادرة على أساس الغرض من اصدارها </a:t>
            </a:r>
            <a:r>
              <a:rPr b="0" lang="ar-IQ" sz="3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، وعلى أساس محاسبي كما في الشكل الآتي 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30" descr=""/>
          <p:cNvPicPr/>
          <p:nvPr/>
        </p:nvPicPr>
        <p:blipFill>
          <a:blip r:embed="rId1"/>
          <a:stretch/>
        </p:blipFill>
        <p:spPr>
          <a:xfrm>
            <a:off x="1405800" y="381600"/>
            <a:ext cx="8461080" cy="5502240"/>
          </a:xfrm>
          <a:prstGeom prst="rect">
            <a:avLst/>
          </a:prstGeom>
          <a:ln w="0">
            <a:noFill/>
          </a:ln>
        </p:spPr>
      </p:pic>
      <p:sp>
        <p:nvSpPr>
          <p:cNvPr id="85" name="AutoShape 26"/>
          <p:cNvSpPr/>
          <p:nvPr/>
        </p:nvSpPr>
        <p:spPr>
          <a:xfrm>
            <a:off x="2074320" y="473040"/>
            <a:ext cx="5936400" cy="977400"/>
          </a:xfrm>
          <a:prstGeom prst="horizontalScroll">
            <a:avLst>
              <a:gd name="adj" fmla="val 12500"/>
            </a:avLst>
          </a:prstGeom>
          <a:solidFill>
            <a:schemeClr val="tx2">
              <a:lumMod val="60000"/>
              <a:lumOff val="40000"/>
            </a:schemeClr>
          </a:solidFill>
          <a:ln w="3175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upright="1">
            <a:noAutofit/>
          </a:bodyPr>
          <a:p>
            <a:pPr algn="ctr" rtl="1">
              <a:lnSpc>
                <a:spcPct val="100000"/>
              </a:lnSpc>
            </a:pPr>
            <a:r>
              <a:rPr b="1" lang="ar-IQ" sz="3600" spc="-1" strike="noStrike">
                <a:solidFill>
                  <a:srgbClr val="ffff00"/>
                </a:solidFill>
                <a:latin typeface="Times New Roman"/>
                <a:cs typeface="Simplified Arabic"/>
              </a:rPr>
              <a:t>أنواع خطابات الضما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</a:pPr>
            <a:r>
              <a:rPr b="0" lang="en-US" sz="1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  <Words>25</Words>
  <Paragraphs>4</Paragraphs>
  <Company>rg-adguard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27T10:45:03Z</dcterms:created>
  <dc:creator>Admin</dc:creator>
  <dc:description/>
  <dc:language>en-US</dc:language>
  <cp:lastModifiedBy>Admin</cp:lastModifiedBy>
  <dcterms:modified xsi:type="dcterms:W3CDTF">2019-08-27T10:52:18Z</dcterms:modified>
  <cp:revision>1</cp:revision>
  <dc:subject/>
  <dc:title>أنواع خطابات الضمان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Widescreen</vt:lpwstr>
  </property>
  <property fmtid="{D5CDD505-2E9C-101B-9397-08002B2CF9AE}" pid="3" name="Slides">
    <vt:r8>2</vt:r8>
  </property>
</Properties>
</file>